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C6562F5E-0002-4632-9C7D-E0E2236F377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431040" y="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iscover KM Potential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erview Guideline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Is your department involved in cross-functional projects or projects with external parties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9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20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20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o all members of the teams/ projects mentioned above have sufficient access to upto date information and document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D. Collaboration &amp; Teamwork (6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at are your suggestions to improve collaboration and teamwork in the projects of your department/divis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24242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2000"/>
          </a:bodyPr>
          <a:p>
            <a:pPr marL="157320" indent="-52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your preferred search strategies (Keyword search, advanced search with AND/ OR connections, browsing through topic catalogues, asking collegues, placing questions in discussion boards,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7320" indent="-52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How much time do you spend on average every day on searching for informat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527040" y="3102120"/>
            <a:ext cx="7713360" cy="990360"/>
            <a:chOff x="527040" y="3102120"/>
            <a:chExt cx="7713360" cy="990360"/>
          </a:xfrm>
        </p:grpSpPr>
        <p:sp>
          <p:nvSpPr>
            <p:cNvPr id="218" name=""/>
            <p:cNvSpPr/>
            <p:nvPr/>
          </p:nvSpPr>
          <p:spPr>
            <a:xfrm>
              <a:off x="527040" y="3102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27040" y="3433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7040" y="3764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27040" y="409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223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27040" y="1241280"/>
            <a:ext cx="7713360" cy="990720"/>
            <a:chOff x="527040" y="1241280"/>
            <a:chExt cx="7713360" cy="990720"/>
          </a:xfrm>
        </p:grpSpPr>
        <p:sp>
          <p:nvSpPr>
            <p:cNvPr id="228" name=""/>
            <p:cNvSpPr/>
            <p:nvPr/>
          </p:nvSpPr>
          <p:spPr>
            <a:xfrm>
              <a:off x="527040" y="12412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7040" y="157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27040" y="19040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7040" y="2232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03040" y="3679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E. Searching and Finding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47037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at types of information are you typically searching for to fullfill your job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4920" y="24242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In which internal systems are you searching for information ?  List the systems in order of impor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List information types that are especially hard to find. What makes searching and finding so difficult in these case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7040" y="3102120"/>
            <a:ext cx="7713360" cy="990360"/>
            <a:chOff x="527040" y="3102120"/>
            <a:chExt cx="7713360" cy="990360"/>
          </a:xfrm>
        </p:grpSpPr>
        <p:sp>
          <p:nvSpPr>
            <p:cNvPr id="238" name=""/>
            <p:cNvSpPr/>
            <p:nvPr/>
          </p:nvSpPr>
          <p:spPr>
            <a:xfrm>
              <a:off x="527040" y="3102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7040" y="3433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7040" y="3764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7040" y="409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243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27040" y="1241280"/>
            <a:ext cx="7713360" cy="990720"/>
            <a:chOff x="527040" y="1241280"/>
            <a:chExt cx="7713360" cy="990720"/>
          </a:xfrm>
        </p:grpSpPr>
        <p:sp>
          <p:nvSpPr>
            <p:cNvPr id="248" name=""/>
            <p:cNvSpPr/>
            <p:nvPr/>
          </p:nvSpPr>
          <p:spPr>
            <a:xfrm>
              <a:off x="527040" y="12412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7040" y="1572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7040" y="19040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7040" y="2232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03040" y="3679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E. Searching and Finding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04920" y="47037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460692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What are your suggestions to improve the process of searching and finding the information that you need in your department/divisio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To which systems should your team members have acces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26528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Name the systems that mostly support the flow of information within and outside your division/depar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Which IT Systems, Tools are used in your division/department (short description of system)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259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264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269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3040" y="3679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D. IT-Systems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06280" y="101520"/>
            <a:ext cx="88376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Überblick Interviewleitfade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24360" y="1846440"/>
            <a:ext cx="2234880" cy="5648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A. Strategy/</a:t>
            </a:r>
            <a:br>
              <a:rPr sz="1600"/>
            </a:b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Organis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32280" y="2629080"/>
            <a:ext cx="2247840" cy="5666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B.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4880" y="3344760"/>
            <a:ext cx="2235240" cy="57960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C. Information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52800" y="4103640"/>
            <a:ext cx="2235240" cy="5540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D. Collaboration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Team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52800" y="5562720"/>
            <a:ext cx="2235240" cy="5540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F. IT-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52800" y="4846680"/>
            <a:ext cx="2235240" cy="554040"/>
          </a:xfrm>
          <a:prstGeom prst="rect">
            <a:avLst/>
          </a:prstGeom>
          <a:solidFill>
            <a:srgbClr val="466a97"/>
          </a:solidFill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30496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E. Searching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ffff"/>
                </a:solidFill>
                <a:latin typeface="Arial Black"/>
              </a:rPr>
              <a:t>F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0400" y="906480"/>
            <a:ext cx="791352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uidelines for interviews with department managers and team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16080" y="45180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261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ich Roles and how many employees are working in your division/unit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2600" y="270828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the internal organisational structure of your division/unit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56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61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66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A. Strategy / Organisation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440" y="961920"/>
            <a:ext cx="88455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Describe the strategic importance of a portal for your division/organisational unit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Interviewleitfaden: B. Prozes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4470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Name the core processes were searching, processing and distributing information plays a major role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5284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261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the process interfaces with other departments/units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77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82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87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99880" y="92880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 marL="145440" indent="-482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What are the core processes of your unit/ divison ?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B. Proces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6360" y="101520"/>
            <a:ext cx="8532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ffff"/>
                </a:solidFill>
                <a:latin typeface="Arial Black"/>
              </a:rPr>
              <a:t>Interviewleitfaden: B. Prozess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7120" y="27860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Select one process and describe which documents and information is created during which process step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752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76200" indent="-261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at are the typical problems/ friction losses in your core-processes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77616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27040" y="3330720"/>
            <a:ext cx="7713360" cy="990360"/>
            <a:chOff x="527040" y="3330720"/>
            <a:chExt cx="7713360" cy="990360"/>
          </a:xfrm>
        </p:grpSpPr>
        <p:sp>
          <p:nvSpPr>
            <p:cNvPr id="98" name=""/>
            <p:cNvSpPr/>
            <p:nvPr/>
          </p:nvSpPr>
          <p:spPr>
            <a:xfrm>
              <a:off x="527040" y="33307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7040" y="36619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7040" y="39934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27040" y="43210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527040" y="5205240"/>
            <a:ext cx="7713360" cy="990720"/>
            <a:chOff x="527040" y="5205240"/>
            <a:chExt cx="7713360" cy="990720"/>
          </a:xfrm>
        </p:grpSpPr>
        <p:sp>
          <p:nvSpPr>
            <p:cNvPr id="103" name=""/>
            <p:cNvSpPr/>
            <p:nvPr/>
          </p:nvSpPr>
          <p:spPr>
            <a:xfrm>
              <a:off x="527040" y="52052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7040" y="5536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27040" y="5868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27040" y="61959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7040" y="1558800"/>
            <a:ext cx="7713360" cy="990720"/>
            <a:chOff x="527040" y="1558800"/>
            <a:chExt cx="7713360" cy="990720"/>
          </a:xfrm>
        </p:grpSpPr>
        <p:sp>
          <p:nvSpPr>
            <p:cNvPr id="108" name=""/>
            <p:cNvSpPr/>
            <p:nvPr/>
          </p:nvSpPr>
          <p:spPr>
            <a:xfrm>
              <a:off x="527040" y="1558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7040" y="18900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7040" y="222156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7040" y="25495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99880" y="92880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5000"/>
          </a:bodyPr>
          <a:p>
            <a:pPr marL="145440" indent="-482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Can all parties involved in these core processess access the latest information and documents without problems ?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B. Proces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Describe the flow of information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within your unit/division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and the flow of information </a:t>
            </a: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accross divisions/departments.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lease distinguish between formal and informal flow of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1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2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2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Describe the flow of information within and across divisions based on a core 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1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Which suggestions for improving the flow of information and the access to information do you have for your division/department 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8000"/>
          </a:bodyPr>
          <a:p>
            <a:pPr marL="402120" indent="-3013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List the knowledge areas that are most important for your division/department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e.g knowledge on procedures, regulations, laws, methodology, programming languages, competitive information, market trends ..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3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4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4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5. Which company internal sources of information are you using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Which external sources of information are you using frequently (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bsite, journals, ...)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 Which types of information/ documents originate in your department/divis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5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6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6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7. Which of this information/ documents are of  relevance for other units/division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3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8.  How is this information/ documents distributed within your organisation ? Destinguish between formal and informal 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04920" y="852480"/>
            <a:ext cx="85341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457200" indent="-34272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9. How do you structure your information/documents ? Are there guidelines for storage structures and naming conventions for documents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527040" y="3406680"/>
            <a:ext cx="7713360" cy="990720"/>
            <a:chOff x="527040" y="3406680"/>
            <a:chExt cx="7713360" cy="990720"/>
          </a:xfrm>
        </p:grpSpPr>
        <p:sp>
          <p:nvSpPr>
            <p:cNvPr id="176" name=""/>
            <p:cNvSpPr/>
            <p:nvPr/>
          </p:nvSpPr>
          <p:spPr>
            <a:xfrm>
              <a:off x="527040" y="34066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7040" y="373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040" y="4069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7040" y="43974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527040" y="5167440"/>
            <a:ext cx="7713360" cy="990360"/>
            <a:chOff x="527040" y="5167440"/>
            <a:chExt cx="7713360" cy="990360"/>
          </a:xfrm>
        </p:grpSpPr>
        <p:sp>
          <p:nvSpPr>
            <p:cNvPr id="181" name=""/>
            <p:cNvSpPr/>
            <p:nvPr/>
          </p:nvSpPr>
          <p:spPr>
            <a:xfrm>
              <a:off x="527040" y="51674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27040" y="54986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27040" y="58302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040" y="615780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527040" y="1635120"/>
            <a:ext cx="7713360" cy="990720"/>
            <a:chOff x="527040" y="1635120"/>
            <a:chExt cx="7713360" cy="990720"/>
          </a:xfrm>
        </p:grpSpPr>
        <p:sp>
          <p:nvSpPr>
            <p:cNvPr id="186" name=""/>
            <p:cNvSpPr/>
            <p:nvPr/>
          </p:nvSpPr>
          <p:spPr>
            <a:xfrm>
              <a:off x="527040" y="16351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7040" y="196632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7040" y="229788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7040" y="2625840"/>
              <a:ext cx="7713360" cy="0"/>
            </a:xfrm>
            <a:prstGeom prst="line">
              <a:avLst/>
            </a:prstGeom>
            <a:ln w="12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304920" y="2728800"/>
            <a:ext cx="883908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0. Are you using properties or metadata to tag your documents for improved search and retir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2200" y="45212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6000" y="420840"/>
            <a:ext cx="8686800" cy="28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Interviewguideline: C. Information &amp; Communication (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8960" y="4481640"/>
            <a:ext cx="85345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171360" indent="-568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82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1. What are your suggestions for improving the management of documents and information within your division/department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High Level Content Specification</dc:description>
  <dc:language>en-US</dc:language>
  <cp:lastModifiedBy>d031429</cp:lastModifiedBy>
  <cp:lastPrinted>2000-05-10T17:23:18Z</cp:lastPrinted>
  <dcterms:modified xsi:type="dcterms:W3CDTF">2003-12-14T10:55:06Z</dcterms:modified>
  <cp:revision>558</cp:revision>
  <dc:subject/>
  <dc:title>EP Sample High Level Content Specification </dc:title>
</cp:coreProperties>
</file>