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F75D4D6-CBB4-48C5-A289-5F054C6F0CF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0" y="2286000"/>
            <a:ext cx="838080" cy="2764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Arial"/>
              </a:rPr>
              <a:t>B2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228600"/>
            <a:ext cx="34290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533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2280" y="167652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ail System ?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743200"/>
            <a:ext cx="632484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care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343400" y="3092400"/>
            <a:ext cx="8380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trai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57800" y="3065400"/>
            <a:ext cx="12193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life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1981080"/>
            <a:ext cx="106704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favorit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40068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Da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152280"/>
            <a:ext cx="251460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service corn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15200" y="71748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co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ownloa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457200"/>
            <a:ext cx="76176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vel spa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5200" y="1066680"/>
            <a:ext cx="762120" cy="36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l resources reser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153280" y="10494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on work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371600" y="533520"/>
            <a:ext cx="22860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News Room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3092400"/>
            <a:ext cx="137160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administr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6926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 ev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53280" y="45720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mpany sho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3092400"/>
            <a:ext cx="9903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elcom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092400"/>
            <a:ext cx="76176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pack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57200"/>
            <a:ext cx="76212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ebe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67480" y="2666880"/>
            <a:ext cx="76212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Who’s who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339732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Codes &amp; val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2590920"/>
            <a:ext cx="76176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ofile &amp; strategy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376236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Presentation tool bo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7480" y="2959200"/>
            <a:ext cx="762120" cy="307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Organization char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381880" y="298620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fi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67480" y="4067280"/>
            <a:ext cx="7621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andard company presen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ogos, pict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Visual cha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1880" y="428292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fig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1880" y="51656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381880" y="455616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peop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1880" y="3214800"/>
            <a:ext cx="60984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ission stat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 brief..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tructure organiz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1880" y="5394240"/>
            <a:ext cx="6098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ual repo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any leafl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1880" y="4816440"/>
            <a:ext cx="60984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Key repor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3946680"/>
            <a:ext cx="60984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roducts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67480" y="2349360"/>
            <a:ext cx="1600200" cy="210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organiz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477120" y="685800"/>
            <a:ext cx="7617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ime tab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an hote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Book train / plane ticke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nt a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1508040"/>
            <a:ext cx="76212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eting roo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ate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T equip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153280" y="1295280"/>
            <a:ext cx="91440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p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mall ad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estm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Weather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nd e-mail to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120" y="15238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empla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orm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(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762120"/>
            <a:ext cx="1067040" cy="8254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jor 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on this s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Do’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 Appr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nding reques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ler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ush of specific events (survey.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7826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371600" y="101124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c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247760"/>
            <a:ext cx="1219320" cy="6426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nnov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Health &amp; enviro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“</a:t>
            </a: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regulation”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nergy saving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keting &amp; sponsor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ustainable developpement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79524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160020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43200" y="1069920"/>
            <a:ext cx="91440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slet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partment Not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Employee not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91120" y="38088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business knwoled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901800"/>
            <a:ext cx="1523880" cy="200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700" spc="-1" strike="noStrike">
                <a:solidFill>
                  <a:srgbClr val="000000"/>
                </a:solidFill>
                <a:latin typeface="Arial"/>
              </a:rPr>
              <a:t>My Workspace 1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121932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800" spc="-1" strike="noStrike">
                <a:solidFill>
                  <a:srgbClr val="000000"/>
                </a:solidFill>
                <a:latin typeface="Arial"/>
              </a:rPr>
              <a:t>(...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44" idx="3"/>
            <a:endCxn id="54" idx="1"/>
          </p:cNvCxnSpPr>
          <p:nvPr/>
        </p:nvCxnSpPr>
        <p:spPr>
          <a:xfrm flipV="1">
            <a:off x="5410080" y="267840"/>
            <a:ext cx="1067400" cy="215676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97" name=""/>
          <p:cNvSpPr/>
          <p:nvPr/>
        </p:nvSpPr>
        <p:spPr>
          <a:xfrm>
            <a:off x="76320" y="3321000"/>
            <a:ext cx="99036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essage from HR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ntact H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AQ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Annouc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4235400"/>
            <a:ext cx="99036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ganizat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ofessi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335268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al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90920" y="411480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tock opti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90920" y="504684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Pen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90920" y="5791320"/>
            <a:ext cx="7617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nsura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358128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ay sli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ax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441972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5257800"/>
            <a:ext cx="76176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sonal stat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335268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5720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V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29000" y="48769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bilit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29000" y="3581280"/>
            <a:ext cx="838080" cy="11912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method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erformance appraisal (applic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elf assessment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ompetenc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op 50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der for the fu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5102280"/>
            <a:ext cx="83808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General inf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Jobs (consult &amp; appl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43400" y="339732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schedu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4222800"/>
            <a:ext cx="83808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follow-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105520"/>
            <a:ext cx="83808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raining profiling too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701880"/>
            <a:ext cx="83808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poli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catalo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540320"/>
            <a:ext cx="83808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Training evalu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evious train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4970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Joining 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320" y="6280200"/>
            <a:ext cx="990360" cy="27684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International assign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320" y="52261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Leaving the compan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6320" y="547200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Retir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575928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areer break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6005520"/>
            <a:ext cx="99036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Work / travel accid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3386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ime &amp; Expens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35672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sha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379584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pring 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1324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143000" y="4343400"/>
            <a:ext cx="1371600" cy="55116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private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company c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Fuel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Simul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4952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GS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13864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550404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Corporate Credit car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6326280"/>
            <a:ext cx="1371600" cy="27684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twork , Mobile equipment, SW, Acc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229600" y="6039000"/>
            <a:ext cx="762120" cy="18540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86600" y="6039000"/>
            <a:ext cx="1143000" cy="642600"/>
          </a:xfrm>
          <a:prstGeom prst="rect">
            <a:avLst/>
          </a:prstGeom>
          <a:solidFill>
            <a:srgbClr val="ff99cc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earch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Personaliz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orum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Hel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Suggestion bo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44" idx="1"/>
            <a:endCxn id="48" idx="0"/>
          </p:cNvCxnSpPr>
          <p:nvPr/>
        </p:nvCxnSpPr>
        <p:spPr>
          <a:xfrm flipV="1" rot="10800000">
            <a:off x="3314160" y="2424240"/>
            <a:ext cx="1257840" cy="319320"/>
          </a:xfrm>
          <a:prstGeom prst="bentConnector2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4" name=""/>
          <p:cNvCxnSpPr>
            <a:stCxn id="44" idx="1"/>
            <a:endCxn id="45" idx="3"/>
          </p:cNvCxnSpPr>
          <p:nvPr/>
        </p:nvCxnSpPr>
        <p:spPr>
          <a:xfrm rot="10800000">
            <a:off x="3657600" y="344160"/>
            <a:ext cx="914760" cy="2080440"/>
          </a:xfrm>
          <a:prstGeom prst="bentConnector3">
            <a:avLst>
              <a:gd name="adj1" fmla="val 50000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5" name=""/>
          <p:cNvCxnSpPr>
            <a:stCxn id="44" idx="1"/>
            <a:endCxn id="93" idx="1"/>
          </p:cNvCxnSpPr>
          <p:nvPr/>
        </p:nvCxnSpPr>
        <p:spPr>
          <a:xfrm rot="10800000">
            <a:off x="4191120" y="480960"/>
            <a:ext cx="381240" cy="194364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36" name=""/>
          <p:cNvCxnSpPr>
            <a:stCxn id="44" idx="1"/>
            <a:endCxn id="94" idx="1"/>
          </p:cNvCxnSpPr>
          <p:nvPr/>
        </p:nvCxnSpPr>
        <p:spPr>
          <a:xfrm rot="10800000">
            <a:off x="4191120" y="1001520"/>
            <a:ext cx="381240" cy="1422720"/>
          </a:xfrm>
          <a:prstGeom prst="bentConnector3">
            <a:avLst>
              <a:gd name="adj1" fmla="val 161342"/>
            </a:avLst>
          </a:prstGeom>
          <a:ln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37" name=""/>
          <p:cNvSpPr/>
          <p:nvPr/>
        </p:nvSpPr>
        <p:spPr>
          <a:xfrm>
            <a:off x="8153280" y="762120"/>
            <a:ext cx="914400" cy="185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5715000"/>
            <a:ext cx="1371600" cy="36828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olicy &amp; procedur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y invoi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rd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6095880"/>
            <a:ext cx="13716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y IT equipment &amp; servic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Family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57800" y="4495680"/>
            <a:ext cx="91440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57800" y="475632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Abs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57800" y="3581280"/>
            <a:ext cx="1219320" cy="109980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regnanc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New child (birth, adop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chil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Marriage or cohabit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Change in dependancy status of spo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ivorce or separa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Death of a relati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Other (holy communions, jury duty...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57800" y="5029200"/>
            <a:ext cx="1219320" cy="91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Illnes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leave for specific event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 for family reason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Unpaid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Youth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Paid educational leav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f0f0f0"/>
                </a:solidFill>
                <a:latin typeface="Arial"/>
              </a:rPr>
              <a:t>Recuperation overti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257800" y="6051600"/>
            <a:ext cx="1219320" cy="185400"/>
          </a:xfrm>
          <a:prstGeom prst="rect">
            <a:avLst/>
          </a:prstGeom>
          <a:solidFill>
            <a:srgbClr val="ffff99"/>
          </a:solidFill>
          <a:ln w="12600">
            <a:solidFill>
              <a:srgbClr val="f0f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600" spc="-1" strike="noStrike">
                <a:solidFill>
                  <a:srgbClr val="000000"/>
                </a:solidFill>
                <a:latin typeface="Arial"/>
              </a:rPr>
              <a:t>Bank chan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76320"/>
            <a:ext cx="1523880" cy="231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Arial"/>
              </a:rPr>
              <a:t>My communit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62712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91120" y="1135080"/>
            <a:ext cx="1523880" cy="1969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0f0f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/>
  <dc:language>en-US</dc:language>
  <cp:lastModifiedBy>d003179</cp:lastModifiedBy>
  <cp:lastPrinted>2000-05-10T17:23:18Z</cp:lastPrinted>
  <dcterms:modified xsi:type="dcterms:W3CDTF">2003-06-26T15:05:15Z</dcterms:modified>
  <cp:revision>455</cp:revision>
  <dc:subject/>
  <dc:title>Sample Kick-Off Meeting Presentation</dc:title>
</cp:coreProperties>
</file>