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F070DA17-1A85-40BE-AEE4-96DBB78E5D8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" y="1916280"/>
            <a:ext cx="8305920" cy="444240"/>
            <a:chOff x="457200" y="1916280"/>
            <a:chExt cx="8305920" cy="444240"/>
          </a:xfrm>
        </p:grpSpPr>
        <p:sp>
          <p:nvSpPr>
            <p:cNvPr id="46" name=""/>
            <p:cNvSpPr/>
            <p:nvPr/>
          </p:nvSpPr>
          <p:spPr>
            <a:xfrm>
              <a:off x="7391520" y="1916280"/>
              <a:ext cx="1371600" cy="444240"/>
            </a:xfrm>
            <a:custGeom>
              <a:avLst/>
              <a:gdLst>
                <a:gd name="textAreaLeft" fmla="*/ 0 w 1371600"/>
                <a:gd name="textAreaRight" fmla="*/ 1371960 w 137160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7200" y="1916280"/>
              <a:ext cx="7162920" cy="44424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686480" y="1946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92160" y="2360520"/>
            <a:ext cx="0" cy="1470240"/>
          </a:xfrm>
          <a:prstGeom prst="line">
            <a:avLst/>
          </a:prstGeom>
          <a:ln w="3816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32320" y="1938240"/>
            <a:ext cx="0" cy="189252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1938240"/>
            <a:ext cx="0" cy="189252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9280" y="1916280"/>
            <a:ext cx="0" cy="1914480"/>
          </a:xfrm>
          <a:prstGeom prst="line">
            <a:avLst/>
          </a:prstGeom>
          <a:ln w="12600">
            <a:solidFill>
              <a:srgbClr val="dadad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15280" y="194616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4 -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7520" y="3693960"/>
            <a:ext cx="411480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7840" y="3529080"/>
            <a:ext cx="1395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676767"/>
                </a:solidFill>
                <a:latin typeface="Arial"/>
              </a:rPr>
              <a:t>Set-up co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62040" y="196704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36840" y="207324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1400" spc="-1" strike="noStrike">
                <a:solidFill>
                  <a:srgbClr val="ff6600"/>
                </a:solidFill>
                <a:latin typeface="Arial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53640" y="3000240"/>
            <a:ext cx="2717640" cy="525600"/>
          </a:xfrm>
          <a:prstGeom prst="parallelogram">
            <a:avLst>
              <a:gd name="adj" fmla="val 60993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81080" y="243036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676767"/>
                </a:solidFill>
                <a:latin typeface="Arial"/>
              </a:rPr>
              <a:t>EBL Infi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92160" y="33019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Other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0720" y="2440080"/>
            <a:ext cx="1441440" cy="108576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085760"/>
              <a:gd name="textAreaBottom" fmla="*/ 1086120 h 1085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4274280" y="3000240"/>
            <a:ext cx="2202120" cy="525600"/>
          </a:xfrm>
          <a:prstGeom prst="parallelogram">
            <a:avLst>
              <a:gd name="adj" fmla="val 59044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- Phase I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853640" y="2440080"/>
            <a:ext cx="4622760" cy="523800"/>
          </a:xfrm>
          <a:prstGeom prst="parallelogram">
            <a:avLst>
              <a:gd name="adj" fmla="val 56139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502320" y="2440080"/>
            <a:ext cx="1866960" cy="1085040"/>
            <a:chOff x="6502320" y="2440080"/>
            <a:chExt cx="1866960" cy="1085040"/>
          </a:xfrm>
        </p:grpSpPr>
        <p:sp>
          <p:nvSpPr>
            <p:cNvPr id="65" name=""/>
            <p:cNvSpPr/>
            <p:nvPr/>
          </p:nvSpPr>
          <p:spPr>
            <a:xfrm flipH="1" flipV="1">
              <a:off x="6502320" y="2999520"/>
              <a:ext cx="1866960" cy="525240"/>
            </a:xfrm>
            <a:prstGeom prst="parallelogram">
              <a:avLst>
                <a:gd name="adj" fmla="val 50092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Roll-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6502320" y="2440080"/>
              <a:ext cx="1866960" cy="523440"/>
            </a:xfrm>
            <a:prstGeom prst="parallelogram">
              <a:avLst>
                <a:gd name="adj" fmla="val 50264"/>
              </a:avLst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Up-gra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2317680" y="3008160"/>
            <a:ext cx="22226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tailed Road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83560" y="3865680"/>
            <a:ext cx="1206360" cy="514080"/>
          </a:xfrm>
          <a:prstGeom prst="rect">
            <a:avLst/>
          </a:prstGeom>
          <a:solidFill>
            <a:srgbClr val="da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25080" y="3865680"/>
            <a:ext cx="2306520" cy="514080"/>
          </a:xfrm>
          <a:prstGeom prst="rect">
            <a:avLst/>
          </a:prstGeom>
          <a:solidFill>
            <a:srgbClr val="da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"/>
              </a:rPr>
              <a:t>To be done until the end of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35040" y="4379760"/>
            <a:ext cx="1257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ch. Stu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uidelines &amp; portal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gram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25800" y="4443480"/>
            <a:ext cx="320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liver Quick Wins: Intranet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ESS for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ntory existing intranet/internet content across Bus, confirm sav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 Release Plan and Sounding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nalize governance: consolidated reporting, eBusiness Guide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47600" indent="-147600">
              <a:lnSpc>
                <a:spcPct val="90000"/>
              </a:lnSpc>
              <a:buClr>
                <a:srgbClr val="f0f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40040" y="4379760"/>
            <a:ext cx="0" cy="1563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5000" y="206280"/>
            <a:ext cx="3693600" cy="3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High Level Portal Project Pl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Sample High Level Project Plan</dc:description>
  <cp:keywords>Project Plan</cp:keywords>
  <dc:language>en-US</dc:language>
  <cp:lastModifiedBy>d031429</cp:lastModifiedBy>
  <cp:lastPrinted>2000-05-10T17:23:18Z</cp:lastPrinted>
  <dcterms:modified xsi:type="dcterms:W3CDTF">2003-11-20T11:48:07Z</dcterms:modified>
  <cp:revision>457</cp:revision>
  <dc:subject/>
  <dc:title>Sample High Level Project Plan</dc:title>
</cp:coreProperties>
</file>