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28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072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8384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28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072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228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0720" y="129024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384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228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0720" y="3814200"/>
            <a:ext cx="259812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8800" y="381420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8384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8800" y="1290240"/>
            <a:ext cx="393768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83840" y="3814200"/>
            <a:ext cx="8069400" cy="230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3, AIM 3.0 Project Standards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8DF53987-4BC4-4D90-B969-F971B4E981FB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6200000">
            <a:off x="8096040" y="56520"/>
            <a:ext cx="685800" cy="57168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680"/>
              <a:gd name="textAreaBottom" fmla="*/ 57204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36600" y="685800"/>
            <a:ext cx="88074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Click to edit Master title sty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83840" y="1290240"/>
            <a:ext cx="8069400" cy="4832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778600" y="6705360"/>
            <a:ext cx="57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A67A0-F0F4-4765-8C81-002554ACA9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934320" y="152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52280"/>
            <a:ext cx="2133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CO, Ltd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36800" y="3441240"/>
            <a:ext cx="5983200" cy="142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06560" y="0"/>
            <a:ext cx="6337440" cy="3156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1788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eting Plan and Participa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304920" y="639720"/>
          <a:ext cx="8381880" cy="5719680"/>
        </p:xfrm>
        <a:graphic>
          <a:graphicData uri="http://schemas.openxmlformats.org/drawingml/2006/table">
            <a:tbl>
              <a:tblPr/>
              <a:tblGrid>
                <a:gridCol w="1241280"/>
                <a:gridCol w="3002040"/>
                <a:gridCol w="901800"/>
                <a:gridCol w="1625400"/>
                <a:gridCol w="1611360"/>
              </a:tblGrid>
              <a:tr h="326880"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wne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 Cy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72000" rIns="72000" tIns="72000" bIns="72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ticipa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433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n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orting Portal Progra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8268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ering Co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; Decis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L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ing Project Planning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/Questions/Risk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 Request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Fix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Work Packages;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444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P Project Team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;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 by topic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Next Activities 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Crossover Questio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0940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ess Control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y Revie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919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r Fix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(subproje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 Updat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nning Next Activities</a:t>
                      </a:r>
                      <a:br>
                        <a:rPr sz="1200"/>
                      </a:b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9192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erence call Governance</a:t>
                      </a:r>
                      <a:br>
                        <a:rPr sz="1200"/>
                      </a:b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tern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al Status Upda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25160"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72000" rIns="72000" tIns="72000" bIns="72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8T17:24:47Z</dcterms:created>
  <dc:creator>SAP</dc:creator>
  <dc:description/>
  <dc:language>en-US</dc:language>
  <cp:lastModifiedBy>d031429</cp:lastModifiedBy>
  <dcterms:modified xsi:type="dcterms:W3CDTF">2003-12-12T15:22:20Z</dcterms:modified>
  <cp:revision>325</cp:revision>
  <dc:subject>Version 1</dc:subject>
  <dc:title>Meeting Plan</dc:title>
</cp:coreProperties>
</file>