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9B80CFA2-C219-4CEC-9BAC-A137C50C046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9526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ortal/KM Subproject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Customer Info Sharing”</a:t>
            </a:r>
            <a:br>
              <a:rPr sz="3600"/>
            </a:br>
            <a:br>
              <a:rPr sz="36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 Level Content Spec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5792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ntent (“Relevant Customer Information”) and Proposed Top Level Structure (Part 1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51238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usiness Type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ransmission / engine / platform / vehicle roadmap with timing and volu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ctive projects with link to engine, transmission, platform vehicle, project tea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rms and conditions (Cust1, common and XX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arranty sharing agre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Warranty agre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rvice parts process and concep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l existing contracts (licenses, etc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eeting minutes and presentatio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ier 1 supplier per module/syste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s &amp; Support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Decision makers / OrgCharts / Contacts / Exper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acts from divisions or VAT with functions (internal; equal community member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arkets &amp; Trend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stomer Technology roadma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petitor inform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Market share per product from XX and competi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ews &amp; Event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w business opportunities (proactive / reactive; ongoing acquisition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YYY monthly repor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General news; Up coming ev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5792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ntent (“Relevant Customer Information”) and Proposed Top Level Structure (Part 2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45594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ocesses &amp; Role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stomer known quality problems (red alert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st1 quality targe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oductivity agreemen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arget agreements (prices?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st1 project timing planning (secured business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mmon approach customer change request proc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ew part number change cos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st breakdown detail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est Center cos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R&amp;D rates and break dow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mple pri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ancellation cos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iece pric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echnologie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tatement of work (technical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ystem definition (connected to projec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 &amp; Experience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stomer surve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High Level Content Specification</dc:description>
  <dc:language>en-US</dc:language>
  <cp:lastModifiedBy>d003179</cp:lastModifiedBy>
  <cp:lastPrinted>2000-05-10T17:23:18Z</cp:lastPrinted>
  <dcterms:modified xsi:type="dcterms:W3CDTF">2003-07-01T12:32:50Z</dcterms:modified>
  <cp:revision>456</cp:revision>
  <dc:subject/>
  <dc:title>EP Sample High Level Content Specification </dc:title>
</cp:coreProperties>
</file>