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6664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2990160"/>
            <a:ext cx="250236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837720"/>
            <a:ext cx="8686800" cy="13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299016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66640"/>
            <a:ext cx="37926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2990160"/>
            <a:ext cx="7772400" cy="139104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28980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0" bIns="0" anchor="t">
            <a:noAutofit/>
          </a:bodyPr>
          <a:p>
            <a:pPr indent="0">
              <a:buNone/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527680" y="6554160"/>
            <a:ext cx="640800" cy="1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fld id="{D03E3CC0-6514-4031-BDB5-294EC674550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750960"/>
            <a:ext cx="8923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466640"/>
            <a:ext cx="7772400" cy="2916360"/>
          </a:xfrm>
          <a:prstGeom prst="rect">
            <a:avLst/>
          </a:prstGeom>
          <a:noFill/>
          <a:ln w="0">
            <a:noFill/>
          </a:ln>
        </p:spPr>
        <p:txBody>
          <a:bodyPr lIns="69120" rIns="69120" tIns="69120" bIns="69120" anchor="t">
            <a:normAutofit/>
          </a:bodyPr>
          <a:p>
            <a:pPr marL="324000" indent="-324000">
              <a:spcBef>
                <a:spcPts val="1125"/>
              </a:spcBef>
              <a:buClr>
                <a:srgbClr val="000000"/>
              </a:buClr>
              <a:buFont typeface="Monotype Sorts" charset="2"/>
              <a:buChar char="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2320" indent="-380880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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92320" indent="-16200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9960" indent="-110880">
              <a:spcBef>
                <a:spcPts val="1125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97120" indent="-11772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080" y="1523880"/>
            <a:ext cx="8983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96080" y="6594120"/>
            <a:ext cx="91440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17640" bIns="1764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RAF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8515440" y="56880"/>
            <a:ext cx="685800" cy="571320"/>
          </a:xfrm>
          <a:custGeom>
            <a:avLst/>
            <a:gdLst>
              <a:gd name="textAreaLeft" fmla="*/ 0 w 685800"/>
              <a:gd name="textAreaRight" fmla="*/ 686160 w 68580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600" y="0"/>
                </a:lnTo>
                <a:lnTo>
                  <a:pt x="21600" y="10800"/>
                </a:lnTo>
                <a:lnTo>
                  <a:pt x="15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048440" y="228600"/>
            <a:ext cx="2057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Project AIM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57120"/>
            <a:ext cx="8686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120" rIns="6912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6000"/>
                <a:tab algn="l" pos="1692360"/>
                <a:tab algn="l" pos="2538360"/>
                <a:tab algn="l" pos="3384720"/>
                <a:tab algn="l" pos="4230720"/>
                <a:tab algn="l" pos="5076720"/>
                <a:tab algn="l" pos="5923080"/>
                <a:tab algn="l" pos="6769080"/>
                <a:tab algn="l" pos="7615080"/>
                <a:tab algn="l" pos="8461440"/>
                <a:tab algn="l" pos="9307440"/>
                <a:tab algn="l" pos="101538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Implementation Phases: AIM Por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1547640"/>
            <a:ext cx="5516640" cy="11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762120"/>
            <a:ext cx="7738920" cy="575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46080" y="847800"/>
            <a:ext cx="721836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14480" y="1535040"/>
            <a:ext cx="1644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03680" y="1587600"/>
            <a:ext cx="10108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Pro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c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esse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89640" y="1809720"/>
            <a:ext cx="91044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273c83"/>
                </a:solidFill>
                <a:latin typeface="Arial"/>
              </a:rPr>
              <a:t>Function</a:t>
            </a: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66680" y="4610160"/>
            <a:ext cx="3722760" cy="146052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084320" y="3648240"/>
            <a:ext cx="3705120" cy="1134720"/>
            <a:chOff x="1084320" y="3648240"/>
            <a:chExt cx="3705120" cy="1134720"/>
          </a:xfrm>
        </p:grpSpPr>
        <p:sp>
          <p:nvSpPr>
            <p:cNvPr id="55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  <a:lnTo>
                    <a:pt x="214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84320" y="3648240"/>
              <a:ext cx="3705120" cy="1134720"/>
            </a:xfrm>
            <a:custGeom>
              <a:avLst/>
              <a:gdLst/>
              <a:ahLst/>
              <a:rect l="l" t="t" r="r" b="b"/>
              <a:pathLst>
                <a:path w="214" h="66">
                  <a:moveTo>
                    <a:pt x="0" y="66"/>
                  </a:moveTo>
                  <a:cubicBezTo>
                    <a:pt x="0" y="30"/>
                    <a:pt x="95" y="0"/>
                    <a:pt x="214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 flipV="1">
            <a:off x="4772160" y="3579480"/>
            <a:ext cx="17280" cy="249084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4040" y="3957480"/>
            <a:ext cx="13510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9800" y="3975120"/>
            <a:ext cx="2264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273c83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87440" y="39751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762360" y="39751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28600" y="39751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95360" y="4284720"/>
            <a:ext cx="3359160" cy="194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35400" y="4730760"/>
            <a:ext cx="1747800" cy="9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7080" y="2514600"/>
            <a:ext cx="1695240" cy="1133640"/>
          </a:xfrm>
          <a:custGeom>
            <a:avLst/>
            <a:gdLst/>
            <a:ahLst/>
            <a:rect l="l" t="t" r="r" b="b"/>
            <a:pathLst>
              <a:path w="98" h="66">
                <a:moveTo>
                  <a:pt x="0" y="66"/>
                </a:moveTo>
                <a:cubicBezTo>
                  <a:pt x="0" y="66"/>
                  <a:pt x="0" y="65"/>
                  <a:pt x="0" y="65"/>
                </a:cubicBezTo>
                <a:cubicBezTo>
                  <a:pt x="0" y="29"/>
                  <a:pt x="43" y="0"/>
                  <a:pt x="98" y="0"/>
                </a:cubicBezTo>
              </a:path>
            </a:pathLst>
          </a:custGeom>
          <a:noFill/>
          <a:ln w="52560">
            <a:solidFill>
              <a:srgbClr val="273c8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44960" y="306396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23160" y="3081240"/>
            <a:ext cx="33912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525640" y="308124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9120" y="308124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65360" y="308124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840200" y="3459240"/>
            <a:ext cx="18018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15800" y="3510000"/>
            <a:ext cx="918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486480" y="2496600"/>
            <a:ext cx="1800" cy="3676680"/>
          </a:xfrm>
          <a:prstGeom prst="line">
            <a:avLst/>
          </a:prstGeom>
          <a:ln w="17640">
            <a:solidFill>
              <a:srgbClr val="273c8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86480" y="2532240"/>
            <a:ext cx="1695600" cy="3538440"/>
          </a:xfrm>
          <a:prstGeom prst="rect">
            <a:avLst/>
          </a:prstGeom>
          <a:solidFill>
            <a:srgbClr val="cbc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486480" y="1328760"/>
            <a:ext cx="1695600" cy="1220760"/>
            <a:chOff x="6486480" y="1328760"/>
            <a:chExt cx="1695600" cy="1220760"/>
          </a:xfrm>
        </p:grpSpPr>
        <p:sp>
          <p:nvSpPr>
            <p:cNvPr id="76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  <a:lnTo>
                    <a:pt x="98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bcf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486480" y="1328760"/>
              <a:ext cx="1695600" cy="1220760"/>
            </a:xfrm>
            <a:custGeom>
              <a:avLst/>
              <a:gdLst/>
              <a:ahLst/>
              <a:rect l="l" t="t" r="r" b="b"/>
              <a:pathLst>
                <a:path w="98" h="71">
                  <a:moveTo>
                    <a:pt x="0" y="71"/>
                  </a:moveTo>
                  <a:cubicBezTo>
                    <a:pt x="0" y="32"/>
                    <a:pt x="44" y="0"/>
                    <a:pt x="98" y="0"/>
                  </a:cubicBezTo>
                </a:path>
              </a:pathLst>
            </a:custGeom>
            <a:noFill/>
            <a:ln w="5256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6745320" y="19130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01560" y="1930320"/>
            <a:ext cx="39528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343280" y="1930320"/>
            <a:ext cx="59796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934400" y="1930320"/>
            <a:ext cx="572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983360" y="1930320"/>
            <a:ext cx="11340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73c83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486480" y="3063960"/>
            <a:ext cx="16779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715160" y="5761080"/>
            <a:ext cx="346320" cy="2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19760" y="5780160"/>
            <a:ext cx="512280" cy="2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buClr>
                <a:srgbClr val="273c8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273c83"/>
                </a:solidFill>
                <a:latin typeface="Arial"/>
              </a:rPr>
              <a:t>Ti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014480" y="2171880"/>
            <a:ext cx="7358040" cy="3968640"/>
            <a:chOff x="1014480" y="2171880"/>
            <a:chExt cx="7358040" cy="3968640"/>
          </a:xfrm>
        </p:grpSpPr>
        <p:sp>
          <p:nvSpPr>
            <p:cNvPr id="87" name=""/>
            <p:cNvSpPr/>
            <p:nvPr/>
          </p:nvSpPr>
          <p:spPr>
            <a:xfrm>
              <a:off x="1066680" y="2257560"/>
              <a:ext cx="7220160" cy="3813120"/>
            </a:xfrm>
            <a:custGeom>
              <a:avLst/>
              <a:gdLst/>
              <a:ahLst/>
              <a:rect l="l" t="t" r="r" b="b"/>
              <a:pathLst>
                <a:path w="417" h="222">
                  <a:moveTo>
                    <a:pt x="0" y="0"/>
                  </a:moveTo>
                  <a:lnTo>
                    <a:pt x="0" y="222"/>
                  </a:lnTo>
                  <a:lnTo>
                    <a:pt x="417" y="222"/>
                  </a:lnTo>
                </a:path>
              </a:pathLst>
            </a:custGeom>
            <a:noFill/>
            <a:ln w="17640">
              <a:solidFill>
                <a:srgbClr val="273c8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14480" y="2171880"/>
              <a:ext cx="122040" cy="118800"/>
            </a:xfrm>
            <a:custGeom>
              <a:avLst/>
              <a:gdLst/>
              <a:ahLst/>
              <a:rect l="l" t="t" r="r" b="b"/>
              <a:pathLst>
                <a:path w="77" h="75">
                  <a:moveTo>
                    <a:pt x="77" y="75"/>
                  </a:moveTo>
                  <a:lnTo>
                    <a:pt x="33" y="0"/>
                  </a:lnTo>
                  <a:lnTo>
                    <a:pt x="0" y="75"/>
                  </a:lnTo>
                  <a:lnTo>
                    <a:pt x="77" y="75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251920" y="6019920"/>
              <a:ext cx="120600" cy="120600"/>
            </a:xfrm>
            <a:custGeom>
              <a:avLst/>
              <a:gdLst/>
              <a:ahLst/>
              <a:rect l="l" t="t" r="r" b="b"/>
              <a:pathLst>
                <a:path w="76" h="76">
                  <a:moveTo>
                    <a:pt x="0" y="76"/>
                  </a:moveTo>
                  <a:lnTo>
                    <a:pt x="76" y="32"/>
                  </a:lnTo>
                  <a:lnTo>
                    <a:pt x="0" y="0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273c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1515600" y="4267080"/>
            <a:ext cx="2468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uild up Information Service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and Management Inform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77520" y="3352680"/>
            <a:ext cx="101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2160" y="2895480"/>
            <a:ext cx="79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urth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76400" y="4724280"/>
            <a:ext cx="1805040" cy="11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In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porate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ndustry Ne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ick Po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SS Business Pack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78800" y="2286000"/>
            <a:ext cx="120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re Proces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57560" y="3886200"/>
            <a:ext cx="12168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il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M Repository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ollaboration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Rooms for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3600" y="3276720"/>
            <a:ext cx="120024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ember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83160" y="2209680"/>
            <a:ext cx="81756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11240" y="914400"/>
            <a:ext cx="7840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200" spc="-1" strike="noStrike">
                <a:solidFill>
                  <a:srgbClr val="000000"/>
                </a:solidFill>
                <a:latin typeface="Arial"/>
              </a:rPr>
              <a:t>Dec.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703560" y="3352680"/>
            <a:ext cx="116640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8160" rIns="38160" tIns="17640" bIns="17640" anchor="t">
            <a:spAutoFit/>
          </a:bodyPr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chas Order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 Proce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ster Data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1T21:39:05Z</dcterms:created>
  <dc:creator>SAP</dc:creator>
  <dc:description>EP Sample Content Implementation Phases</dc:description>
  <dc:language>en-US</dc:language>
  <cp:lastModifiedBy>d031429</cp:lastModifiedBy>
  <cp:lastPrinted>2000-05-10T17:23:18Z</cp:lastPrinted>
  <dcterms:modified xsi:type="dcterms:W3CDTF">2003-11-20T12:52:50Z</dcterms:modified>
  <cp:revision>457</cp:revision>
  <dc:subject/>
  <dc:title>EP Sample Content Implementation Phases</dc:title>
</cp:coreProperties>
</file>