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F7BC78DC-063F-45C5-86CC-01798DA278A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14640" y="76320"/>
            <a:ext cx="732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verview: Communities of Practice and Collaboration with SAP Netwea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service.sap.com/ep" TargetMode="External"/><Relationship Id="rId3" Type="http://schemas.openxmlformats.org/officeDocument/2006/relationships/hyperlink" Target="http://service.sap.com/ep" TargetMode="External"/><Relationship Id="rId4" Type="http://schemas.openxmlformats.org/officeDocument/2006/relationships/hyperlink" Target="http://service.sap.com/ep" TargetMode="External"/><Relationship Id="rId5" Type="http://schemas.openxmlformats.org/officeDocument/2006/relationships/hyperlink" Target="http://service.sap.com/ep" TargetMode="External"/><Relationship Id="rId6" Type="http://schemas.openxmlformats.org/officeDocument/2006/relationships/hyperlink" Target="http://service.sap.com/ep" TargetMode="External"/><Relationship Id="rId7" Type="http://schemas.openxmlformats.org/officeDocument/2006/relationships/hyperlink" Target="http://service.sap.com/ep" TargetMode="External"/><Relationship Id="rId8" Type="http://schemas.openxmlformats.org/officeDocument/2006/relationships/hyperlink" Target="http://service.sap.com/ep" TargetMode="External"/><Relationship Id="rId9" Type="http://schemas.openxmlformats.org/officeDocument/2006/relationships/hyperlink" Target="http://service.sap.com/ep" TargetMode="External"/><Relationship Id="rId10" Type="http://schemas.openxmlformats.org/officeDocument/2006/relationships/hyperlink" Target="https://websmp101.sap-ag.de/~sapidb/011000358700000604782003E/10282003CollwithSAPNW_EP60.ppt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1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.wmf"/><Relationship Id="rId15" Type="http://schemas.openxmlformats.org/officeDocument/2006/relationships/image" Target="../media/image1.wmf"/><Relationship Id="rId16" Type="http://schemas.openxmlformats.org/officeDocument/2006/relationships/image" Target="../media/image2.wmf"/><Relationship Id="rId17" Type="http://schemas.openxmlformats.org/officeDocument/2006/relationships/image" Target="../media/image1.wmf"/><Relationship Id="rId18" Type="http://schemas.openxmlformats.org/officeDocument/2006/relationships/image" Target="../media/image2.wmf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1.wmf"/><Relationship Id="rId24" Type="http://schemas.openxmlformats.org/officeDocument/2006/relationships/image" Target="../media/image2.wmf"/><Relationship Id="rId25" Type="http://schemas.openxmlformats.org/officeDocument/2006/relationships/image" Target="../media/image1.wmf"/><Relationship Id="rId26" Type="http://schemas.openxmlformats.org/officeDocument/2006/relationships/image" Target="../media/image2.wmf"/><Relationship Id="rId27" Type="http://schemas.openxmlformats.org/officeDocument/2006/relationships/image" Target="../media/image1.wmf"/><Relationship Id="rId28" Type="http://schemas.openxmlformats.org/officeDocument/2006/relationships/image" Target="../media/image2.wmf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image" Target="../media/image1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1.wmf"/><Relationship Id="rId3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2.wmf"/><Relationship Id="rId9" Type="http://schemas.openxmlformats.org/officeDocument/2006/relationships/image" Target="../media/image1.wmf"/><Relationship Id="rId10" Type="http://schemas.openxmlformats.org/officeDocument/2006/relationships/image" Target="../media/image2.wmf"/><Relationship Id="rId11" Type="http://schemas.openxmlformats.org/officeDocument/2006/relationships/image" Target="../media/image1.wmf"/><Relationship Id="rId12" Type="http://schemas.openxmlformats.org/officeDocument/2006/relationships/image" Target="../media/image2.wmf"/><Relationship Id="rId13" Type="http://schemas.openxmlformats.org/officeDocument/2006/relationships/image" Target="../media/image1.wmf"/><Relationship Id="rId14" Type="http://schemas.openxmlformats.org/officeDocument/2006/relationships/image" Target="../media/image2.wmf"/><Relationship Id="rId15" Type="http://schemas.openxmlformats.org/officeDocument/2006/relationships/image" Target="../media/image1.wmf"/><Relationship Id="rId16" Type="http://schemas.openxmlformats.org/officeDocument/2006/relationships/image" Target="../media/image2.wmf"/><Relationship Id="rId17" Type="http://schemas.openxmlformats.org/officeDocument/2006/relationships/image" Target="../media/image1.wmf"/><Relationship Id="rId18" Type="http://schemas.openxmlformats.org/officeDocument/2006/relationships/image" Target="../media/image2.wmf"/><Relationship Id="rId19" Type="http://schemas.openxmlformats.org/officeDocument/2006/relationships/image" Target="../media/image1.wmf"/><Relationship Id="rId20" Type="http://schemas.openxmlformats.org/officeDocument/2006/relationships/image" Target="../media/image2.wmf"/><Relationship Id="rId21" Type="http://schemas.openxmlformats.org/officeDocument/2006/relationships/image" Target="../media/image1.wmf"/><Relationship Id="rId22" Type="http://schemas.openxmlformats.org/officeDocument/2006/relationships/image" Target="../media/image2.wmf"/><Relationship Id="rId23" Type="http://schemas.openxmlformats.org/officeDocument/2006/relationships/image" Target="../media/image1.wmf"/><Relationship Id="rId24" Type="http://schemas.openxmlformats.org/officeDocument/2006/relationships/image" Target="../media/image2.wmf"/><Relationship Id="rId25" Type="http://schemas.openxmlformats.org/officeDocument/2006/relationships/image" Target="../media/image1.wmf"/><Relationship Id="rId26" Type="http://schemas.openxmlformats.org/officeDocument/2006/relationships/image" Target="../media/image2.wmf"/><Relationship Id="rId27" Type="http://schemas.openxmlformats.org/officeDocument/2006/relationships/image" Target="../media/image1.wmf"/><Relationship Id="rId28" Type="http://schemas.openxmlformats.org/officeDocument/2006/relationships/image" Target="../media/image2.wmf"/><Relationship Id="rId29" Type="http://schemas.openxmlformats.org/officeDocument/2006/relationships/image" Target="../media/image1.wmf"/><Relationship Id="rId30" Type="http://schemas.openxmlformats.org/officeDocument/2006/relationships/image" Target="../media/image2.wmf"/><Relationship Id="rId31" Type="http://schemas.openxmlformats.org/officeDocument/2006/relationships/image" Target="../media/image1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1.wmf"/><Relationship Id="rId35" Type="http://schemas.openxmlformats.org/officeDocument/2006/relationships/image" Target="../media/image1.wmf"/><Relationship Id="rId36" Type="http://schemas.openxmlformats.org/officeDocument/2006/relationships/image" Target="../media/image2.wmf"/><Relationship Id="rId37" Type="http://schemas.openxmlformats.org/officeDocument/2006/relationships/image" Target="../media/image1.wmf"/><Relationship Id="rId38" Type="http://schemas.openxmlformats.org/officeDocument/2006/relationships/image" Target="../media/image2.wmf"/><Relationship Id="rId39" Type="http://schemas.openxmlformats.org/officeDocument/2006/relationships/image" Target="../media/image1.wmf"/><Relationship Id="rId40" Type="http://schemas.openxmlformats.org/officeDocument/2006/relationships/image" Target="../media/image2.wmf"/><Relationship Id="rId41" Type="http://schemas.openxmlformats.org/officeDocument/2006/relationships/image" Target="../media/image1.wmf"/><Relationship Id="rId42" Type="http://schemas.openxmlformats.org/officeDocument/2006/relationships/image" Target="../media/image2.wmf"/><Relationship Id="rId43" Type="http://schemas.openxmlformats.org/officeDocument/2006/relationships/image" Target="../media/image1.wmf"/><Relationship Id="rId44" Type="http://schemas.openxmlformats.org/officeDocument/2006/relationships/image" Target="../media/image2.wmf"/><Relationship Id="rId45" Type="http://schemas.openxmlformats.org/officeDocument/2006/relationships/image" Target="../media/image1.wmf"/><Relationship Id="rId46" Type="http://schemas.openxmlformats.org/officeDocument/2006/relationships/image" Target="../media/image2.wmf"/><Relationship Id="rId47" Type="http://schemas.openxmlformats.org/officeDocument/2006/relationships/image" Target="../media/image1.wmf"/><Relationship Id="rId48" Type="http://schemas.openxmlformats.org/officeDocument/2006/relationships/image" Target="../media/image2.wmf"/><Relationship Id="rId49" Type="http://schemas.openxmlformats.org/officeDocument/2006/relationships/image" Target="../media/image1.wmf"/><Relationship Id="rId50" Type="http://schemas.openxmlformats.org/officeDocument/2006/relationships/image" Target="../media/image2.wmf"/><Relationship Id="rId51" Type="http://schemas.openxmlformats.org/officeDocument/2006/relationships/image" Target="../media/image1.wmf"/><Relationship Id="rId52" Type="http://schemas.openxmlformats.org/officeDocument/2006/relationships/image" Target="../media/image2.wmf"/><Relationship Id="rId53" Type="http://schemas.openxmlformats.org/officeDocument/2006/relationships/image" Target="../media/image1.wmf"/><Relationship Id="rId54" Type="http://schemas.openxmlformats.org/officeDocument/2006/relationships/image" Target="../media/image2.wmf"/><Relationship Id="rId55" Type="http://schemas.openxmlformats.org/officeDocument/2006/relationships/image" Target="../media/image1.wmf"/><Relationship Id="rId56" Type="http://schemas.openxmlformats.org/officeDocument/2006/relationships/image" Target="../media/image2.wmf"/><Relationship Id="rId57" Type="http://schemas.openxmlformats.org/officeDocument/2006/relationships/image" Target="../media/image1.wmf"/><Relationship Id="rId58" Type="http://schemas.openxmlformats.org/officeDocument/2006/relationships/image" Target="../media/image2.wmf"/><Relationship Id="rId59" Type="http://schemas.openxmlformats.org/officeDocument/2006/relationships/image" Target="../media/image1.wmf"/><Relationship Id="rId60" Type="http://schemas.openxmlformats.org/officeDocument/2006/relationships/image" Target="../media/image2.wmf"/><Relationship Id="rId61" Type="http://schemas.openxmlformats.org/officeDocument/2006/relationships/image" Target="../media/image1.wmf"/><Relationship Id="rId62" Type="http://schemas.openxmlformats.org/officeDocument/2006/relationships/image" Target="../media/image2.wmf"/><Relationship Id="rId63" Type="http://schemas.openxmlformats.org/officeDocument/2006/relationships/image" Target="../media/image1.wmf"/><Relationship Id="rId64" Type="http://schemas.openxmlformats.org/officeDocument/2006/relationships/image" Target="../media/image2.wmf"/><Relationship Id="rId65" Type="http://schemas.openxmlformats.org/officeDocument/2006/relationships/image" Target="../media/image1.wmf"/><Relationship Id="rId66" Type="http://schemas.openxmlformats.org/officeDocument/2006/relationships/image" Target="../media/image2.wmf"/><Relationship Id="rId67" Type="http://schemas.openxmlformats.org/officeDocument/2006/relationships/image" Target="../media/image2.wmf"/><Relationship Id="rId68" Type="http://schemas.openxmlformats.org/officeDocument/2006/relationships/image" Target="../media/image1.wmf"/><Relationship Id="rId69" Type="http://schemas.openxmlformats.org/officeDocument/2006/relationships/image" Target="../media/image1.wmf"/><Relationship Id="rId70" Type="http://schemas.openxmlformats.org/officeDocument/2006/relationships/image" Target="../media/image2.wmf"/><Relationship Id="rId71" Type="http://schemas.openxmlformats.org/officeDocument/2006/relationships/image" Target="../media/image1.wmf"/><Relationship Id="rId72" Type="http://schemas.openxmlformats.org/officeDocument/2006/relationships/image" Target="../media/image2.wmf"/><Relationship Id="rId73" Type="http://schemas.openxmlformats.org/officeDocument/2006/relationships/image" Target="../media/image1.wmf"/><Relationship Id="rId74" Type="http://schemas.openxmlformats.org/officeDocument/2006/relationships/image" Target="../media/image2.wmf"/><Relationship Id="rId75" Type="http://schemas.openxmlformats.org/officeDocument/2006/relationships/image" Target="../media/image1.wmf"/><Relationship Id="rId76" Type="http://schemas.openxmlformats.org/officeDocument/2006/relationships/image" Target="../media/image2.wmf"/><Relationship Id="rId77" Type="http://schemas.openxmlformats.org/officeDocument/2006/relationships/image" Target="../media/image1.wmf"/><Relationship Id="rId78" Type="http://schemas.openxmlformats.org/officeDocument/2006/relationships/image" Target="../media/image2.wmf"/><Relationship Id="rId79" Type="http://schemas.openxmlformats.org/officeDocument/2006/relationships/image" Target="../media/image1.wmf"/><Relationship Id="rId80" Type="http://schemas.openxmlformats.org/officeDocument/2006/relationships/image" Target="../media/image2.wmf"/><Relationship Id="rId81" Type="http://schemas.openxmlformats.org/officeDocument/2006/relationships/image" Target="../media/image1.wmf"/><Relationship Id="rId82" Type="http://schemas.openxmlformats.org/officeDocument/2006/relationships/image" Target="../media/image2.wmf"/><Relationship Id="rId83" Type="http://schemas.openxmlformats.org/officeDocument/2006/relationships/image" Target="../media/image1.wmf"/><Relationship Id="rId84" Type="http://schemas.openxmlformats.org/officeDocument/2006/relationships/image" Target="../media/image2.wmf"/><Relationship Id="rId85" Type="http://schemas.openxmlformats.org/officeDocument/2006/relationships/image" Target="../media/image1.wmf"/><Relationship Id="rId86" Type="http://schemas.openxmlformats.org/officeDocument/2006/relationships/image" Target="../media/image2.wmf"/><Relationship Id="rId87" Type="http://schemas.openxmlformats.org/officeDocument/2006/relationships/image" Target="../media/image1.wmf"/><Relationship Id="rId88" Type="http://schemas.openxmlformats.org/officeDocument/2006/relationships/image" Target="../media/image2.wmf"/><Relationship Id="rId89" Type="http://schemas.openxmlformats.org/officeDocument/2006/relationships/image" Target="../media/image1.wmf"/><Relationship Id="rId90" Type="http://schemas.openxmlformats.org/officeDocument/2006/relationships/image" Target="../media/image2.wmf"/><Relationship Id="rId91" Type="http://schemas.openxmlformats.org/officeDocument/2006/relationships/image" Target="../media/image1.wmf"/><Relationship Id="rId92" Type="http://schemas.openxmlformats.org/officeDocument/2006/relationships/image" Target="../media/image2.wmf"/><Relationship Id="rId93" Type="http://schemas.openxmlformats.org/officeDocument/2006/relationships/image" Target="../media/image1.wmf"/><Relationship Id="rId94" Type="http://schemas.openxmlformats.org/officeDocument/2006/relationships/image" Target="../media/image2.wmf"/><Relationship Id="rId95" Type="http://schemas.openxmlformats.org/officeDocument/2006/relationships/image" Target="../media/image1.wmf"/><Relationship Id="rId96" Type="http://schemas.openxmlformats.org/officeDocument/2006/relationships/image" Target="../media/image2.wmf"/><Relationship Id="rId97" Type="http://schemas.openxmlformats.org/officeDocument/2006/relationships/image" Target="../media/image1.wmf"/><Relationship Id="rId98" Type="http://schemas.openxmlformats.org/officeDocument/2006/relationships/image" Target="../media/image2.wmf"/><Relationship Id="rId99" Type="http://schemas.openxmlformats.org/officeDocument/2006/relationships/image" Target="../media/image1.wmf"/><Relationship Id="rId100" Type="http://schemas.openxmlformats.org/officeDocument/2006/relationships/image" Target="../media/image2.wmf"/><Relationship Id="rId101" Type="http://schemas.openxmlformats.org/officeDocument/2006/relationships/image" Target="../media/image2.wmf"/><Relationship Id="rId102" Type="http://schemas.openxmlformats.org/officeDocument/2006/relationships/image" Target="../media/image1.wmf"/><Relationship Id="rId103" Type="http://schemas.openxmlformats.org/officeDocument/2006/relationships/image" Target="../media/image1.wmf"/><Relationship Id="rId104" Type="http://schemas.openxmlformats.org/officeDocument/2006/relationships/image" Target="../media/image2.wmf"/><Relationship Id="rId105" Type="http://schemas.openxmlformats.org/officeDocument/2006/relationships/image" Target="../media/image1.wmf"/><Relationship Id="rId106" Type="http://schemas.openxmlformats.org/officeDocument/2006/relationships/image" Target="../media/image2.wmf"/><Relationship Id="rId107" Type="http://schemas.openxmlformats.org/officeDocument/2006/relationships/image" Target="../media/image1.wmf"/><Relationship Id="rId108" Type="http://schemas.openxmlformats.org/officeDocument/2006/relationships/image" Target="../media/image2.wmf"/><Relationship Id="rId109" Type="http://schemas.openxmlformats.org/officeDocument/2006/relationships/image" Target="../media/image1.wmf"/><Relationship Id="rId110" Type="http://schemas.openxmlformats.org/officeDocument/2006/relationships/image" Target="../media/image2.wmf"/><Relationship Id="rId111" Type="http://schemas.openxmlformats.org/officeDocument/2006/relationships/image" Target="../media/image1.wmf"/><Relationship Id="rId112" Type="http://schemas.openxmlformats.org/officeDocument/2006/relationships/image" Target="../media/image2.wmf"/><Relationship Id="rId113" Type="http://schemas.openxmlformats.org/officeDocument/2006/relationships/image" Target="../media/image1.wmf"/><Relationship Id="rId114" Type="http://schemas.openxmlformats.org/officeDocument/2006/relationships/image" Target="../media/image2.wmf"/><Relationship Id="rId115" Type="http://schemas.openxmlformats.org/officeDocument/2006/relationships/image" Target="../media/image1.wmf"/><Relationship Id="rId116" Type="http://schemas.openxmlformats.org/officeDocument/2006/relationships/image" Target="../media/image2.wmf"/><Relationship Id="rId117" Type="http://schemas.openxmlformats.org/officeDocument/2006/relationships/image" Target="../media/image1.wmf"/><Relationship Id="rId118" Type="http://schemas.openxmlformats.org/officeDocument/2006/relationships/image" Target="../media/image2.wmf"/><Relationship Id="rId119" Type="http://schemas.openxmlformats.org/officeDocument/2006/relationships/image" Target="../media/image1.wmf"/><Relationship Id="rId120" Type="http://schemas.openxmlformats.org/officeDocument/2006/relationships/image" Target="../media/image2.wmf"/><Relationship Id="rId121" Type="http://schemas.openxmlformats.org/officeDocument/2006/relationships/image" Target="../media/image1.wmf"/><Relationship Id="rId122" Type="http://schemas.openxmlformats.org/officeDocument/2006/relationships/image" Target="../media/image2.wmf"/><Relationship Id="rId123" Type="http://schemas.openxmlformats.org/officeDocument/2006/relationships/image" Target="../media/image1.wmf"/><Relationship Id="rId124" Type="http://schemas.openxmlformats.org/officeDocument/2006/relationships/image" Target="../media/image2.wmf"/><Relationship Id="rId125" Type="http://schemas.openxmlformats.org/officeDocument/2006/relationships/image" Target="../media/image1.wmf"/><Relationship Id="rId126" Type="http://schemas.openxmlformats.org/officeDocument/2006/relationships/image" Target="../media/image2.wmf"/><Relationship Id="rId127" Type="http://schemas.openxmlformats.org/officeDocument/2006/relationships/image" Target="../media/image1.wmf"/><Relationship Id="rId128" Type="http://schemas.openxmlformats.org/officeDocument/2006/relationships/image" Target="../media/image2.wmf"/><Relationship Id="rId129" Type="http://schemas.openxmlformats.org/officeDocument/2006/relationships/image" Target="../media/image1.wmf"/><Relationship Id="rId130" Type="http://schemas.openxmlformats.org/officeDocument/2006/relationships/image" Target="../media/image2.wmf"/><Relationship Id="rId131" Type="http://schemas.openxmlformats.org/officeDocument/2006/relationships/image" Target="../media/image1.wmf"/><Relationship Id="rId132" Type="http://schemas.openxmlformats.org/officeDocument/2006/relationships/image" Target="../media/image2.wmf"/><Relationship Id="rId133" Type="http://schemas.openxmlformats.org/officeDocument/2006/relationships/image" Target="../media/image1.wmf"/><Relationship Id="rId134" Type="http://schemas.openxmlformats.org/officeDocument/2006/relationships/image" Target="../media/image2.wmf"/><Relationship Id="rId135" Type="http://schemas.openxmlformats.org/officeDocument/2006/relationships/image" Target="../media/image2.wmf"/><Relationship Id="rId136" Type="http://schemas.openxmlformats.org/officeDocument/2006/relationships/image" Target="../media/image1.wmf"/><Relationship Id="rId13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br>
              <a:rPr sz="3600"/>
            </a:b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unities of practice and Collaboration with SAP Netweav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Types of Communit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63240" y="1741320"/>
            <a:ext cx="7848360" cy="36360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lping community - forum to help each other solve work probl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st practice community - develop and share best practi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nowledge community - organize and manage a body of knowled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50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novation community - cross organizational collaboration for creative idea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168640" y="4219560"/>
            <a:ext cx="4248000" cy="330120"/>
          </a:xfrm>
          <a:prstGeom prst="flowChartAlternateProcess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Example: Types of Communit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27640" y="3683160"/>
            <a:ext cx="1896840" cy="330120"/>
          </a:xfrm>
          <a:prstGeom prst="flowChartAlternateProcess">
            <a:avLst/>
          </a:prstGeom>
          <a:solidFill>
            <a:srgbClr val="6699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595600" y="2421000"/>
            <a:ext cx="3213000" cy="723960"/>
          </a:xfrm>
          <a:prstGeom prst="triangle">
            <a:avLst>
              <a:gd name="adj" fmla="val 52782"/>
            </a:avLst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124000" y="5421240"/>
            <a:ext cx="2448000" cy="417600"/>
          </a:xfrm>
          <a:prstGeom prst="flowChartAlternateProcess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41680" y="1523880"/>
            <a:ext cx="1406520" cy="609840"/>
          </a:xfrm>
          <a:prstGeom prst="roundRect">
            <a:avLst>
              <a:gd name="adj" fmla="val 50000"/>
            </a:avLst>
          </a:prstGeom>
          <a:solidFill>
            <a:srgbClr val="eaeaea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541680" y="2538360"/>
            <a:ext cx="14065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97360" y="4792680"/>
            <a:ext cx="754200" cy="981000"/>
          </a:xfrm>
          <a:custGeom>
            <a:avLst/>
            <a:gdLst>
              <a:gd name="textAreaLeft" fmla="*/ 36720 w 754200"/>
              <a:gd name="textAreaRight" fmla="*/ 717480 w 75420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92">
                <a:moveTo>
                  <a:pt x="3600" y="0"/>
                </a:moveTo>
                <a:arcTo wR="3600" hR="3600" stAng="16200000" swAng="-5400000"/>
                <a:lnTo>
                  <a:pt x="0" y="24492"/>
                </a:lnTo>
                <a:arcTo wR="3600" hR="3600" stAng="10800000" swAng="-5400000"/>
                <a:lnTo>
                  <a:pt x="18000" y="28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18960" y="2475000"/>
            <a:ext cx="1548000" cy="725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nfo Sha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1200" y="3362400"/>
            <a:ext cx="1625760" cy="1006560"/>
          </a:xfrm>
          <a:prstGeom prst="rect">
            <a:avLst/>
          </a:prstGeom>
          <a:gradFill rotWithShape="0">
            <a:gsLst>
              <a:gs pos="0">
                <a:srgbClr val="f9fafe"/>
              </a:gs>
              <a:gs pos="50000">
                <a:srgbClr val="6699ff"/>
              </a:gs>
              <a:gs pos="100000">
                <a:srgbClr val="f9fa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Software Development  for electronical de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8960" y="5292720"/>
            <a:ext cx="1548000" cy="64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6699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CoP Excellence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594480" y="2070000"/>
            <a:ext cx="2270160" cy="1170000"/>
          </a:xfrm>
          <a:custGeom>
            <a:avLst/>
            <a:gdLst>
              <a:gd name="textAreaLeft" fmla="*/ 0 w 2270160"/>
              <a:gd name="textAreaRight" fmla="*/ 2270160 w 2270160"/>
              <a:gd name="textAreaTop" fmla="*/ 0 h 1170000"/>
              <a:gd name="textAreaBottom" fmla="*/ 1170360 h 117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5" y="0"/>
                </a:lnTo>
                <a:lnTo>
                  <a:pt x="21600" y="10800"/>
                </a:lnTo>
                <a:lnTo>
                  <a:pt x="185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3200" bIns="43200" anchor="ctr">
            <a:noAutofit/>
          </a:bodyPr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. commun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er Relation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procee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6644520" y="3755880"/>
            <a:ext cx="2109960" cy="892440"/>
          </a:xfrm>
          <a:custGeom>
            <a:avLst/>
            <a:gdLst>
              <a:gd name="textAreaLeft" fmla="*/ -360 w 2109960"/>
              <a:gd name="textAreaRight" fmla="*/ 2109960 w 2109960"/>
              <a:gd name="textAreaTop" fmla="*/ 0 h 892440"/>
              <a:gd name="textAreaBottom" fmla="*/ 892800 h 89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65" y="0"/>
                </a:lnTo>
                <a:lnTo>
                  <a:pt x="21600" y="10800"/>
                </a:lnTo>
                <a:lnTo>
                  <a:pt x="1886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3200" bIns="43200" anchor="ctr">
            <a:noAutofit/>
          </a:bodyPr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ert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6644520" y="5160960"/>
            <a:ext cx="2109960" cy="706320"/>
          </a:xfrm>
          <a:custGeom>
            <a:avLst/>
            <a:gdLst>
              <a:gd name="textAreaLeft" fmla="*/ -360 w 2109960"/>
              <a:gd name="textAreaRight" fmla="*/ 2109960 w 2109960"/>
              <a:gd name="textAreaTop" fmla="*/ 0 h 706320"/>
              <a:gd name="textAreaBottom" fmla="*/ 706680 h 706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43" y="0"/>
                </a:lnTo>
                <a:lnTo>
                  <a:pt x="21600" y="10800"/>
                </a:lnTo>
                <a:lnTo>
                  <a:pt x="193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70000" rIns="90000" tIns="43200" bIns="43200" anchor="ctr">
            <a:noAutofit/>
          </a:bodyPr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st Practice Sha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78000" indent="-195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lem sol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37080" y="3414600"/>
            <a:ext cx="102420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79720" y="4792680"/>
            <a:ext cx="754200" cy="981000"/>
          </a:xfrm>
          <a:custGeom>
            <a:avLst/>
            <a:gdLst>
              <a:gd name="textAreaLeft" fmla="*/ 36720 w 754200"/>
              <a:gd name="textAreaRight" fmla="*/ 717480 w 75420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92">
                <a:moveTo>
                  <a:pt x="3600" y="0"/>
                </a:moveTo>
                <a:arcTo wR="3600" hR="3600" stAng="16200000" swAng="-5400000"/>
                <a:lnTo>
                  <a:pt x="0" y="24492"/>
                </a:lnTo>
                <a:arcTo wR="3600" hR="3600" stAng="10800000" swAng="-5400000"/>
                <a:lnTo>
                  <a:pt x="18000" y="28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62440" y="4792680"/>
            <a:ext cx="755640" cy="981000"/>
          </a:xfrm>
          <a:custGeom>
            <a:avLst/>
            <a:gdLst>
              <a:gd name="textAreaLeft" fmla="*/ 36720 w 755640"/>
              <a:gd name="textAreaRight" fmla="*/ 718920 w 75564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39">
                <a:moveTo>
                  <a:pt x="3600" y="0"/>
                </a:moveTo>
                <a:arcTo wR="3600" hR="3600" stAng="16200000" swAng="-5400000"/>
                <a:lnTo>
                  <a:pt x="0" y="24439"/>
                </a:lnTo>
                <a:arcTo wR="3600" hR="3600" stAng="10800000" swAng="-5400000"/>
                <a:lnTo>
                  <a:pt x="18000" y="280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46240" y="4792680"/>
            <a:ext cx="755640" cy="981000"/>
          </a:xfrm>
          <a:custGeom>
            <a:avLst/>
            <a:gdLst>
              <a:gd name="textAreaLeft" fmla="*/ 36720 w 755640"/>
              <a:gd name="textAreaRight" fmla="*/ 718920 w 75564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39">
                <a:moveTo>
                  <a:pt x="3600" y="0"/>
                </a:moveTo>
                <a:arcTo wR="3600" hR="3600" stAng="16200000" swAng="-5400000"/>
                <a:lnTo>
                  <a:pt x="0" y="24439"/>
                </a:lnTo>
                <a:arcTo wR="3600" hR="3600" stAng="10800000" swAng="-5400000"/>
                <a:lnTo>
                  <a:pt x="18000" y="280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715000" y="4792680"/>
            <a:ext cx="754200" cy="981000"/>
          </a:xfrm>
          <a:custGeom>
            <a:avLst/>
            <a:gdLst>
              <a:gd name="textAreaLeft" fmla="*/ 36720 w 754200"/>
              <a:gd name="textAreaRight" fmla="*/ 717480 w 754200"/>
              <a:gd name="textAreaTop" fmla="*/ 36720 h 981000"/>
              <a:gd name="textAreaBottom" fmla="*/ 944280 h 981000"/>
            </a:gdLst>
            <a:ahLst/>
            <a:rect l="textAreaLeft" t="textAreaTop" r="textAreaRight" b="textAreaBottom"/>
            <a:pathLst>
              <a:path w="21600" h="28092">
                <a:moveTo>
                  <a:pt x="3600" y="0"/>
                </a:moveTo>
                <a:arcTo wR="3600" hR="3600" stAng="16200000" swAng="-5400000"/>
                <a:lnTo>
                  <a:pt x="0" y="24492"/>
                </a:lnTo>
                <a:arcTo wR="3600" hR="3600" stAng="10800000" swAng="-5400000"/>
                <a:lnTo>
                  <a:pt x="18000" y="2809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311720" y="3408480"/>
            <a:ext cx="10238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86000" y="3432240"/>
            <a:ext cx="102420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060640" y="3429000"/>
            <a:ext cx="10238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079960" y="2538360"/>
            <a:ext cx="14065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38320" y="2538360"/>
            <a:ext cx="14065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43080" y="4390920"/>
            <a:ext cx="1468080" cy="681120"/>
          </a:xfrm>
          <a:prstGeom prst="rect">
            <a:avLst/>
          </a:prstGeom>
          <a:gradFill rotWithShape="0">
            <a:gsLst>
              <a:gs pos="0">
                <a:srgbClr val="f9fafe"/>
              </a:gs>
              <a:gs pos="50000">
                <a:srgbClr val="6699ff"/>
              </a:gs>
              <a:gs pos="100000">
                <a:srgbClr val="f9fa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P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ens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mmunities of Practice and Technolog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66760" y="1498680"/>
            <a:ext cx="801360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00" indent="-324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pport weaknesses, exploit str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se what the technology supports well and what it doesn’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more than one 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many means of communication. Don’t limit yourself to just 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"/>
          <p:cNvGrpSpPr/>
          <p:nvPr/>
        </p:nvGrpSpPr>
        <p:grpSpPr>
          <a:xfrm>
            <a:off x="609480" y="1955880"/>
            <a:ext cx="7010280" cy="4190400"/>
            <a:chOff x="609480" y="1955880"/>
            <a:chExt cx="7010280" cy="4190400"/>
          </a:xfrm>
        </p:grpSpPr>
        <p:sp>
          <p:nvSpPr>
            <p:cNvPr id="316" name=""/>
            <p:cNvSpPr/>
            <p:nvPr/>
          </p:nvSpPr>
          <p:spPr>
            <a:xfrm>
              <a:off x="6132960" y="2661120"/>
              <a:ext cx="482400" cy="366840"/>
            </a:xfrm>
            <a:custGeom>
              <a:avLst/>
              <a:gdLst/>
              <a:ahLst/>
              <a:rect l="l" t="t" r="r" b="b"/>
              <a:pathLst>
                <a:path w="297" h="289">
                  <a:moveTo>
                    <a:pt x="297" y="0"/>
                  </a:moveTo>
                  <a:lnTo>
                    <a:pt x="0" y="164"/>
                  </a:lnTo>
                  <a:lnTo>
                    <a:pt x="297" y="289"/>
                  </a:lnTo>
                  <a:lnTo>
                    <a:pt x="297" y="0"/>
                  </a:lnTo>
                  <a:lnTo>
                    <a:pt x="29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48280" y="2239200"/>
              <a:ext cx="3152520" cy="1697400"/>
            </a:xfrm>
            <a:custGeom>
              <a:avLst/>
              <a:gdLst/>
              <a:ahLst/>
              <a:rect l="l" t="t" r="r" b="b"/>
              <a:pathLst>
                <a:path w="1940" h="1336">
                  <a:moveTo>
                    <a:pt x="971" y="1336"/>
                  </a:moveTo>
                  <a:lnTo>
                    <a:pt x="996" y="1333"/>
                  </a:lnTo>
                  <a:lnTo>
                    <a:pt x="1020" y="1333"/>
                  </a:lnTo>
                  <a:lnTo>
                    <a:pt x="1045" y="1333"/>
                  </a:lnTo>
                  <a:lnTo>
                    <a:pt x="1069" y="1331"/>
                  </a:lnTo>
                  <a:lnTo>
                    <a:pt x="1091" y="1328"/>
                  </a:lnTo>
                  <a:lnTo>
                    <a:pt x="1115" y="1325"/>
                  </a:lnTo>
                  <a:lnTo>
                    <a:pt x="1140" y="1323"/>
                  </a:lnTo>
                  <a:lnTo>
                    <a:pt x="1167" y="1320"/>
                  </a:lnTo>
                  <a:lnTo>
                    <a:pt x="1189" y="1314"/>
                  </a:lnTo>
                  <a:lnTo>
                    <a:pt x="1211" y="1312"/>
                  </a:lnTo>
                  <a:lnTo>
                    <a:pt x="1235" y="1306"/>
                  </a:lnTo>
                  <a:lnTo>
                    <a:pt x="1260" y="1304"/>
                  </a:lnTo>
                  <a:lnTo>
                    <a:pt x="1279" y="1295"/>
                  </a:lnTo>
                  <a:lnTo>
                    <a:pt x="1303" y="1293"/>
                  </a:lnTo>
                  <a:lnTo>
                    <a:pt x="1325" y="1284"/>
                  </a:lnTo>
                  <a:lnTo>
                    <a:pt x="1347" y="1282"/>
                  </a:lnTo>
                  <a:lnTo>
                    <a:pt x="1368" y="1274"/>
                  </a:lnTo>
                  <a:lnTo>
                    <a:pt x="1390" y="1265"/>
                  </a:lnTo>
                  <a:lnTo>
                    <a:pt x="1409" y="1257"/>
                  </a:lnTo>
                  <a:lnTo>
                    <a:pt x="1431" y="1252"/>
                  </a:lnTo>
                  <a:lnTo>
                    <a:pt x="1450" y="1241"/>
                  </a:lnTo>
                  <a:lnTo>
                    <a:pt x="1472" y="1236"/>
                  </a:lnTo>
                  <a:lnTo>
                    <a:pt x="1491" y="1227"/>
                  </a:lnTo>
                  <a:lnTo>
                    <a:pt x="1513" y="1219"/>
                  </a:lnTo>
                  <a:lnTo>
                    <a:pt x="1529" y="1208"/>
                  </a:lnTo>
                  <a:lnTo>
                    <a:pt x="1548" y="1200"/>
                  </a:lnTo>
                  <a:lnTo>
                    <a:pt x="1567" y="1189"/>
                  </a:lnTo>
                  <a:lnTo>
                    <a:pt x="1586" y="1181"/>
                  </a:lnTo>
                  <a:lnTo>
                    <a:pt x="1603" y="1170"/>
                  </a:lnTo>
                  <a:lnTo>
                    <a:pt x="1619" y="1159"/>
                  </a:lnTo>
                  <a:lnTo>
                    <a:pt x="1638" y="1148"/>
                  </a:lnTo>
                  <a:lnTo>
                    <a:pt x="1654" y="1138"/>
                  </a:lnTo>
                  <a:lnTo>
                    <a:pt x="1671" y="1127"/>
                  </a:lnTo>
                  <a:lnTo>
                    <a:pt x="1687" y="1113"/>
                  </a:lnTo>
                  <a:lnTo>
                    <a:pt x="1700" y="1102"/>
                  </a:lnTo>
                  <a:lnTo>
                    <a:pt x="1717" y="1091"/>
                  </a:lnTo>
                  <a:lnTo>
                    <a:pt x="1730" y="1078"/>
                  </a:lnTo>
                  <a:lnTo>
                    <a:pt x="1744" y="1064"/>
                  </a:lnTo>
                  <a:lnTo>
                    <a:pt x="1758" y="1051"/>
                  </a:lnTo>
                  <a:lnTo>
                    <a:pt x="1771" y="1040"/>
                  </a:lnTo>
                  <a:lnTo>
                    <a:pt x="1785" y="1023"/>
                  </a:lnTo>
                  <a:lnTo>
                    <a:pt x="1798" y="1010"/>
                  </a:lnTo>
                  <a:lnTo>
                    <a:pt x="1809" y="996"/>
                  </a:lnTo>
                  <a:lnTo>
                    <a:pt x="1823" y="983"/>
                  </a:lnTo>
                  <a:lnTo>
                    <a:pt x="1834" y="966"/>
                  </a:lnTo>
                  <a:lnTo>
                    <a:pt x="1845" y="953"/>
                  </a:lnTo>
                  <a:lnTo>
                    <a:pt x="1853" y="939"/>
                  </a:lnTo>
                  <a:lnTo>
                    <a:pt x="1864" y="925"/>
                  </a:lnTo>
                  <a:lnTo>
                    <a:pt x="1872" y="909"/>
                  </a:lnTo>
                  <a:lnTo>
                    <a:pt x="1880" y="895"/>
                  </a:lnTo>
                  <a:lnTo>
                    <a:pt x="1888" y="876"/>
                  </a:lnTo>
                  <a:lnTo>
                    <a:pt x="1896" y="863"/>
                  </a:lnTo>
                  <a:lnTo>
                    <a:pt x="1902" y="846"/>
                  </a:lnTo>
                  <a:lnTo>
                    <a:pt x="1907" y="830"/>
                  </a:lnTo>
                  <a:lnTo>
                    <a:pt x="1915" y="817"/>
                  </a:lnTo>
                  <a:lnTo>
                    <a:pt x="1921" y="800"/>
                  </a:lnTo>
                  <a:lnTo>
                    <a:pt x="1924" y="784"/>
                  </a:lnTo>
                  <a:lnTo>
                    <a:pt x="1929" y="768"/>
                  </a:lnTo>
                  <a:lnTo>
                    <a:pt x="1932" y="749"/>
                  </a:lnTo>
                  <a:lnTo>
                    <a:pt x="1935" y="735"/>
                  </a:lnTo>
                  <a:lnTo>
                    <a:pt x="1937" y="716"/>
                  </a:lnTo>
                  <a:lnTo>
                    <a:pt x="1937" y="700"/>
                  </a:lnTo>
                  <a:lnTo>
                    <a:pt x="1940" y="683"/>
                  </a:lnTo>
                  <a:lnTo>
                    <a:pt x="1940" y="667"/>
                  </a:lnTo>
                  <a:lnTo>
                    <a:pt x="1940" y="648"/>
                  </a:lnTo>
                  <a:lnTo>
                    <a:pt x="1937" y="632"/>
                  </a:lnTo>
                  <a:lnTo>
                    <a:pt x="1937" y="615"/>
                  </a:lnTo>
                  <a:lnTo>
                    <a:pt x="1935" y="599"/>
                  </a:lnTo>
                  <a:lnTo>
                    <a:pt x="1932" y="580"/>
                  </a:lnTo>
                  <a:lnTo>
                    <a:pt x="1929" y="564"/>
                  </a:lnTo>
                  <a:lnTo>
                    <a:pt x="1924" y="547"/>
                  </a:lnTo>
                  <a:lnTo>
                    <a:pt x="1921" y="531"/>
                  </a:lnTo>
                  <a:lnTo>
                    <a:pt x="1915" y="515"/>
                  </a:lnTo>
                  <a:lnTo>
                    <a:pt x="1907" y="498"/>
                  </a:lnTo>
                  <a:lnTo>
                    <a:pt x="1902" y="482"/>
                  </a:lnTo>
                  <a:lnTo>
                    <a:pt x="1896" y="466"/>
                  </a:lnTo>
                  <a:lnTo>
                    <a:pt x="1888" y="452"/>
                  </a:lnTo>
                  <a:lnTo>
                    <a:pt x="1880" y="436"/>
                  </a:lnTo>
                  <a:lnTo>
                    <a:pt x="1872" y="422"/>
                  </a:lnTo>
                  <a:lnTo>
                    <a:pt x="1864" y="408"/>
                  </a:lnTo>
                  <a:lnTo>
                    <a:pt x="1853" y="392"/>
                  </a:lnTo>
                  <a:lnTo>
                    <a:pt x="1845" y="376"/>
                  </a:lnTo>
                  <a:lnTo>
                    <a:pt x="1834" y="362"/>
                  </a:lnTo>
                  <a:lnTo>
                    <a:pt x="1823" y="349"/>
                  </a:lnTo>
                  <a:lnTo>
                    <a:pt x="1809" y="335"/>
                  </a:lnTo>
                  <a:lnTo>
                    <a:pt x="1798" y="319"/>
                  </a:lnTo>
                  <a:lnTo>
                    <a:pt x="1785" y="305"/>
                  </a:lnTo>
                  <a:lnTo>
                    <a:pt x="1771" y="294"/>
                  </a:lnTo>
                  <a:lnTo>
                    <a:pt x="1758" y="281"/>
                  </a:lnTo>
                  <a:lnTo>
                    <a:pt x="1744" y="267"/>
                  </a:lnTo>
                  <a:lnTo>
                    <a:pt x="1730" y="253"/>
                  </a:lnTo>
                  <a:lnTo>
                    <a:pt x="1717" y="243"/>
                  </a:lnTo>
                  <a:lnTo>
                    <a:pt x="1700" y="229"/>
                  </a:lnTo>
                  <a:lnTo>
                    <a:pt x="1687" y="218"/>
                  </a:lnTo>
                  <a:lnTo>
                    <a:pt x="1671" y="204"/>
                  </a:lnTo>
                  <a:lnTo>
                    <a:pt x="1654" y="196"/>
                  </a:lnTo>
                  <a:lnTo>
                    <a:pt x="1638" y="183"/>
                  </a:lnTo>
                  <a:lnTo>
                    <a:pt x="1619" y="172"/>
                  </a:lnTo>
                  <a:lnTo>
                    <a:pt x="1603" y="161"/>
                  </a:lnTo>
                  <a:lnTo>
                    <a:pt x="1586" y="153"/>
                  </a:lnTo>
                  <a:lnTo>
                    <a:pt x="1567" y="142"/>
                  </a:lnTo>
                  <a:lnTo>
                    <a:pt x="1548" y="131"/>
                  </a:lnTo>
                  <a:lnTo>
                    <a:pt x="1529" y="123"/>
                  </a:lnTo>
                  <a:lnTo>
                    <a:pt x="1513" y="115"/>
                  </a:lnTo>
                  <a:lnTo>
                    <a:pt x="1491" y="104"/>
                  </a:lnTo>
                  <a:lnTo>
                    <a:pt x="1472" y="96"/>
                  </a:lnTo>
                  <a:lnTo>
                    <a:pt x="1450" y="87"/>
                  </a:lnTo>
                  <a:lnTo>
                    <a:pt x="1431" y="79"/>
                  </a:lnTo>
                  <a:lnTo>
                    <a:pt x="1409" y="71"/>
                  </a:lnTo>
                  <a:lnTo>
                    <a:pt x="1390" y="66"/>
                  </a:lnTo>
                  <a:lnTo>
                    <a:pt x="1368" y="58"/>
                  </a:lnTo>
                  <a:lnTo>
                    <a:pt x="1347" y="52"/>
                  </a:lnTo>
                  <a:lnTo>
                    <a:pt x="1325" y="44"/>
                  </a:lnTo>
                  <a:lnTo>
                    <a:pt x="1303" y="39"/>
                  </a:lnTo>
                  <a:lnTo>
                    <a:pt x="1279" y="33"/>
                  </a:lnTo>
                  <a:lnTo>
                    <a:pt x="1260" y="30"/>
                  </a:lnTo>
                  <a:lnTo>
                    <a:pt x="1235" y="25"/>
                  </a:lnTo>
                  <a:lnTo>
                    <a:pt x="1211" y="19"/>
                  </a:lnTo>
                  <a:lnTo>
                    <a:pt x="1189" y="17"/>
                  </a:lnTo>
                  <a:lnTo>
                    <a:pt x="1167" y="14"/>
                  </a:lnTo>
                  <a:lnTo>
                    <a:pt x="1140" y="9"/>
                  </a:lnTo>
                  <a:lnTo>
                    <a:pt x="1115" y="9"/>
                  </a:lnTo>
                  <a:lnTo>
                    <a:pt x="1091" y="6"/>
                  </a:lnTo>
                  <a:lnTo>
                    <a:pt x="1069" y="6"/>
                  </a:lnTo>
                  <a:lnTo>
                    <a:pt x="1045" y="0"/>
                  </a:lnTo>
                  <a:lnTo>
                    <a:pt x="1020" y="0"/>
                  </a:lnTo>
                  <a:lnTo>
                    <a:pt x="996" y="0"/>
                  </a:lnTo>
                  <a:lnTo>
                    <a:pt x="971" y="0"/>
                  </a:lnTo>
                  <a:lnTo>
                    <a:pt x="944" y="0"/>
                  </a:lnTo>
                  <a:lnTo>
                    <a:pt x="919" y="0"/>
                  </a:lnTo>
                  <a:lnTo>
                    <a:pt x="895" y="0"/>
                  </a:lnTo>
                  <a:lnTo>
                    <a:pt x="870" y="6"/>
                  </a:lnTo>
                  <a:lnTo>
                    <a:pt x="846" y="6"/>
                  </a:lnTo>
                  <a:lnTo>
                    <a:pt x="821" y="9"/>
                  </a:lnTo>
                  <a:lnTo>
                    <a:pt x="797" y="9"/>
                  </a:lnTo>
                  <a:lnTo>
                    <a:pt x="775" y="14"/>
                  </a:lnTo>
                  <a:lnTo>
                    <a:pt x="751" y="17"/>
                  </a:lnTo>
                  <a:lnTo>
                    <a:pt x="726" y="19"/>
                  </a:lnTo>
                  <a:lnTo>
                    <a:pt x="704" y="25"/>
                  </a:lnTo>
                  <a:lnTo>
                    <a:pt x="680" y="30"/>
                  </a:lnTo>
                  <a:lnTo>
                    <a:pt x="658" y="33"/>
                  </a:lnTo>
                  <a:lnTo>
                    <a:pt x="634" y="39"/>
                  </a:lnTo>
                  <a:lnTo>
                    <a:pt x="612" y="44"/>
                  </a:lnTo>
                  <a:lnTo>
                    <a:pt x="593" y="52"/>
                  </a:lnTo>
                  <a:lnTo>
                    <a:pt x="568" y="58"/>
                  </a:lnTo>
                  <a:lnTo>
                    <a:pt x="549" y="66"/>
                  </a:lnTo>
                  <a:lnTo>
                    <a:pt x="528" y="71"/>
                  </a:lnTo>
                  <a:lnTo>
                    <a:pt x="506" y="79"/>
                  </a:lnTo>
                  <a:lnTo>
                    <a:pt x="484" y="87"/>
                  </a:lnTo>
                  <a:lnTo>
                    <a:pt x="465" y="96"/>
                  </a:lnTo>
                  <a:lnTo>
                    <a:pt x="446" y="104"/>
                  </a:lnTo>
                  <a:lnTo>
                    <a:pt x="427" y="115"/>
                  </a:lnTo>
                  <a:lnTo>
                    <a:pt x="408" y="123"/>
                  </a:lnTo>
                  <a:lnTo>
                    <a:pt x="389" y="131"/>
                  </a:lnTo>
                  <a:lnTo>
                    <a:pt x="370" y="142"/>
                  </a:lnTo>
                  <a:lnTo>
                    <a:pt x="353" y="153"/>
                  </a:lnTo>
                  <a:lnTo>
                    <a:pt x="334" y="161"/>
                  </a:lnTo>
                  <a:lnTo>
                    <a:pt x="315" y="172"/>
                  </a:lnTo>
                  <a:lnTo>
                    <a:pt x="299" y="183"/>
                  </a:lnTo>
                  <a:lnTo>
                    <a:pt x="285" y="196"/>
                  </a:lnTo>
                  <a:lnTo>
                    <a:pt x="266" y="204"/>
                  </a:lnTo>
                  <a:lnTo>
                    <a:pt x="250" y="218"/>
                  </a:lnTo>
                  <a:lnTo>
                    <a:pt x="234" y="229"/>
                  </a:lnTo>
                  <a:lnTo>
                    <a:pt x="220" y="243"/>
                  </a:lnTo>
                  <a:lnTo>
                    <a:pt x="204" y="253"/>
                  </a:lnTo>
                  <a:lnTo>
                    <a:pt x="190" y="267"/>
                  </a:lnTo>
                  <a:lnTo>
                    <a:pt x="176" y="281"/>
                  </a:lnTo>
                  <a:lnTo>
                    <a:pt x="163" y="294"/>
                  </a:lnTo>
                  <a:lnTo>
                    <a:pt x="149" y="305"/>
                  </a:lnTo>
                  <a:lnTo>
                    <a:pt x="138" y="319"/>
                  </a:lnTo>
                  <a:lnTo>
                    <a:pt x="125" y="335"/>
                  </a:lnTo>
                  <a:lnTo>
                    <a:pt x="114" y="349"/>
                  </a:lnTo>
                  <a:lnTo>
                    <a:pt x="103" y="362"/>
                  </a:lnTo>
                  <a:lnTo>
                    <a:pt x="92" y="376"/>
                  </a:lnTo>
                  <a:lnTo>
                    <a:pt x="84" y="392"/>
                  </a:lnTo>
                  <a:lnTo>
                    <a:pt x="73" y="408"/>
                  </a:lnTo>
                  <a:lnTo>
                    <a:pt x="65" y="422"/>
                  </a:lnTo>
                  <a:lnTo>
                    <a:pt x="57" y="436"/>
                  </a:lnTo>
                  <a:lnTo>
                    <a:pt x="46" y="452"/>
                  </a:lnTo>
                  <a:lnTo>
                    <a:pt x="40" y="466"/>
                  </a:lnTo>
                  <a:lnTo>
                    <a:pt x="32" y="482"/>
                  </a:lnTo>
                  <a:lnTo>
                    <a:pt x="27" y="498"/>
                  </a:lnTo>
                  <a:lnTo>
                    <a:pt x="21" y="515"/>
                  </a:lnTo>
                  <a:lnTo>
                    <a:pt x="16" y="531"/>
                  </a:lnTo>
                  <a:lnTo>
                    <a:pt x="13" y="547"/>
                  </a:lnTo>
                  <a:lnTo>
                    <a:pt x="8" y="564"/>
                  </a:lnTo>
                  <a:lnTo>
                    <a:pt x="5" y="580"/>
                  </a:lnTo>
                  <a:lnTo>
                    <a:pt x="2" y="599"/>
                  </a:lnTo>
                  <a:lnTo>
                    <a:pt x="0" y="615"/>
                  </a:lnTo>
                  <a:lnTo>
                    <a:pt x="0" y="632"/>
                  </a:lnTo>
                  <a:lnTo>
                    <a:pt x="0" y="648"/>
                  </a:lnTo>
                  <a:lnTo>
                    <a:pt x="0" y="667"/>
                  </a:lnTo>
                  <a:lnTo>
                    <a:pt x="0" y="683"/>
                  </a:lnTo>
                  <a:lnTo>
                    <a:pt x="0" y="700"/>
                  </a:lnTo>
                  <a:lnTo>
                    <a:pt x="0" y="716"/>
                  </a:lnTo>
                  <a:lnTo>
                    <a:pt x="2" y="735"/>
                  </a:lnTo>
                  <a:lnTo>
                    <a:pt x="5" y="749"/>
                  </a:lnTo>
                  <a:lnTo>
                    <a:pt x="8" y="768"/>
                  </a:lnTo>
                  <a:lnTo>
                    <a:pt x="13" y="784"/>
                  </a:lnTo>
                  <a:lnTo>
                    <a:pt x="16" y="800"/>
                  </a:lnTo>
                  <a:lnTo>
                    <a:pt x="21" y="817"/>
                  </a:lnTo>
                  <a:lnTo>
                    <a:pt x="27" y="830"/>
                  </a:lnTo>
                  <a:lnTo>
                    <a:pt x="32" y="846"/>
                  </a:lnTo>
                  <a:lnTo>
                    <a:pt x="40" y="863"/>
                  </a:lnTo>
                  <a:lnTo>
                    <a:pt x="46" y="876"/>
                  </a:lnTo>
                  <a:lnTo>
                    <a:pt x="57" y="895"/>
                  </a:lnTo>
                  <a:lnTo>
                    <a:pt x="65" y="909"/>
                  </a:lnTo>
                  <a:lnTo>
                    <a:pt x="73" y="925"/>
                  </a:lnTo>
                  <a:lnTo>
                    <a:pt x="84" y="939"/>
                  </a:lnTo>
                  <a:lnTo>
                    <a:pt x="92" y="953"/>
                  </a:lnTo>
                  <a:lnTo>
                    <a:pt x="103" y="966"/>
                  </a:lnTo>
                  <a:lnTo>
                    <a:pt x="114" y="983"/>
                  </a:lnTo>
                  <a:lnTo>
                    <a:pt x="125" y="996"/>
                  </a:lnTo>
                  <a:lnTo>
                    <a:pt x="138" y="1010"/>
                  </a:lnTo>
                  <a:lnTo>
                    <a:pt x="149" y="1023"/>
                  </a:lnTo>
                  <a:lnTo>
                    <a:pt x="163" y="1040"/>
                  </a:lnTo>
                  <a:lnTo>
                    <a:pt x="176" y="1051"/>
                  </a:lnTo>
                  <a:lnTo>
                    <a:pt x="190" y="1064"/>
                  </a:lnTo>
                  <a:lnTo>
                    <a:pt x="204" y="1078"/>
                  </a:lnTo>
                  <a:lnTo>
                    <a:pt x="220" y="1091"/>
                  </a:lnTo>
                  <a:lnTo>
                    <a:pt x="234" y="1102"/>
                  </a:lnTo>
                  <a:lnTo>
                    <a:pt x="250" y="1113"/>
                  </a:lnTo>
                  <a:lnTo>
                    <a:pt x="266" y="1127"/>
                  </a:lnTo>
                  <a:lnTo>
                    <a:pt x="285" y="1138"/>
                  </a:lnTo>
                  <a:lnTo>
                    <a:pt x="299" y="1148"/>
                  </a:lnTo>
                  <a:lnTo>
                    <a:pt x="315" y="1159"/>
                  </a:lnTo>
                  <a:lnTo>
                    <a:pt x="334" y="1170"/>
                  </a:lnTo>
                  <a:lnTo>
                    <a:pt x="353" y="1181"/>
                  </a:lnTo>
                  <a:lnTo>
                    <a:pt x="370" y="1189"/>
                  </a:lnTo>
                  <a:lnTo>
                    <a:pt x="389" y="1200"/>
                  </a:lnTo>
                  <a:lnTo>
                    <a:pt x="408" y="1208"/>
                  </a:lnTo>
                  <a:lnTo>
                    <a:pt x="427" y="1219"/>
                  </a:lnTo>
                  <a:lnTo>
                    <a:pt x="446" y="1227"/>
                  </a:lnTo>
                  <a:lnTo>
                    <a:pt x="465" y="1236"/>
                  </a:lnTo>
                  <a:lnTo>
                    <a:pt x="484" y="1241"/>
                  </a:lnTo>
                  <a:lnTo>
                    <a:pt x="506" y="1252"/>
                  </a:lnTo>
                  <a:lnTo>
                    <a:pt x="528" y="1257"/>
                  </a:lnTo>
                  <a:lnTo>
                    <a:pt x="549" y="1265"/>
                  </a:lnTo>
                  <a:lnTo>
                    <a:pt x="568" y="1274"/>
                  </a:lnTo>
                  <a:lnTo>
                    <a:pt x="593" y="1282"/>
                  </a:lnTo>
                  <a:lnTo>
                    <a:pt x="612" y="1284"/>
                  </a:lnTo>
                  <a:lnTo>
                    <a:pt x="634" y="1293"/>
                  </a:lnTo>
                  <a:lnTo>
                    <a:pt x="658" y="1295"/>
                  </a:lnTo>
                  <a:lnTo>
                    <a:pt x="680" y="1304"/>
                  </a:lnTo>
                  <a:lnTo>
                    <a:pt x="704" y="1306"/>
                  </a:lnTo>
                  <a:lnTo>
                    <a:pt x="726" y="1312"/>
                  </a:lnTo>
                  <a:lnTo>
                    <a:pt x="751" y="1314"/>
                  </a:lnTo>
                  <a:lnTo>
                    <a:pt x="775" y="1320"/>
                  </a:lnTo>
                  <a:lnTo>
                    <a:pt x="797" y="1323"/>
                  </a:lnTo>
                  <a:lnTo>
                    <a:pt x="821" y="1325"/>
                  </a:lnTo>
                  <a:lnTo>
                    <a:pt x="846" y="1328"/>
                  </a:lnTo>
                  <a:lnTo>
                    <a:pt x="870" y="1331"/>
                  </a:lnTo>
                  <a:lnTo>
                    <a:pt x="895" y="1333"/>
                  </a:lnTo>
                  <a:lnTo>
                    <a:pt x="919" y="1333"/>
                  </a:lnTo>
                  <a:lnTo>
                    <a:pt x="944" y="1333"/>
                  </a:lnTo>
                  <a:lnTo>
                    <a:pt x="971" y="1336"/>
                  </a:lnTo>
                  <a:lnTo>
                    <a:pt x="971" y="1336"/>
                  </a:lnTo>
                  <a:close/>
                </a:path>
              </a:pathLst>
            </a:custGeom>
            <a:solidFill>
              <a:srgbClr val="3d2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16040" y="2809800"/>
              <a:ext cx="2856600" cy="204480"/>
            </a:xfrm>
            <a:custGeom>
              <a:avLst/>
              <a:gdLst/>
              <a:ahLst/>
              <a:rect l="l" t="t" r="r" b="b"/>
              <a:pathLst>
                <a:path w="1758" h="161">
                  <a:moveTo>
                    <a:pt x="98" y="8"/>
                  </a:moveTo>
                  <a:lnTo>
                    <a:pt x="1714" y="0"/>
                  </a:lnTo>
                  <a:lnTo>
                    <a:pt x="1758" y="161"/>
                  </a:lnTo>
                  <a:lnTo>
                    <a:pt x="0" y="147"/>
                  </a:lnTo>
                  <a:lnTo>
                    <a:pt x="98" y="8"/>
                  </a:lnTo>
                  <a:lnTo>
                    <a:pt x="9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436120" y="3345840"/>
              <a:ext cx="2958840" cy="598320"/>
            </a:xfrm>
            <a:custGeom>
              <a:avLst/>
              <a:gdLst/>
              <a:ahLst/>
              <a:rect l="l" t="t" r="r" b="b"/>
              <a:pathLst>
                <a:path w="1821" h="471">
                  <a:moveTo>
                    <a:pt x="923" y="471"/>
                  </a:moveTo>
                  <a:lnTo>
                    <a:pt x="901" y="468"/>
                  </a:lnTo>
                  <a:lnTo>
                    <a:pt x="882" y="468"/>
                  </a:lnTo>
                  <a:lnTo>
                    <a:pt x="863" y="468"/>
                  </a:lnTo>
                  <a:lnTo>
                    <a:pt x="841" y="468"/>
                  </a:lnTo>
                  <a:lnTo>
                    <a:pt x="822" y="465"/>
                  </a:lnTo>
                  <a:lnTo>
                    <a:pt x="803" y="465"/>
                  </a:lnTo>
                  <a:lnTo>
                    <a:pt x="781" y="462"/>
                  </a:lnTo>
                  <a:lnTo>
                    <a:pt x="762" y="462"/>
                  </a:lnTo>
                  <a:lnTo>
                    <a:pt x="743" y="457"/>
                  </a:lnTo>
                  <a:lnTo>
                    <a:pt x="724" y="454"/>
                  </a:lnTo>
                  <a:lnTo>
                    <a:pt x="705" y="452"/>
                  </a:lnTo>
                  <a:lnTo>
                    <a:pt x="686" y="449"/>
                  </a:lnTo>
                  <a:lnTo>
                    <a:pt x="667" y="443"/>
                  </a:lnTo>
                  <a:lnTo>
                    <a:pt x="648" y="441"/>
                  </a:lnTo>
                  <a:lnTo>
                    <a:pt x="631" y="438"/>
                  </a:lnTo>
                  <a:lnTo>
                    <a:pt x="612" y="435"/>
                  </a:lnTo>
                  <a:lnTo>
                    <a:pt x="593" y="430"/>
                  </a:lnTo>
                  <a:lnTo>
                    <a:pt x="577" y="424"/>
                  </a:lnTo>
                  <a:lnTo>
                    <a:pt x="558" y="419"/>
                  </a:lnTo>
                  <a:lnTo>
                    <a:pt x="542" y="413"/>
                  </a:lnTo>
                  <a:lnTo>
                    <a:pt x="523" y="408"/>
                  </a:lnTo>
                  <a:lnTo>
                    <a:pt x="506" y="403"/>
                  </a:lnTo>
                  <a:lnTo>
                    <a:pt x="487" y="397"/>
                  </a:lnTo>
                  <a:lnTo>
                    <a:pt x="474" y="392"/>
                  </a:lnTo>
                  <a:lnTo>
                    <a:pt x="454" y="386"/>
                  </a:lnTo>
                  <a:lnTo>
                    <a:pt x="438" y="378"/>
                  </a:lnTo>
                  <a:lnTo>
                    <a:pt x="422" y="370"/>
                  </a:lnTo>
                  <a:lnTo>
                    <a:pt x="405" y="365"/>
                  </a:lnTo>
                  <a:lnTo>
                    <a:pt x="392" y="356"/>
                  </a:lnTo>
                  <a:lnTo>
                    <a:pt x="376" y="351"/>
                  </a:lnTo>
                  <a:lnTo>
                    <a:pt x="359" y="343"/>
                  </a:lnTo>
                  <a:lnTo>
                    <a:pt x="346" y="337"/>
                  </a:lnTo>
                  <a:lnTo>
                    <a:pt x="329" y="329"/>
                  </a:lnTo>
                  <a:lnTo>
                    <a:pt x="313" y="321"/>
                  </a:lnTo>
                  <a:lnTo>
                    <a:pt x="299" y="310"/>
                  </a:lnTo>
                  <a:lnTo>
                    <a:pt x="286" y="305"/>
                  </a:lnTo>
                  <a:lnTo>
                    <a:pt x="269" y="294"/>
                  </a:lnTo>
                  <a:lnTo>
                    <a:pt x="256" y="286"/>
                  </a:lnTo>
                  <a:lnTo>
                    <a:pt x="242" y="275"/>
                  </a:lnTo>
                  <a:lnTo>
                    <a:pt x="231" y="267"/>
                  </a:lnTo>
                  <a:lnTo>
                    <a:pt x="215" y="256"/>
                  </a:lnTo>
                  <a:lnTo>
                    <a:pt x="204" y="248"/>
                  </a:lnTo>
                  <a:lnTo>
                    <a:pt x="190" y="237"/>
                  </a:lnTo>
                  <a:lnTo>
                    <a:pt x="180" y="229"/>
                  </a:lnTo>
                  <a:lnTo>
                    <a:pt x="166" y="218"/>
                  </a:lnTo>
                  <a:lnTo>
                    <a:pt x="155" y="207"/>
                  </a:lnTo>
                  <a:lnTo>
                    <a:pt x="144" y="196"/>
                  </a:lnTo>
                  <a:lnTo>
                    <a:pt x="133" y="188"/>
                  </a:lnTo>
                  <a:lnTo>
                    <a:pt x="122" y="174"/>
                  </a:lnTo>
                  <a:lnTo>
                    <a:pt x="112" y="163"/>
                  </a:lnTo>
                  <a:lnTo>
                    <a:pt x="101" y="152"/>
                  </a:lnTo>
                  <a:lnTo>
                    <a:pt x="93" y="141"/>
                  </a:lnTo>
                  <a:lnTo>
                    <a:pt x="82" y="131"/>
                  </a:lnTo>
                  <a:lnTo>
                    <a:pt x="73" y="120"/>
                  </a:lnTo>
                  <a:lnTo>
                    <a:pt x="63" y="109"/>
                  </a:lnTo>
                  <a:lnTo>
                    <a:pt x="54" y="98"/>
                  </a:lnTo>
                  <a:lnTo>
                    <a:pt x="46" y="84"/>
                  </a:lnTo>
                  <a:lnTo>
                    <a:pt x="38" y="73"/>
                  </a:lnTo>
                  <a:lnTo>
                    <a:pt x="30" y="60"/>
                  </a:lnTo>
                  <a:lnTo>
                    <a:pt x="24" y="49"/>
                  </a:lnTo>
                  <a:lnTo>
                    <a:pt x="16" y="35"/>
                  </a:lnTo>
                  <a:lnTo>
                    <a:pt x="8" y="24"/>
                  </a:lnTo>
                  <a:lnTo>
                    <a:pt x="3" y="11"/>
                  </a:lnTo>
                  <a:lnTo>
                    <a:pt x="0" y="0"/>
                  </a:lnTo>
                  <a:lnTo>
                    <a:pt x="24" y="0"/>
                  </a:lnTo>
                  <a:lnTo>
                    <a:pt x="49" y="0"/>
                  </a:lnTo>
                  <a:lnTo>
                    <a:pt x="76" y="0"/>
                  </a:lnTo>
                  <a:lnTo>
                    <a:pt x="103" y="0"/>
                  </a:lnTo>
                  <a:lnTo>
                    <a:pt x="131" y="0"/>
                  </a:lnTo>
                  <a:lnTo>
                    <a:pt x="158" y="3"/>
                  </a:lnTo>
                  <a:lnTo>
                    <a:pt x="185" y="3"/>
                  </a:lnTo>
                  <a:lnTo>
                    <a:pt x="212" y="3"/>
                  </a:lnTo>
                  <a:lnTo>
                    <a:pt x="239" y="3"/>
                  </a:lnTo>
                  <a:lnTo>
                    <a:pt x="267" y="3"/>
                  </a:lnTo>
                  <a:lnTo>
                    <a:pt x="294" y="3"/>
                  </a:lnTo>
                  <a:lnTo>
                    <a:pt x="324" y="5"/>
                  </a:lnTo>
                  <a:lnTo>
                    <a:pt x="351" y="5"/>
                  </a:lnTo>
                  <a:lnTo>
                    <a:pt x="381" y="5"/>
                  </a:lnTo>
                  <a:lnTo>
                    <a:pt x="408" y="5"/>
                  </a:lnTo>
                  <a:lnTo>
                    <a:pt x="438" y="8"/>
                  </a:lnTo>
                  <a:lnTo>
                    <a:pt x="465" y="8"/>
                  </a:lnTo>
                  <a:lnTo>
                    <a:pt x="493" y="8"/>
                  </a:lnTo>
                  <a:lnTo>
                    <a:pt x="520" y="11"/>
                  </a:lnTo>
                  <a:lnTo>
                    <a:pt x="550" y="11"/>
                  </a:lnTo>
                  <a:lnTo>
                    <a:pt x="577" y="11"/>
                  </a:lnTo>
                  <a:lnTo>
                    <a:pt x="607" y="11"/>
                  </a:lnTo>
                  <a:lnTo>
                    <a:pt x="637" y="14"/>
                  </a:lnTo>
                  <a:lnTo>
                    <a:pt x="667" y="14"/>
                  </a:lnTo>
                  <a:lnTo>
                    <a:pt x="694" y="14"/>
                  </a:lnTo>
                  <a:lnTo>
                    <a:pt x="724" y="16"/>
                  </a:lnTo>
                  <a:lnTo>
                    <a:pt x="754" y="16"/>
                  </a:lnTo>
                  <a:lnTo>
                    <a:pt x="784" y="16"/>
                  </a:lnTo>
                  <a:lnTo>
                    <a:pt x="811" y="16"/>
                  </a:lnTo>
                  <a:lnTo>
                    <a:pt x="841" y="19"/>
                  </a:lnTo>
                  <a:lnTo>
                    <a:pt x="871" y="22"/>
                  </a:lnTo>
                  <a:lnTo>
                    <a:pt x="901" y="22"/>
                  </a:lnTo>
                  <a:lnTo>
                    <a:pt x="931" y="22"/>
                  </a:lnTo>
                  <a:lnTo>
                    <a:pt x="958" y="22"/>
                  </a:lnTo>
                  <a:lnTo>
                    <a:pt x="988" y="22"/>
                  </a:lnTo>
                  <a:lnTo>
                    <a:pt x="1018" y="24"/>
                  </a:lnTo>
                  <a:lnTo>
                    <a:pt x="1045" y="24"/>
                  </a:lnTo>
                  <a:lnTo>
                    <a:pt x="1075" y="24"/>
                  </a:lnTo>
                  <a:lnTo>
                    <a:pt x="1105" y="24"/>
                  </a:lnTo>
                  <a:lnTo>
                    <a:pt x="1135" y="27"/>
                  </a:lnTo>
                  <a:lnTo>
                    <a:pt x="1162" y="27"/>
                  </a:lnTo>
                  <a:lnTo>
                    <a:pt x="1195" y="27"/>
                  </a:lnTo>
                  <a:lnTo>
                    <a:pt x="1222" y="27"/>
                  </a:lnTo>
                  <a:lnTo>
                    <a:pt x="1252" y="30"/>
                  </a:lnTo>
                  <a:lnTo>
                    <a:pt x="1279" y="30"/>
                  </a:lnTo>
                  <a:lnTo>
                    <a:pt x="1312" y="33"/>
                  </a:lnTo>
                  <a:lnTo>
                    <a:pt x="1339" y="33"/>
                  </a:lnTo>
                  <a:lnTo>
                    <a:pt x="1369" y="35"/>
                  </a:lnTo>
                  <a:lnTo>
                    <a:pt x="1396" y="35"/>
                  </a:lnTo>
                  <a:lnTo>
                    <a:pt x="1426" y="35"/>
                  </a:lnTo>
                  <a:lnTo>
                    <a:pt x="1453" y="35"/>
                  </a:lnTo>
                  <a:lnTo>
                    <a:pt x="1483" y="35"/>
                  </a:lnTo>
                  <a:lnTo>
                    <a:pt x="1510" y="35"/>
                  </a:lnTo>
                  <a:lnTo>
                    <a:pt x="1540" y="38"/>
                  </a:lnTo>
                  <a:lnTo>
                    <a:pt x="1568" y="38"/>
                  </a:lnTo>
                  <a:lnTo>
                    <a:pt x="1597" y="38"/>
                  </a:lnTo>
                  <a:lnTo>
                    <a:pt x="1625" y="38"/>
                  </a:lnTo>
                  <a:lnTo>
                    <a:pt x="1655" y="41"/>
                  </a:lnTo>
                  <a:lnTo>
                    <a:pt x="1682" y="41"/>
                  </a:lnTo>
                  <a:lnTo>
                    <a:pt x="1709" y="44"/>
                  </a:lnTo>
                  <a:lnTo>
                    <a:pt x="1736" y="44"/>
                  </a:lnTo>
                  <a:lnTo>
                    <a:pt x="1766" y="44"/>
                  </a:lnTo>
                  <a:lnTo>
                    <a:pt x="1793" y="46"/>
                  </a:lnTo>
                  <a:lnTo>
                    <a:pt x="1821" y="46"/>
                  </a:lnTo>
                  <a:lnTo>
                    <a:pt x="1815" y="57"/>
                  </a:lnTo>
                  <a:lnTo>
                    <a:pt x="1807" y="68"/>
                  </a:lnTo>
                  <a:lnTo>
                    <a:pt x="1799" y="79"/>
                  </a:lnTo>
                  <a:lnTo>
                    <a:pt x="1791" y="92"/>
                  </a:lnTo>
                  <a:lnTo>
                    <a:pt x="1783" y="101"/>
                  </a:lnTo>
                  <a:lnTo>
                    <a:pt x="1774" y="114"/>
                  </a:lnTo>
                  <a:lnTo>
                    <a:pt x="1766" y="122"/>
                  </a:lnTo>
                  <a:lnTo>
                    <a:pt x="1758" y="136"/>
                  </a:lnTo>
                  <a:lnTo>
                    <a:pt x="1747" y="144"/>
                  </a:lnTo>
                  <a:lnTo>
                    <a:pt x="1739" y="155"/>
                  </a:lnTo>
                  <a:lnTo>
                    <a:pt x="1728" y="166"/>
                  </a:lnTo>
                  <a:lnTo>
                    <a:pt x="1720" y="177"/>
                  </a:lnTo>
                  <a:lnTo>
                    <a:pt x="1709" y="185"/>
                  </a:lnTo>
                  <a:lnTo>
                    <a:pt x="1698" y="196"/>
                  </a:lnTo>
                  <a:lnTo>
                    <a:pt x="1687" y="207"/>
                  </a:lnTo>
                  <a:lnTo>
                    <a:pt x="1679" y="218"/>
                  </a:lnTo>
                  <a:lnTo>
                    <a:pt x="1666" y="226"/>
                  </a:lnTo>
                  <a:lnTo>
                    <a:pt x="1655" y="234"/>
                  </a:lnTo>
                  <a:lnTo>
                    <a:pt x="1641" y="242"/>
                  </a:lnTo>
                  <a:lnTo>
                    <a:pt x="1630" y="253"/>
                  </a:lnTo>
                  <a:lnTo>
                    <a:pt x="1617" y="261"/>
                  </a:lnTo>
                  <a:lnTo>
                    <a:pt x="1606" y="269"/>
                  </a:lnTo>
                  <a:lnTo>
                    <a:pt x="1592" y="277"/>
                  </a:lnTo>
                  <a:lnTo>
                    <a:pt x="1581" y="288"/>
                  </a:lnTo>
                  <a:lnTo>
                    <a:pt x="1568" y="297"/>
                  </a:lnTo>
                  <a:lnTo>
                    <a:pt x="1554" y="305"/>
                  </a:lnTo>
                  <a:lnTo>
                    <a:pt x="1540" y="310"/>
                  </a:lnTo>
                  <a:lnTo>
                    <a:pt x="1527" y="321"/>
                  </a:lnTo>
                  <a:lnTo>
                    <a:pt x="1510" y="329"/>
                  </a:lnTo>
                  <a:lnTo>
                    <a:pt x="1497" y="335"/>
                  </a:lnTo>
                  <a:lnTo>
                    <a:pt x="1483" y="343"/>
                  </a:lnTo>
                  <a:lnTo>
                    <a:pt x="1470" y="351"/>
                  </a:lnTo>
                  <a:lnTo>
                    <a:pt x="1453" y="356"/>
                  </a:lnTo>
                  <a:lnTo>
                    <a:pt x="1440" y="365"/>
                  </a:lnTo>
                  <a:lnTo>
                    <a:pt x="1423" y="370"/>
                  </a:lnTo>
                  <a:lnTo>
                    <a:pt x="1407" y="375"/>
                  </a:lnTo>
                  <a:lnTo>
                    <a:pt x="1391" y="381"/>
                  </a:lnTo>
                  <a:lnTo>
                    <a:pt x="1377" y="389"/>
                  </a:lnTo>
                  <a:lnTo>
                    <a:pt x="1361" y="394"/>
                  </a:lnTo>
                  <a:lnTo>
                    <a:pt x="1347" y="400"/>
                  </a:lnTo>
                  <a:lnTo>
                    <a:pt x="1328" y="405"/>
                  </a:lnTo>
                  <a:lnTo>
                    <a:pt x="1312" y="411"/>
                  </a:lnTo>
                  <a:lnTo>
                    <a:pt x="1295" y="413"/>
                  </a:lnTo>
                  <a:lnTo>
                    <a:pt x="1279" y="419"/>
                  </a:lnTo>
                  <a:lnTo>
                    <a:pt x="1263" y="424"/>
                  </a:lnTo>
                  <a:lnTo>
                    <a:pt x="1246" y="430"/>
                  </a:lnTo>
                  <a:lnTo>
                    <a:pt x="1230" y="433"/>
                  </a:lnTo>
                  <a:lnTo>
                    <a:pt x="1214" y="438"/>
                  </a:lnTo>
                  <a:lnTo>
                    <a:pt x="1195" y="441"/>
                  </a:lnTo>
                  <a:lnTo>
                    <a:pt x="1178" y="443"/>
                  </a:lnTo>
                  <a:lnTo>
                    <a:pt x="1159" y="446"/>
                  </a:lnTo>
                  <a:lnTo>
                    <a:pt x="1143" y="452"/>
                  </a:lnTo>
                  <a:lnTo>
                    <a:pt x="1124" y="452"/>
                  </a:lnTo>
                  <a:lnTo>
                    <a:pt x="1105" y="454"/>
                  </a:lnTo>
                  <a:lnTo>
                    <a:pt x="1086" y="457"/>
                  </a:lnTo>
                  <a:lnTo>
                    <a:pt x="1070" y="462"/>
                  </a:lnTo>
                  <a:lnTo>
                    <a:pt x="1050" y="462"/>
                  </a:lnTo>
                  <a:lnTo>
                    <a:pt x="1034" y="465"/>
                  </a:lnTo>
                  <a:lnTo>
                    <a:pt x="1015" y="465"/>
                  </a:lnTo>
                  <a:lnTo>
                    <a:pt x="996" y="468"/>
                  </a:lnTo>
                  <a:lnTo>
                    <a:pt x="977" y="468"/>
                  </a:lnTo>
                  <a:lnTo>
                    <a:pt x="958" y="468"/>
                  </a:lnTo>
                  <a:lnTo>
                    <a:pt x="942" y="468"/>
                  </a:lnTo>
                  <a:lnTo>
                    <a:pt x="923" y="471"/>
                  </a:lnTo>
                  <a:lnTo>
                    <a:pt x="923" y="471"/>
                  </a:lnTo>
                  <a:close/>
                </a:path>
              </a:pathLst>
            </a:custGeom>
            <a:solidFill>
              <a:srgbClr val="734f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9480" y="2913840"/>
              <a:ext cx="2453760" cy="2620080"/>
            </a:xfrm>
            <a:custGeom>
              <a:avLst/>
              <a:gdLst/>
              <a:ahLst/>
              <a:rect l="l" t="t" r="r" b="b"/>
              <a:pathLst>
                <a:path w="1510" h="2062">
                  <a:moveTo>
                    <a:pt x="1510" y="0"/>
                  </a:moveTo>
                  <a:lnTo>
                    <a:pt x="0" y="1942"/>
                  </a:lnTo>
                  <a:lnTo>
                    <a:pt x="84" y="2062"/>
                  </a:lnTo>
                  <a:lnTo>
                    <a:pt x="1510" y="71"/>
                  </a:lnTo>
                  <a:lnTo>
                    <a:pt x="1510" y="0"/>
                  </a:lnTo>
                  <a:lnTo>
                    <a:pt x="1510" y="0"/>
                  </a:lnTo>
                  <a:close/>
                </a:path>
              </a:pathLst>
            </a:custGeom>
            <a:solidFill>
              <a:srgbClr val="ff59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5920" y="3010320"/>
              <a:ext cx="2313720" cy="2696400"/>
            </a:xfrm>
            <a:custGeom>
              <a:avLst/>
              <a:gdLst/>
              <a:ahLst/>
              <a:rect l="l" t="t" r="r" b="b"/>
              <a:pathLst>
                <a:path w="1424" h="2122">
                  <a:moveTo>
                    <a:pt x="1424" y="171"/>
                  </a:moveTo>
                  <a:lnTo>
                    <a:pt x="107" y="2122"/>
                  </a:lnTo>
                  <a:lnTo>
                    <a:pt x="0" y="1986"/>
                  </a:lnTo>
                  <a:lnTo>
                    <a:pt x="1421" y="0"/>
                  </a:lnTo>
                  <a:lnTo>
                    <a:pt x="1424" y="171"/>
                  </a:lnTo>
                  <a:lnTo>
                    <a:pt x="1424" y="171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914760" y="3093120"/>
              <a:ext cx="2175840" cy="2755800"/>
            </a:xfrm>
            <a:custGeom>
              <a:avLst/>
              <a:gdLst/>
              <a:ahLst/>
              <a:rect l="l" t="t" r="r" b="b"/>
              <a:pathLst>
                <a:path w="1339" h="2169">
                  <a:moveTo>
                    <a:pt x="1309" y="0"/>
                  </a:moveTo>
                  <a:lnTo>
                    <a:pt x="0" y="2057"/>
                  </a:lnTo>
                  <a:lnTo>
                    <a:pt x="98" y="2169"/>
                  </a:lnTo>
                  <a:lnTo>
                    <a:pt x="1339" y="123"/>
                  </a:lnTo>
                  <a:lnTo>
                    <a:pt x="1309" y="0"/>
                  </a:lnTo>
                  <a:lnTo>
                    <a:pt x="1309" y="0"/>
                  </a:lnTo>
                  <a:close/>
                </a:path>
              </a:pathLst>
            </a:custGeom>
            <a:solidFill>
              <a:srgbClr val="a6e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069200" y="3263400"/>
              <a:ext cx="2029680" cy="2726640"/>
            </a:xfrm>
            <a:custGeom>
              <a:avLst/>
              <a:gdLst/>
              <a:ahLst/>
              <a:rect l="l" t="t" r="r" b="b"/>
              <a:pathLst>
                <a:path w="1249" h="2146">
                  <a:moveTo>
                    <a:pt x="1225" y="0"/>
                  </a:moveTo>
                  <a:lnTo>
                    <a:pt x="0" y="2032"/>
                  </a:lnTo>
                  <a:lnTo>
                    <a:pt x="98" y="2146"/>
                  </a:lnTo>
                  <a:lnTo>
                    <a:pt x="1249" y="87"/>
                  </a:lnTo>
                  <a:lnTo>
                    <a:pt x="1225" y="0"/>
                  </a:lnTo>
                  <a:lnTo>
                    <a:pt x="1225" y="0"/>
                  </a:lnTo>
                  <a:close/>
                </a:path>
              </a:pathLst>
            </a:custGeom>
            <a:solidFill>
              <a:srgbClr val="8fc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215360" y="3345840"/>
              <a:ext cx="1914120" cy="2800440"/>
            </a:xfrm>
            <a:custGeom>
              <a:avLst/>
              <a:gdLst/>
              <a:ahLst/>
              <a:rect l="l" t="t" r="r" b="b"/>
              <a:pathLst>
                <a:path w="1178" h="2204">
                  <a:moveTo>
                    <a:pt x="1151" y="0"/>
                  </a:moveTo>
                  <a:lnTo>
                    <a:pt x="0" y="2076"/>
                  </a:lnTo>
                  <a:lnTo>
                    <a:pt x="109" y="2204"/>
                  </a:lnTo>
                  <a:lnTo>
                    <a:pt x="1178" y="92"/>
                  </a:lnTo>
                  <a:lnTo>
                    <a:pt x="1151" y="0"/>
                  </a:lnTo>
                  <a:lnTo>
                    <a:pt x="1151" y="0"/>
                  </a:lnTo>
                  <a:close/>
                </a:path>
              </a:pathLst>
            </a:custGeom>
            <a:solidFill>
              <a:srgbClr val="7d59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121920" y="2309040"/>
              <a:ext cx="1520640" cy="1386000"/>
            </a:xfrm>
            <a:custGeom>
              <a:avLst/>
              <a:gdLst/>
              <a:ahLst/>
              <a:rect l="l" t="t" r="r" b="b"/>
              <a:pathLst>
                <a:path w="936" h="1091">
                  <a:moveTo>
                    <a:pt x="52" y="367"/>
                  </a:moveTo>
                  <a:lnTo>
                    <a:pt x="0" y="1091"/>
                  </a:lnTo>
                  <a:lnTo>
                    <a:pt x="868" y="729"/>
                  </a:lnTo>
                  <a:lnTo>
                    <a:pt x="936" y="0"/>
                  </a:lnTo>
                  <a:lnTo>
                    <a:pt x="52" y="367"/>
                  </a:lnTo>
                  <a:lnTo>
                    <a:pt x="52" y="367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908800" y="1965960"/>
              <a:ext cx="428760" cy="1739520"/>
            </a:xfrm>
            <a:custGeom>
              <a:avLst/>
              <a:gdLst/>
              <a:ahLst/>
              <a:rect l="l" t="t" r="r" b="b"/>
              <a:pathLst>
                <a:path w="264" h="1369">
                  <a:moveTo>
                    <a:pt x="90" y="0"/>
                  </a:moveTo>
                  <a:lnTo>
                    <a:pt x="0" y="819"/>
                  </a:lnTo>
                  <a:lnTo>
                    <a:pt x="142" y="1369"/>
                  </a:lnTo>
                  <a:lnTo>
                    <a:pt x="264" y="381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60000" y="1955880"/>
              <a:ext cx="1577880" cy="785160"/>
            </a:xfrm>
            <a:custGeom>
              <a:avLst/>
              <a:gdLst/>
              <a:ahLst/>
              <a:rect l="l" t="t" r="r" b="b"/>
              <a:pathLst>
                <a:path w="971" h="618">
                  <a:moveTo>
                    <a:pt x="0" y="0"/>
                  </a:moveTo>
                  <a:lnTo>
                    <a:pt x="971" y="286"/>
                  </a:lnTo>
                  <a:lnTo>
                    <a:pt x="147" y="6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a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85720" y="2315160"/>
              <a:ext cx="1356840" cy="646560"/>
            </a:xfrm>
            <a:custGeom>
              <a:avLst/>
              <a:gdLst/>
              <a:ahLst/>
              <a:rect l="l" t="t" r="r" b="b"/>
              <a:pathLst>
                <a:path w="835" h="509">
                  <a:moveTo>
                    <a:pt x="0" y="335"/>
                  </a:moveTo>
                  <a:lnTo>
                    <a:pt x="424" y="509"/>
                  </a:lnTo>
                  <a:lnTo>
                    <a:pt x="835" y="0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23720" y="2903760"/>
              <a:ext cx="3596040" cy="192960"/>
            </a:xfrm>
            <a:custGeom>
              <a:avLst/>
              <a:gdLst/>
              <a:ahLst/>
              <a:rect l="l" t="t" r="r" b="b"/>
              <a:pathLst>
                <a:path w="2213" h="152">
                  <a:moveTo>
                    <a:pt x="0" y="22"/>
                  </a:moveTo>
                  <a:lnTo>
                    <a:pt x="2213" y="0"/>
                  </a:lnTo>
                  <a:lnTo>
                    <a:pt x="2196" y="152"/>
                  </a:lnTo>
                  <a:lnTo>
                    <a:pt x="57" y="144"/>
                  </a:lnTo>
                  <a:lnTo>
                    <a:pt x="0" y="2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170520" y="2136240"/>
              <a:ext cx="667440" cy="431640"/>
            </a:xfrm>
            <a:custGeom>
              <a:avLst/>
              <a:gdLst/>
              <a:ahLst/>
              <a:rect l="l" t="t" r="r" b="b"/>
              <a:pathLst>
                <a:path w="411" h="340">
                  <a:moveTo>
                    <a:pt x="0" y="193"/>
                  </a:moveTo>
                  <a:lnTo>
                    <a:pt x="411" y="0"/>
                  </a:lnTo>
                  <a:lnTo>
                    <a:pt x="403" y="340"/>
                  </a:lnTo>
                  <a:lnTo>
                    <a:pt x="0" y="193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235840" y="2803320"/>
              <a:ext cx="480600" cy="365760"/>
            </a:xfrm>
            <a:custGeom>
              <a:avLst/>
              <a:gdLst/>
              <a:ahLst/>
              <a:rect l="l" t="t" r="r" b="b"/>
              <a:pathLst>
                <a:path w="296" h="288">
                  <a:moveTo>
                    <a:pt x="296" y="0"/>
                  </a:moveTo>
                  <a:lnTo>
                    <a:pt x="0" y="160"/>
                  </a:lnTo>
                  <a:lnTo>
                    <a:pt x="296" y="288"/>
                  </a:lnTo>
                  <a:lnTo>
                    <a:pt x="296" y="0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227400" y="2917440"/>
              <a:ext cx="1327680" cy="182880"/>
            </a:xfrm>
            <a:custGeom>
              <a:avLst/>
              <a:gdLst/>
              <a:ahLst/>
              <a:rect l="l" t="t" r="r" b="b"/>
              <a:pathLst>
                <a:path w="817" h="144">
                  <a:moveTo>
                    <a:pt x="468" y="0"/>
                  </a:moveTo>
                  <a:lnTo>
                    <a:pt x="0" y="144"/>
                  </a:lnTo>
                  <a:lnTo>
                    <a:pt x="817" y="136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b091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31840" y="2962080"/>
              <a:ext cx="331200" cy="241200"/>
            </a:xfrm>
            <a:custGeom>
              <a:avLst/>
              <a:gdLst/>
              <a:ahLst/>
              <a:rect l="l" t="t" r="r" b="b"/>
              <a:pathLst>
                <a:path w="204" h="190">
                  <a:moveTo>
                    <a:pt x="0" y="63"/>
                  </a:moveTo>
                  <a:lnTo>
                    <a:pt x="204" y="0"/>
                  </a:lnTo>
                  <a:lnTo>
                    <a:pt x="179" y="190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1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247320" y="3978360"/>
            <a:ext cx="5305680" cy="2539800"/>
            <a:chOff x="247320" y="3978360"/>
            <a:chExt cx="5305680" cy="2539800"/>
          </a:xfrm>
        </p:grpSpPr>
        <p:pic>
          <p:nvPicPr>
            <p:cNvPr id="335" name="" descr=""/>
            <p:cNvPicPr/>
            <p:nvPr/>
          </p:nvPicPr>
          <p:blipFill>
            <a:blip r:embed="rId1"/>
            <a:stretch/>
          </p:blipFill>
          <p:spPr>
            <a:xfrm>
              <a:off x="3289320" y="3978360"/>
              <a:ext cx="2263680" cy="23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247320" y="4838760"/>
              <a:ext cx="3042720" cy="16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Collaboration 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ollaboration Roo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Ch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pplication Sha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2000" spc="-1" strike="noStrike">
                  <a:solidFill>
                    <a:srgbClr val="000000"/>
                  </a:solidFill>
                  <a:latin typeface="Arial"/>
                </a:rPr>
                <a:t>Awareness Tool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860440" y="4002120"/>
            <a:ext cx="3058200" cy="1841400"/>
            <a:chOff x="5860440" y="4002120"/>
            <a:chExt cx="3058200" cy="1841400"/>
          </a:xfrm>
        </p:grpSpPr>
        <p:pic>
          <p:nvPicPr>
            <p:cNvPr id="338" name="" descr=""/>
            <p:cNvPicPr/>
            <p:nvPr/>
          </p:nvPicPr>
          <p:blipFill>
            <a:blip r:embed="rId2"/>
            <a:stretch/>
          </p:blipFill>
          <p:spPr>
            <a:xfrm>
              <a:off x="6057720" y="4002120"/>
              <a:ext cx="220968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5860440" y="5221080"/>
              <a:ext cx="305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ideo Conferenc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6354720" y="928800"/>
            <a:ext cx="1703160" cy="1755000"/>
            <a:chOff x="6354720" y="928800"/>
            <a:chExt cx="1703160" cy="1755000"/>
          </a:xfrm>
        </p:grpSpPr>
        <p:pic>
          <p:nvPicPr>
            <p:cNvPr id="341" name="" descr=""/>
            <p:cNvPicPr/>
            <p:nvPr/>
          </p:nvPicPr>
          <p:blipFill>
            <a:blip r:embed="rId3"/>
            <a:stretch/>
          </p:blipFill>
          <p:spPr>
            <a:xfrm>
              <a:off x="6505560" y="928800"/>
              <a:ext cx="1371240" cy="135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6354720" y="2224080"/>
              <a:ext cx="170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elepho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1880" y="446040"/>
            <a:ext cx="2208600" cy="2967840"/>
            <a:chOff x="11880" y="446040"/>
            <a:chExt cx="2208600" cy="2967840"/>
          </a:xfrm>
        </p:grpSpPr>
        <p:pic>
          <p:nvPicPr>
            <p:cNvPr id="344" name="" descr=""/>
            <p:cNvPicPr/>
            <p:nvPr/>
          </p:nvPicPr>
          <p:blipFill>
            <a:blip r:embed="rId4"/>
            <a:stretch/>
          </p:blipFill>
          <p:spPr>
            <a:xfrm>
              <a:off x="240480" y="446040"/>
              <a:ext cx="1980000" cy="25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11880" y="2954160"/>
              <a:ext cx="20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ace-to-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15040" y="3405240"/>
            <a:ext cx="6479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a Spectrum of Technolog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7403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w are Communities of Practice differ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munities of Practice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Establishing and Sustaining Communities of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llaboration with SAP Netwea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Establishing Communities of Pract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46040" y="1558800"/>
            <a:ext cx="7753320" cy="34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eeds of Communities of Practice already exist within organisations and groups of people with common go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ting it right is diffic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ed to tap into people’s pa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 the balance right – big may be too general, small may not provide enough inter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chnology must be suppor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 must commit itself to allowing staff time for participation in Co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ticipants need to develop skills to participate eff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Establishing Communities of Practice: Four Stag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52520" y="1271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entifying the community of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Use Social Network Analysis if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0099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Prioritize and select (Potential Value Add to the organization, alignment with corporate strategy, ease of development (quick wins), Size (critical mass, members identification), internal visibility, geographical diversity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Arial"/>
              </a:rPr>
              <a:t>Understanding the community of us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Their needs, requirements (which technology support is require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Arial"/>
              </a:rPr>
              <a:t>The organisations in which they work and operate (constrain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8000"/>
                </a:solidFill>
                <a:latin typeface="Arial"/>
              </a:rPr>
              <a:t>Institutionalise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Find a Champ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Employ a facilitator/ moderat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Recognize the workload and the skil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Set-up supporting IT infra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Community kick-o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8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Members develop Community profile and mission stat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ustaining the community of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asure su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82640" indent="-421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unicate success st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81320" indent="-4813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Find a Champ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16080" y="1380960"/>
            <a:ext cx="37335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24000" indent="-3240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e of the Champ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support at highest possibl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the pur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mote the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22320" indent="-3808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sure impa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343400" y="1905120"/>
            <a:ext cx="43498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360" y="80496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Employ a Facilitato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2133720" y="2289240"/>
            <a:ext cx="4647960" cy="304488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4800600" y="914400"/>
            <a:ext cx="43434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mot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ize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People to Introduce themse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3352680"/>
            <a:ext cx="198108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phr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nsure common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858000" y="3048120"/>
            <a:ext cx="228600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people who join late or don’t read consisten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5257800"/>
            <a:ext cx="35812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e Proactiv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icipate Misunderstand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 Sil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505320" y="5334120"/>
            <a:ext cx="3429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st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regular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ain Neu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4952880"/>
            <a:ext cx="274320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llow through on commit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mmar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2895480" y="2895480"/>
            <a:ext cx="3348000" cy="2173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Impact"/>
              </a:rPr>
              <a:t>Build Tru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Impact"/>
              <a:ea typeface="Impact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359000"/>
            <a:ext cx="472428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 and Communicate Ground R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ly establish the purp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unicate the expected 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lain the decision-makin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for buy-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Example Mission State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28600" y="2209680"/>
            <a:ext cx="8648640" cy="41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munities of practice will develop and support knowledge sharing for the benefit of the Department and individuals by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good practice, minimising du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learning and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imulating creativity and innov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aluing and recognising the contributions of individual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39760" y="1211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Arial"/>
              </a:rPr>
              <a:t>Mission Sta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19654200">
            <a:off x="5965920" y="1923840"/>
            <a:ext cx="20890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S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67000"/>
            <a:ext cx="7772400" cy="300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Over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How are Communities of Practice differ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Types of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ff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ff0000"/>
                </a:solidFill>
                <a:latin typeface="Arial"/>
              </a:rPr>
              <a:t>Communities of Practice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stablishing and Sustaining Communities of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llaboration with SAP Netwea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ample Community Profil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01480" y="1600200"/>
            <a:ext cx="1290960" cy="4800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041480" y="5118120"/>
            <a:ext cx="7328880" cy="468360"/>
            <a:chOff x="1041480" y="5118120"/>
            <a:chExt cx="7328880" cy="468360"/>
          </a:xfrm>
        </p:grpSpPr>
        <p:sp>
          <p:nvSpPr>
            <p:cNvPr id="373" name=""/>
            <p:cNvSpPr/>
            <p:nvPr/>
          </p:nvSpPr>
          <p:spPr>
            <a:xfrm>
              <a:off x="2888280" y="5118120"/>
              <a:ext cx="548208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41480" y="5118120"/>
              <a:ext cx="13291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887560" y="4157640"/>
            <a:ext cx="5483160" cy="719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Subsidiari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eadqua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Functional Area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041480" y="4157640"/>
            <a:ext cx="1328760" cy="719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036800" y="1719360"/>
            <a:ext cx="7328880" cy="468360"/>
            <a:chOff x="1036800" y="1719360"/>
            <a:chExt cx="7328880" cy="468360"/>
          </a:xfrm>
        </p:grpSpPr>
        <p:sp>
          <p:nvSpPr>
            <p:cNvPr id="378" name=""/>
            <p:cNvSpPr/>
            <p:nvPr/>
          </p:nvSpPr>
          <p:spPr>
            <a:xfrm>
              <a:off x="2883960" y="1719360"/>
              <a:ext cx="54817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ustomer Info 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6800" y="1719360"/>
              <a:ext cx="132876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023840" y="2379600"/>
            <a:ext cx="7329240" cy="1582200"/>
            <a:chOff x="1023840" y="2379600"/>
            <a:chExt cx="7329240" cy="1582200"/>
          </a:xfrm>
        </p:grpSpPr>
        <p:sp>
          <p:nvSpPr>
            <p:cNvPr id="381" name=""/>
            <p:cNvSpPr/>
            <p:nvPr/>
          </p:nvSpPr>
          <p:spPr>
            <a:xfrm>
              <a:off x="2870640" y="2379600"/>
              <a:ext cx="5482440" cy="1582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sure consistent communication towards custom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ke organization aware of customer needs and proble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stablish a community of people with customer conta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 awareness for the benefit of knowledge sha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023840" y="2379600"/>
              <a:ext cx="1329120" cy="1582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1041480" y="5780160"/>
            <a:ext cx="7328880" cy="468360"/>
            <a:chOff x="1041480" y="5780160"/>
            <a:chExt cx="7328880" cy="468360"/>
          </a:xfrm>
        </p:grpSpPr>
        <p:sp>
          <p:nvSpPr>
            <p:cNvPr id="384" name=""/>
            <p:cNvSpPr/>
            <p:nvPr/>
          </p:nvSpPr>
          <p:spPr>
            <a:xfrm>
              <a:off x="2888280" y="5780160"/>
              <a:ext cx="548208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bjectives defined and agreed by core t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cept and content agre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41480" y="5780160"/>
              <a:ext cx="13291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 rot="19654200">
            <a:off x="5965920" y="1923840"/>
            <a:ext cx="20890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S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01480" y="1600200"/>
            <a:ext cx="1290960" cy="4800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041480" y="5118120"/>
            <a:ext cx="7328880" cy="468360"/>
            <a:chOff x="1041480" y="5118120"/>
            <a:chExt cx="7328880" cy="468360"/>
          </a:xfrm>
        </p:grpSpPr>
        <p:sp>
          <p:nvSpPr>
            <p:cNvPr id="389" name=""/>
            <p:cNvSpPr/>
            <p:nvPr/>
          </p:nvSpPr>
          <p:spPr>
            <a:xfrm>
              <a:off x="2888280" y="5118120"/>
              <a:ext cx="548208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irst results will be available …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41480" y="5118120"/>
              <a:ext cx="13291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fram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887560" y="4157640"/>
            <a:ext cx="5483160" cy="719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l divisions, all count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5120" indent="-19512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eering Committee for Quality Offens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041480" y="4157640"/>
            <a:ext cx="1328760" cy="719280"/>
          </a:xfrm>
          <a:prstGeom prst="rect">
            <a:avLst/>
          </a:prstGeom>
          <a:solidFill>
            <a:srgbClr val="00cc99"/>
          </a:solidFill>
          <a:ln w="0">
            <a:noFill/>
          </a:ln>
          <a:effectLst>
            <a:outerShdw dist="107932" dir="27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4680" rIns="94680" tIns="46440" bIns="464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97040"/>
                <a:tab algn="l" pos="1593720"/>
                <a:tab algn="l" pos="2390760"/>
                <a:tab algn="l" pos="3187800"/>
                <a:tab algn="l" pos="3984480"/>
                <a:tab algn="l" pos="4781520"/>
                <a:tab algn="l" pos="5578560"/>
                <a:tab algn="l" pos="6375240"/>
                <a:tab algn="l" pos="7172280"/>
                <a:tab algn="l" pos="7969320"/>
                <a:tab algn="l" pos="8766000"/>
                <a:tab algn="l" pos="9563040"/>
                <a:tab algn="l" pos="10360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036800" y="1719360"/>
            <a:ext cx="7328880" cy="468360"/>
            <a:chOff x="1036800" y="1719360"/>
            <a:chExt cx="7328880" cy="468360"/>
          </a:xfrm>
        </p:grpSpPr>
        <p:sp>
          <p:nvSpPr>
            <p:cNvPr id="394" name=""/>
            <p:cNvSpPr/>
            <p:nvPr/>
          </p:nvSpPr>
          <p:spPr>
            <a:xfrm>
              <a:off x="2883960" y="1719360"/>
              <a:ext cx="54817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ty Offensiv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036800" y="1719360"/>
              <a:ext cx="132876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1023840" y="2379600"/>
            <a:ext cx="7329240" cy="1582200"/>
            <a:chOff x="1023840" y="2379600"/>
            <a:chExt cx="7329240" cy="1582200"/>
          </a:xfrm>
        </p:grpSpPr>
        <p:sp>
          <p:nvSpPr>
            <p:cNvPr id="397" name=""/>
            <p:cNvSpPr/>
            <p:nvPr/>
          </p:nvSpPr>
          <p:spPr>
            <a:xfrm>
              <a:off x="2870640" y="2379600"/>
              <a:ext cx="5482440" cy="1582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apid Reduction of non-performance costs through cross-divisional knowledge transfer and better collabor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duction of quality problems along the entire product life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023840" y="2379600"/>
              <a:ext cx="1329120" cy="158220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1041480" y="5780160"/>
            <a:ext cx="7328880" cy="468360"/>
            <a:chOff x="1041480" y="5780160"/>
            <a:chExt cx="7328880" cy="468360"/>
          </a:xfrm>
        </p:grpSpPr>
        <p:sp>
          <p:nvSpPr>
            <p:cNvPr id="400" name=""/>
            <p:cNvSpPr/>
            <p:nvPr/>
          </p:nvSpPr>
          <p:spPr>
            <a:xfrm>
              <a:off x="2888280" y="5780160"/>
              <a:ext cx="548208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gh concept is ready, detailed concept to be d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xt steps: Appro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41480" y="5780160"/>
              <a:ext cx="1329120" cy="4683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  <a:effectLst>
              <a:outerShdw dist="107932" dir="27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4680" rIns="9468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97040"/>
                  <a:tab algn="l" pos="1593720"/>
                  <a:tab algn="l" pos="2390760"/>
                  <a:tab algn="l" pos="3187800"/>
                  <a:tab algn="l" pos="3984480"/>
                  <a:tab algn="l" pos="4781520"/>
                  <a:tab algn="l" pos="5578560"/>
                  <a:tab algn="l" pos="6375240"/>
                  <a:tab algn="l" pos="7172280"/>
                  <a:tab algn="l" pos="7969320"/>
                  <a:tab algn="l" pos="8766000"/>
                  <a:tab algn="l" pos="9563040"/>
                  <a:tab algn="l" pos="103600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ample Community Profil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19654200">
            <a:off x="5965920" y="1923840"/>
            <a:ext cx="208908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0000"/>
                </a:solidFill>
                <a:latin typeface="Arial"/>
              </a:rPr>
              <a:t>S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ustaining interes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76120" y="1409760"/>
            <a:ext cx="852516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30200" y="1598760"/>
            <a:ext cx="8126280" cy="2813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tion of accomplishments &amp; benef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and communic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loyee recognition (leading to satisfac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Showcase &amp; Innovation F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wareness &amp; diffusion of ide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ruit additional employees into interest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en the base of topics cove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Value measure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52440" y="1390680"/>
            <a:ext cx="814716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gible (quantitative resul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 files, number of contributions, frequency of contributions, response times, savings, rating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angible (qualitative resul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, commi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 by anecdotal evidence (stor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deas are being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s resulting from community input: value appears in the work of teams and business units, not in the communities themselv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4520" y="5140440"/>
            <a:ext cx="7569000" cy="1106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lvl="1" marL="45720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continue a group when value generation ceases (death is natural as interests ch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022640" y="4249800"/>
            <a:ext cx="522360" cy="691920"/>
          </a:xfrm>
          <a:prstGeom prst="downArrow">
            <a:avLst>
              <a:gd name="adj1" fmla="val 50000"/>
              <a:gd name="adj2" fmla="val 33115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Success Stor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520" y="1676520"/>
            <a:ext cx="81532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ll E&amp;P realizes annual benefits of $200+ million through its CoP knowledge sha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merican Management Systems (AMS) estimates that their communities save the company between $2-5 million per year and increase revenue by over $13 mill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nternational company formed communities to supplement their management development pro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ynex cut service set-up time by 80% through the increased communication that communities b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67000"/>
            <a:ext cx="7772400" cy="300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ow are Communities of Practice differ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ypes of Comm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mmunities of Practice and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stablishing and Sustaining Communities of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ff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ff0000"/>
                </a:solidFill>
                <a:latin typeface="Arial"/>
              </a:rPr>
              <a:t>Collaboration with SAP Netweav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4114800" cy="594360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ble of Cont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7561440" y="28440"/>
            <a:ext cx="1582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419720" y="1600200"/>
            <a:ext cx="44193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Collaboration with SAP NetWea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2320" indent="-162000">
              <a:lnSpc>
                <a:spcPct val="100000"/>
              </a:lnSpc>
              <a:buClr>
                <a:srgbClr val="dadada"/>
              </a:buClr>
              <a:buSzPct val="50000"/>
              <a:buFont typeface="Arial"/>
              <a:buChar char="-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Collaboration Room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2320" indent="-162000">
              <a:lnSpc>
                <a:spcPct val="100000"/>
              </a:lnSpc>
              <a:buClr>
                <a:srgbClr val="dadada"/>
              </a:buClr>
              <a:buSzPct val="50000"/>
              <a:buFont typeface="Arial"/>
              <a:buChar char="-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Collaboration Launch P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2320" indent="-162000">
              <a:lnSpc>
                <a:spcPct val="100000"/>
              </a:lnSpc>
              <a:buClr>
                <a:srgbClr val="dadada"/>
              </a:buClr>
              <a:buSzPct val="50000"/>
              <a:buFont typeface="Arial"/>
              <a:buChar char="-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Real-Time Collabo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92320" indent="-162000">
              <a:lnSpc>
                <a:spcPct val="100000"/>
              </a:lnSpc>
              <a:buClr>
                <a:srgbClr val="dadada"/>
              </a:buClr>
              <a:buSzPct val="50000"/>
              <a:buFont typeface="Arial"/>
              <a:buChar char="-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dadada"/>
                </a:solidFill>
                <a:latin typeface="Arial"/>
              </a:rPr>
              <a:t>Third-Party Integra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CM Collaboration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dadada"/>
                </a:solidFill>
                <a:latin typeface="Arial"/>
              </a:rPr>
              <a:t>Business Pack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1125"/>
              </a:spcBef>
              <a:buClr>
                <a:srgbClr val="dadada"/>
              </a:buClr>
              <a:buSzPct val="150000"/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98360" y="4597560"/>
            <a:ext cx="8632800" cy="1589400"/>
          </a:xfrm>
          <a:prstGeom prst="rect">
            <a:avLst/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lease refer to SAP Service Market Place ( 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2"/>
              </a:rPr>
              <a:t>http://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3"/>
              </a:rPr>
              <a:t>service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4"/>
              </a:rPr>
              <a:t>.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5"/>
              </a:rPr>
              <a:t>sap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6"/>
              </a:rPr>
              <a:t>.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7"/>
              </a:rPr>
              <a:t>com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8"/>
              </a:rPr>
              <a:t>/</a:t>
            </a:r>
            <a:r>
              <a:rPr b="0" lang="de-DE" sz="1400" spc="-1" strike="noStrike" u="sng">
                <a:solidFill>
                  <a:srgbClr val="dadada"/>
                </a:solidFill>
                <a:uFillTx/>
                <a:latin typeface="Arial"/>
                <a:hlinkClick r:id="rId9"/>
              </a:rPr>
              <a:t>ep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) for up to date product information on collaboration with SAP NetWeaver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ath:  Solutions Details / MySAP Business Suite / MySAP Enterprise Portal / Production Information / Collaboration / Collaboration with SAP Netweaver/ Media Center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nk to Overview Presentation on SAP Service Market Place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dadada"/>
                </a:solidFill>
                <a:uFillTx/>
                <a:latin typeface="Arial"/>
                <a:hlinkClick r:id="rId10"/>
              </a:rPr>
              <a:t>https://websmp101.sap-ag.de/~sapidb/011000358700000604782003E/10282003CollwithSAPNW_EP60.p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37720" y="1523520"/>
            <a:ext cx="8001000" cy="12358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0">
              <a:spcBef>
                <a:spcPts val="1500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oups informally bound together by shared expertise &amp; passion for a joint enterprise”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 Etienne Weng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352680"/>
            <a:ext cx="8001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utura Lt BT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Futura Lt BT"/>
              </a:rPr>
              <a:t>peers in the execution of real work.  What holds them together is a common sense of purpose and a real need to know what each other know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Lt BT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Futura Lt BT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Futura Lt BT"/>
              </a:rPr>
              <a:t>-  </a:t>
            </a:r>
            <a:r>
              <a:rPr b="1" lang="en-US" sz="2000" spc="-1" strike="noStrike">
                <a:solidFill>
                  <a:srgbClr val="000000"/>
                </a:solidFill>
                <a:latin typeface="Futura Lt BT"/>
              </a:rPr>
              <a:t>John Seely Br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A Community of Pract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43000" y="1295280"/>
            <a:ext cx="7620120" cy="5257800"/>
          </a:xfrm>
          <a:prstGeom prst="ellipse">
            <a:avLst/>
          </a:prstGeom>
          <a:solidFill>
            <a:srgbClr val="d7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1981080"/>
            <a:ext cx="5181840" cy="3886200"/>
          </a:xfrm>
          <a:prstGeom prst="ellipse">
            <a:avLst/>
          </a:prstGeom>
          <a:solidFill>
            <a:srgbClr val="f0e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23880" y="2362320"/>
            <a:ext cx="2670120" cy="3192480"/>
            <a:chOff x="1523880" y="2362320"/>
            <a:chExt cx="2670120" cy="3192480"/>
          </a:xfrm>
        </p:grpSpPr>
        <p:sp>
          <p:nvSpPr>
            <p:cNvPr id="53" name=""/>
            <p:cNvSpPr/>
            <p:nvPr/>
          </p:nvSpPr>
          <p:spPr>
            <a:xfrm>
              <a:off x="1676520" y="2743200"/>
              <a:ext cx="2361960" cy="2438280"/>
            </a:xfrm>
            <a:prstGeom prst="ellipse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2070000" y="251460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1752480" y="2666880"/>
              <a:ext cx="384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1523880" y="312408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4"/>
            <a:stretch/>
          </p:blipFill>
          <p:spPr>
            <a:xfrm>
              <a:off x="1600200" y="3886200"/>
              <a:ext cx="384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" descr=""/>
            <p:cNvPicPr/>
            <p:nvPr/>
          </p:nvPicPr>
          <p:blipFill>
            <a:blip r:embed="rId5"/>
            <a:stretch/>
          </p:blipFill>
          <p:spPr>
            <a:xfrm>
              <a:off x="2438280" y="2362320"/>
              <a:ext cx="368280" cy="75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2819520" y="2362320"/>
              <a:ext cx="384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7"/>
            <a:stretch/>
          </p:blipFill>
          <p:spPr>
            <a:xfrm>
              <a:off x="3213000" y="251460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8"/>
            <a:stretch/>
          </p:blipFill>
          <p:spPr>
            <a:xfrm>
              <a:off x="3578400" y="2666880"/>
              <a:ext cx="384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9"/>
            <a:stretch/>
          </p:blipFill>
          <p:spPr>
            <a:xfrm>
              <a:off x="2971800" y="480060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10"/>
            <a:stretch/>
          </p:blipFill>
          <p:spPr>
            <a:xfrm>
              <a:off x="2590920" y="4724280"/>
              <a:ext cx="38412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11"/>
            <a:stretch/>
          </p:blipFill>
          <p:spPr>
            <a:xfrm>
              <a:off x="2209680" y="472428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12"/>
            <a:stretch/>
          </p:blipFill>
          <p:spPr>
            <a:xfrm>
              <a:off x="1828800" y="4419720"/>
              <a:ext cx="384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13"/>
            <a:stretch/>
          </p:blipFill>
          <p:spPr>
            <a:xfrm>
              <a:off x="3809880" y="3200400"/>
              <a:ext cx="368280" cy="75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14"/>
            <a:stretch/>
          </p:blipFill>
          <p:spPr>
            <a:xfrm>
              <a:off x="3809880" y="3962520"/>
              <a:ext cx="384120" cy="76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15"/>
            <a:stretch/>
          </p:blipFill>
          <p:spPr>
            <a:xfrm>
              <a:off x="3581280" y="4419720"/>
              <a:ext cx="368280" cy="75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6"/>
            <a:stretch/>
          </p:blipFill>
          <p:spPr>
            <a:xfrm>
              <a:off x="3273480" y="4724280"/>
              <a:ext cx="384120" cy="76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" name=""/>
          <p:cNvSpPr/>
          <p:nvPr/>
        </p:nvSpPr>
        <p:spPr>
          <a:xfrm>
            <a:off x="2152800" y="347832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xpert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en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599720" y="3581280"/>
            <a:ext cx="131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7"/>
          <a:stretch/>
        </p:blipFill>
        <p:spPr>
          <a:xfrm>
            <a:off x="4419720" y="1676520"/>
            <a:ext cx="368280" cy="7538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8"/>
          <a:stretch/>
        </p:blipFill>
        <p:spPr>
          <a:xfrm>
            <a:off x="3809880" y="1676520"/>
            <a:ext cx="384120" cy="7617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9"/>
          <a:stretch/>
        </p:blipFill>
        <p:spPr>
          <a:xfrm>
            <a:off x="3048120" y="1676520"/>
            <a:ext cx="368280" cy="7538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0"/>
          <a:stretch/>
        </p:blipFill>
        <p:spPr>
          <a:xfrm>
            <a:off x="4952880" y="198108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1"/>
          <a:stretch/>
        </p:blipFill>
        <p:spPr>
          <a:xfrm>
            <a:off x="6934320" y="1371600"/>
            <a:ext cx="368280" cy="7542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2"/>
          <a:stretch/>
        </p:blipFill>
        <p:spPr>
          <a:xfrm>
            <a:off x="8534520" y="342900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3"/>
          <a:stretch/>
        </p:blipFill>
        <p:spPr>
          <a:xfrm>
            <a:off x="7772400" y="2057400"/>
            <a:ext cx="368280" cy="75420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4"/>
          <a:stretch/>
        </p:blipFill>
        <p:spPr>
          <a:xfrm>
            <a:off x="3505320" y="548640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5"/>
          <a:stretch/>
        </p:blipFill>
        <p:spPr>
          <a:xfrm>
            <a:off x="6019920" y="4419720"/>
            <a:ext cx="368280" cy="753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6"/>
          <a:stretch/>
        </p:blipFill>
        <p:spPr>
          <a:xfrm>
            <a:off x="6324480" y="365760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7"/>
          <a:stretch/>
        </p:blipFill>
        <p:spPr>
          <a:xfrm>
            <a:off x="6095880" y="2743200"/>
            <a:ext cx="368280" cy="75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8"/>
          <a:stretch/>
        </p:blipFill>
        <p:spPr>
          <a:xfrm>
            <a:off x="5562720" y="228600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9"/>
          <a:stretch/>
        </p:blipFill>
        <p:spPr>
          <a:xfrm>
            <a:off x="4114800" y="5334120"/>
            <a:ext cx="368280" cy="7538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0"/>
          <a:stretch/>
        </p:blipFill>
        <p:spPr>
          <a:xfrm>
            <a:off x="4648320" y="5334120"/>
            <a:ext cx="384120" cy="7617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1"/>
          <a:stretch/>
        </p:blipFill>
        <p:spPr>
          <a:xfrm>
            <a:off x="5105520" y="5029200"/>
            <a:ext cx="368280" cy="7542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2"/>
          <a:stretch/>
        </p:blipFill>
        <p:spPr>
          <a:xfrm>
            <a:off x="5562720" y="4724280"/>
            <a:ext cx="384120" cy="762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3"/>
          <a:stretch/>
        </p:blipFill>
        <p:spPr>
          <a:xfrm>
            <a:off x="8001000" y="4876920"/>
            <a:ext cx="384120" cy="761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4"/>
          <a:stretch/>
        </p:blipFill>
        <p:spPr>
          <a:xfrm>
            <a:off x="7086600" y="5638680"/>
            <a:ext cx="368280" cy="754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270560" y="350532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Lurk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4191120"/>
            <a:ext cx="2361960" cy="380880"/>
          </a:xfrm>
          <a:custGeom>
            <a:avLst/>
            <a:gdLst>
              <a:gd name="textAreaLeft" fmla="*/ 413280 w 2361960"/>
              <a:gd name="textAreaRight" fmla="*/ 1712520 w 23619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590920" y="3048120"/>
            <a:ext cx="2590560" cy="380880"/>
          </a:xfrm>
          <a:custGeom>
            <a:avLst/>
            <a:gdLst>
              <a:gd name="textAreaLeft" fmla="*/ 453240 w 2590560"/>
              <a:gd name="textAreaRight" fmla="*/ 1878120 w 25905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62720" y="4114800"/>
            <a:ext cx="2361960" cy="380880"/>
          </a:xfrm>
          <a:custGeom>
            <a:avLst/>
            <a:gdLst>
              <a:gd name="textAreaLeft" fmla="*/ 413280 w 2361960"/>
              <a:gd name="textAreaRight" fmla="*/ 1712520 w 23619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334120" y="2971800"/>
            <a:ext cx="2590560" cy="380880"/>
          </a:xfrm>
          <a:custGeom>
            <a:avLst/>
            <a:gdLst>
              <a:gd name="textAreaLeft" fmla="*/ 453240 w 2590560"/>
              <a:gd name="textAreaRight" fmla="*/ 1878120 w 259056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ultiple Communiti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48320" y="1295280"/>
            <a:ext cx="4190760" cy="2590920"/>
            <a:chOff x="4648320" y="1295280"/>
            <a:chExt cx="4190760" cy="2590920"/>
          </a:xfrm>
        </p:grpSpPr>
        <p:sp>
          <p:nvSpPr>
            <p:cNvPr id="97" name=""/>
            <p:cNvSpPr/>
            <p:nvPr/>
          </p:nvSpPr>
          <p:spPr>
            <a:xfrm>
              <a:off x="4648320" y="1295280"/>
              <a:ext cx="4106880" cy="2590920"/>
            </a:xfrm>
            <a:prstGeom prst="ellipse">
              <a:avLst/>
            </a:prstGeom>
            <a:solidFill>
              <a:srgbClr val="d7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30040" y="1632960"/>
              <a:ext cx="2792880" cy="1914840"/>
            </a:xfrm>
            <a:prstGeom prst="ellipse">
              <a:avLst/>
            </a:prstGeom>
            <a:solidFill>
              <a:srgbClr val="f0e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853520" y="1820880"/>
              <a:ext cx="1438920" cy="1573200"/>
              <a:chOff x="4853520" y="1820880"/>
              <a:chExt cx="1438920" cy="1573200"/>
            </a:xfrm>
          </p:grpSpPr>
          <p:sp>
            <p:nvSpPr>
              <p:cNvPr id="100" name=""/>
              <p:cNvSpPr/>
              <p:nvPr/>
            </p:nvSpPr>
            <p:spPr>
              <a:xfrm>
                <a:off x="4935600" y="2008440"/>
                <a:ext cx="1272960" cy="1201680"/>
              </a:xfrm>
              <a:prstGeom prst="ellipse">
                <a:avLst/>
              </a:prstGeom>
              <a:solidFill>
                <a:srgbClr val="dad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147640" y="18957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76640" y="19706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53520" y="21960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894560" y="25718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000" y="182088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551560" y="18208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763600" y="18957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960520" y="19706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33640" y="30225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428440" y="29847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222880" y="29847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017680" y="283464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085440" y="22338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085440" y="26092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5962320" y="283464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5796360" y="29847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7" name="" descr=""/>
            <p:cNvPicPr/>
            <p:nvPr/>
          </p:nvPicPr>
          <p:blipFill>
            <a:blip r:embed="rId17"/>
            <a:stretch/>
          </p:blipFill>
          <p:spPr>
            <a:xfrm>
              <a:off x="6414120" y="14828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18"/>
            <a:stretch/>
          </p:blipFill>
          <p:spPr>
            <a:xfrm>
              <a:off x="6085440" y="148284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19"/>
            <a:stretch/>
          </p:blipFill>
          <p:spPr>
            <a:xfrm>
              <a:off x="5675040" y="14828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20"/>
            <a:stretch/>
          </p:blipFill>
          <p:spPr>
            <a:xfrm>
              <a:off x="6701760" y="16329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1"/>
            <a:stretch/>
          </p:blipFill>
          <p:spPr>
            <a:xfrm>
              <a:off x="7769520" y="133272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22"/>
            <a:stretch/>
          </p:blipFill>
          <p:spPr>
            <a:xfrm>
              <a:off x="8632080" y="23464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23"/>
            <a:stretch/>
          </p:blipFill>
          <p:spPr>
            <a:xfrm>
              <a:off x="8221320" y="167076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24"/>
            <a:stretch/>
          </p:blipFill>
          <p:spPr>
            <a:xfrm>
              <a:off x="5921280" y="336060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25"/>
            <a:stretch/>
          </p:blipFill>
          <p:spPr>
            <a:xfrm>
              <a:off x="7276680" y="283500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6"/>
            <a:stretch/>
          </p:blipFill>
          <p:spPr>
            <a:xfrm>
              <a:off x="7440840" y="24591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27"/>
            <a:stretch/>
          </p:blipFill>
          <p:spPr>
            <a:xfrm>
              <a:off x="7317720" y="20088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28"/>
            <a:stretch/>
          </p:blipFill>
          <p:spPr>
            <a:xfrm>
              <a:off x="7030440" y="178344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29"/>
            <a:stretch/>
          </p:blipFill>
          <p:spPr>
            <a:xfrm>
              <a:off x="6249960" y="328536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30"/>
            <a:stretch/>
          </p:blipFill>
          <p:spPr>
            <a:xfrm>
              <a:off x="6537600" y="328536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31"/>
            <a:stretch/>
          </p:blipFill>
          <p:spPr>
            <a:xfrm>
              <a:off x="6783840" y="31352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32"/>
            <a:stretch/>
          </p:blipFill>
          <p:spPr>
            <a:xfrm>
              <a:off x="7030440" y="298512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3"/>
            <a:stretch/>
          </p:blipFill>
          <p:spPr>
            <a:xfrm>
              <a:off x="8344440" y="306000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" descr=""/>
            <p:cNvPicPr/>
            <p:nvPr/>
          </p:nvPicPr>
          <p:blipFill>
            <a:blip r:embed="rId34"/>
            <a:stretch/>
          </p:blipFill>
          <p:spPr>
            <a:xfrm>
              <a:off x="7851600" y="3435480"/>
              <a:ext cx="198360" cy="3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"/>
          <p:cNvSpPr/>
          <p:nvPr/>
        </p:nvSpPr>
        <p:spPr>
          <a:xfrm rot="8426400">
            <a:off x="837720" y="3657240"/>
            <a:ext cx="4106880" cy="2590920"/>
          </a:xfrm>
          <a:prstGeom prst="ellipse">
            <a:avLst/>
          </a:prstGeom>
          <a:solidFill>
            <a:srgbClr val="d7eb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14400" y="1523880"/>
            <a:ext cx="4191120" cy="2590920"/>
            <a:chOff x="914400" y="1523880"/>
            <a:chExt cx="4191120" cy="2590920"/>
          </a:xfrm>
        </p:grpSpPr>
        <p:sp>
          <p:nvSpPr>
            <p:cNvPr id="137" name=""/>
            <p:cNvSpPr/>
            <p:nvPr/>
          </p:nvSpPr>
          <p:spPr>
            <a:xfrm>
              <a:off x="914400" y="1523880"/>
              <a:ext cx="4107240" cy="2590920"/>
            </a:xfrm>
            <a:prstGeom prst="ellipse">
              <a:avLst/>
            </a:prstGeom>
            <a:solidFill>
              <a:srgbClr val="d7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96480" y="1861560"/>
              <a:ext cx="2792880" cy="1914840"/>
            </a:xfrm>
            <a:prstGeom prst="ellipse">
              <a:avLst/>
            </a:prstGeom>
            <a:solidFill>
              <a:srgbClr val="f0e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9" name=""/>
            <p:cNvGrpSpPr/>
            <p:nvPr/>
          </p:nvGrpSpPr>
          <p:grpSpPr>
            <a:xfrm>
              <a:off x="1119600" y="2049480"/>
              <a:ext cx="1438920" cy="1573200"/>
              <a:chOff x="1119600" y="2049480"/>
              <a:chExt cx="1438920" cy="157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1201680" y="2237040"/>
                <a:ext cx="1272960" cy="1201680"/>
              </a:xfrm>
              <a:prstGeom prst="ellipse">
                <a:avLst/>
              </a:prstGeom>
              <a:solidFill>
                <a:srgbClr val="dad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41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1413720" y="21243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1242720" y="21992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1119600" y="24246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1160640" y="28004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1612080" y="204948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6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1817640" y="20494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7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2029680" y="21243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2226600" y="21992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9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1899720" y="32511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0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1694520" y="32133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1488960" y="32133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1283760" y="306324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3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2351520" y="24624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4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2351520" y="28378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2228400" y="306324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2062440" y="32133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57" name="" descr=""/>
            <p:cNvPicPr/>
            <p:nvPr/>
          </p:nvPicPr>
          <p:blipFill>
            <a:blip r:embed="rId51"/>
            <a:stretch/>
          </p:blipFill>
          <p:spPr>
            <a:xfrm>
              <a:off x="2680560" y="17114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52"/>
            <a:stretch/>
          </p:blipFill>
          <p:spPr>
            <a:xfrm>
              <a:off x="2351880" y="171144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53"/>
            <a:stretch/>
          </p:blipFill>
          <p:spPr>
            <a:xfrm>
              <a:off x="1941120" y="17114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54"/>
            <a:stretch/>
          </p:blipFill>
          <p:spPr>
            <a:xfrm>
              <a:off x="2967840" y="18615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55"/>
            <a:stretch/>
          </p:blipFill>
          <p:spPr>
            <a:xfrm>
              <a:off x="4035960" y="156132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56"/>
            <a:stretch/>
          </p:blipFill>
          <p:spPr>
            <a:xfrm>
              <a:off x="4898520" y="25750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57"/>
            <a:stretch/>
          </p:blipFill>
          <p:spPr>
            <a:xfrm>
              <a:off x="4487760" y="189936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58"/>
            <a:stretch/>
          </p:blipFill>
          <p:spPr>
            <a:xfrm>
              <a:off x="2187720" y="358920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59"/>
            <a:stretch/>
          </p:blipFill>
          <p:spPr>
            <a:xfrm>
              <a:off x="3543120" y="306360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60"/>
            <a:stretch/>
          </p:blipFill>
          <p:spPr>
            <a:xfrm>
              <a:off x="3707280" y="26877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61"/>
            <a:stretch/>
          </p:blipFill>
          <p:spPr>
            <a:xfrm>
              <a:off x="3583800" y="22374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62"/>
            <a:stretch/>
          </p:blipFill>
          <p:spPr>
            <a:xfrm>
              <a:off x="3296520" y="201204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63"/>
            <a:stretch/>
          </p:blipFill>
          <p:spPr>
            <a:xfrm>
              <a:off x="2516040" y="351396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64"/>
            <a:stretch/>
          </p:blipFill>
          <p:spPr>
            <a:xfrm>
              <a:off x="2803680" y="351396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65"/>
            <a:stretch/>
          </p:blipFill>
          <p:spPr>
            <a:xfrm>
              <a:off x="3050280" y="33638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66"/>
            <a:stretch/>
          </p:blipFill>
          <p:spPr>
            <a:xfrm>
              <a:off x="3296520" y="321372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67"/>
            <a:stretch/>
          </p:blipFill>
          <p:spPr>
            <a:xfrm>
              <a:off x="4610880" y="328860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68"/>
            <a:stretch/>
          </p:blipFill>
          <p:spPr>
            <a:xfrm>
              <a:off x="4118040" y="3664080"/>
              <a:ext cx="198360" cy="371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5" name=""/>
          <p:cNvGrpSpPr/>
          <p:nvPr/>
        </p:nvGrpSpPr>
        <p:grpSpPr>
          <a:xfrm>
            <a:off x="4724280" y="4038480"/>
            <a:ext cx="4191120" cy="2590920"/>
            <a:chOff x="4724280" y="4038480"/>
            <a:chExt cx="4191120" cy="2590920"/>
          </a:xfrm>
        </p:grpSpPr>
        <p:sp>
          <p:nvSpPr>
            <p:cNvPr id="176" name=""/>
            <p:cNvSpPr/>
            <p:nvPr/>
          </p:nvSpPr>
          <p:spPr>
            <a:xfrm>
              <a:off x="4724280" y="4038480"/>
              <a:ext cx="4107240" cy="2590920"/>
            </a:xfrm>
            <a:prstGeom prst="ellipse">
              <a:avLst/>
            </a:prstGeom>
            <a:solidFill>
              <a:srgbClr val="d7eb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806360" y="4376160"/>
              <a:ext cx="2792880" cy="1914840"/>
            </a:xfrm>
            <a:prstGeom prst="ellipse">
              <a:avLst/>
            </a:prstGeom>
            <a:solidFill>
              <a:srgbClr val="f0efb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929480" y="4564080"/>
              <a:ext cx="1438920" cy="1573200"/>
              <a:chOff x="4929480" y="4564080"/>
              <a:chExt cx="1438920" cy="1573200"/>
            </a:xfrm>
          </p:grpSpPr>
          <p:sp>
            <p:nvSpPr>
              <p:cNvPr id="179" name=""/>
              <p:cNvSpPr/>
              <p:nvPr/>
            </p:nvSpPr>
            <p:spPr>
              <a:xfrm>
                <a:off x="5011560" y="4751640"/>
                <a:ext cx="1272960" cy="1201680"/>
              </a:xfrm>
              <a:prstGeom prst="ellipse">
                <a:avLst/>
              </a:prstGeom>
              <a:solidFill>
                <a:srgbClr val="dadad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" name="" descr=""/>
              <p:cNvPicPr/>
              <p:nvPr/>
            </p:nvPicPr>
            <p:blipFill>
              <a:blip r:embed="rId69"/>
              <a:stretch/>
            </p:blipFill>
            <p:spPr>
              <a:xfrm>
                <a:off x="5223600" y="46389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70"/>
              <a:stretch/>
            </p:blipFill>
            <p:spPr>
              <a:xfrm>
                <a:off x="5052600" y="47138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71"/>
              <a:stretch/>
            </p:blipFill>
            <p:spPr>
              <a:xfrm>
                <a:off x="4929480" y="49392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72"/>
              <a:stretch/>
            </p:blipFill>
            <p:spPr>
              <a:xfrm>
                <a:off x="4970520" y="53150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73"/>
              <a:stretch/>
            </p:blipFill>
            <p:spPr>
              <a:xfrm>
                <a:off x="5421960" y="456408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74"/>
              <a:stretch/>
            </p:blipFill>
            <p:spPr>
              <a:xfrm>
                <a:off x="5627520" y="45640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75"/>
              <a:stretch/>
            </p:blipFill>
            <p:spPr>
              <a:xfrm>
                <a:off x="5839560" y="46389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76"/>
              <a:stretch/>
            </p:blipFill>
            <p:spPr>
              <a:xfrm>
                <a:off x="6036480" y="471384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77"/>
              <a:stretch/>
            </p:blipFill>
            <p:spPr>
              <a:xfrm>
                <a:off x="5709600" y="57657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78"/>
              <a:stretch/>
            </p:blipFill>
            <p:spPr>
              <a:xfrm>
                <a:off x="5504400" y="57279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79"/>
              <a:stretch/>
            </p:blipFill>
            <p:spPr>
              <a:xfrm>
                <a:off x="5298840" y="572796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1" name="" descr=""/>
              <p:cNvPicPr/>
              <p:nvPr/>
            </p:nvPicPr>
            <p:blipFill>
              <a:blip r:embed="rId80"/>
              <a:stretch/>
            </p:blipFill>
            <p:spPr>
              <a:xfrm>
                <a:off x="5093640" y="557784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" descr=""/>
              <p:cNvPicPr/>
              <p:nvPr/>
            </p:nvPicPr>
            <p:blipFill>
              <a:blip r:embed="rId81"/>
              <a:stretch/>
            </p:blipFill>
            <p:spPr>
              <a:xfrm>
                <a:off x="6161400" y="497700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" descr=""/>
              <p:cNvPicPr/>
              <p:nvPr/>
            </p:nvPicPr>
            <p:blipFill>
              <a:blip r:embed="rId82"/>
              <a:stretch/>
            </p:blipFill>
            <p:spPr>
              <a:xfrm>
                <a:off x="6161400" y="5352480"/>
                <a:ext cx="207000" cy="375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" descr=""/>
              <p:cNvPicPr/>
              <p:nvPr/>
            </p:nvPicPr>
            <p:blipFill>
              <a:blip r:embed="rId83"/>
              <a:stretch/>
            </p:blipFill>
            <p:spPr>
              <a:xfrm>
                <a:off x="6038280" y="5577840"/>
                <a:ext cx="19836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" descr=""/>
              <p:cNvPicPr/>
              <p:nvPr/>
            </p:nvPicPr>
            <p:blipFill>
              <a:blip r:embed="rId84"/>
              <a:stretch/>
            </p:blipFill>
            <p:spPr>
              <a:xfrm>
                <a:off x="5872320" y="5727960"/>
                <a:ext cx="207000" cy="3754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96" name="" descr=""/>
            <p:cNvPicPr/>
            <p:nvPr/>
          </p:nvPicPr>
          <p:blipFill>
            <a:blip r:embed="rId85"/>
            <a:stretch/>
          </p:blipFill>
          <p:spPr>
            <a:xfrm>
              <a:off x="6490440" y="42260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86"/>
            <a:stretch/>
          </p:blipFill>
          <p:spPr>
            <a:xfrm>
              <a:off x="6161760" y="422604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87"/>
            <a:stretch/>
          </p:blipFill>
          <p:spPr>
            <a:xfrm>
              <a:off x="5751000" y="422604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88"/>
            <a:stretch/>
          </p:blipFill>
          <p:spPr>
            <a:xfrm>
              <a:off x="6777720" y="43761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89"/>
            <a:stretch/>
          </p:blipFill>
          <p:spPr>
            <a:xfrm>
              <a:off x="7845840" y="407592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90"/>
            <a:stretch/>
          </p:blipFill>
          <p:spPr>
            <a:xfrm>
              <a:off x="8708400" y="50896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91"/>
            <a:stretch/>
          </p:blipFill>
          <p:spPr>
            <a:xfrm>
              <a:off x="8297640" y="441396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92"/>
            <a:stretch/>
          </p:blipFill>
          <p:spPr>
            <a:xfrm>
              <a:off x="5997600" y="610380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93"/>
            <a:stretch/>
          </p:blipFill>
          <p:spPr>
            <a:xfrm>
              <a:off x="7353000" y="557820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" descr=""/>
            <p:cNvPicPr/>
            <p:nvPr/>
          </p:nvPicPr>
          <p:blipFill>
            <a:blip r:embed="rId94"/>
            <a:stretch/>
          </p:blipFill>
          <p:spPr>
            <a:xfrm>
              <a:off x="7517160" y="520236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95"/>
            <a:stretch/>
          </p:blipFill>
          <p:spPr>
            <a:xfrm>
              <a:off x="7393680" y="47520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96"/>
            <a:stretch/>
          </p:blipFill>
          <p:spPr>
            <a:xfrm>
              <a:off x="7106400" y="452664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97"/>
            <a:stretch/>
          </p:blipFill>
          <p:spPr>
            <a:xfrm>
              <a:off x="6325920" y="6028560"/>
              <a:ext cx="198360" cy="371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98"/>
            <a:stretch/>
          </p:blipFill>
          <p:spPr>
            <a:xfrm>
              <a:off x="6613560" y="602856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99"/>
            <a:stretch/>
          </p:blipFill>
          <p:spPr>
            <a:xfrm>
              <a:off x="6860160" y="58784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100"/>
            <a:stretch/>
          </p:blipFill>
          <p:spPr>
            <a:xfrm>
              <a:off x="7106400" y="572832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101"/>
            <a:stretch/>
          </p:blipFill>
          <p:spPr>
            <a:xfrm>
              <a:off x="8420760" y="580320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02"/>
            <a:stretch/>
          </p:blipFill>
          <p:spPr>
            <a:xfrm>
              <a:off x="7927920" y="6178680"/>
              <a:ext cx="198360" cy="37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"/>
          <p:cNvSpPr/>
          <p:nvPr/>
        </p:nvSpPr>
        <p:spPr>
          <a:xfrm rot="8427600">
            <a:off x="1599480" y="3733920"/>
            <a:ext cx="2792520" cy="1914480"/>
          </a:xfrm>
          <a:prstGeom prst="ellipse">
            <a:avLst/>
          </a:prstGeom>
          <a:solidFill>
            <a:srgbClr val="f0efb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2133720" y="3962520"/>
            <a:ext cx="1439640" cy="1573200"/>
            <a:chOff x="2133720" y="3962520"/>
            <a:chExt cx="1439640" cy="1573200"/>
          </a:xfrm>
        </p:grpSpPr>
        <p:sp>
          <p:nvSpPr>
            <p:cNvPr id="216" name=""/>
            <p:cNvSpPr/>
            <p:nvPr/>
          </p:nvSpPr>
          <p:spPr>
            <a:xfrm>
              <a:off x="2215800" y="4150080"/>
              <a:ext cx="1273320" cy="1201680"/>
            </a:xfrm>
            <a:prstGeom prst="ellipse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7" name="" descr=""/>
            <p:cNvPicPr/>
            <p:nvPr/>
          </p:nvPicPr>
          <p:blipFill>
            <a:blip r:embed="rId103"/>
            <a:stretch/>
          </p:blipFill>
          <p:spPr>
            <a:xfrm>
              <a:off x="2428200" y="40374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104"/>
            <a:stretch/>
          </p:blipFill>
          <p:spPr>
            <a:xfrm>
              <a:off x="2256840" y="41122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" descr=""/>
            <p:cNvPicPr/>
            <p:nvPr/>
          </p:nvPicPr>
          <p:blipFill>
            <a:blip r:embed="rId105"/>
            <a:stretch/>
          </p:blipFill>
          <p:spPr>
            <a:xfrm>
              <a:off x="2133720" y="43376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106"/>
            <a:stretch/>
          </p:blipFill>
          <p:spPr>
            <a:xfrm>
              <a:off x="2174760" y="47134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107"/>
            <a:stretch/>
          </p:blipFill>
          <p:spPr>
            <a:xfrm>
              <a:off x="2626560" y="396252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108"/>
            <a:stretch/>
          </p:blipFill>
          <p:spPr>
            <a:xfrm>
              <a:off x="2832120" y="396252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109"/>
            <a:stretch/>
          </p:blipFill>
          <p:spPr>
            <a:xfrm>
              <a:off x="3044520" y="40374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" descr=""/>
            <p:cNvPicPr/>
            <p:nvPr/>
          </p:nvPicPr>
          <p:blipFill>
            <a:blip r:embed="rId110"/>
            <a:stretch/>
          </p:blipFill>
          <p:spPr>
            <a:xfrm>
              <a:off x="3241440" y="411228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" descr=""/>
            <p:cNvPicPr/>
            <p:nvPr/>
          </p:nvPicPr>
          <p:blipFill>
            <a:blip r:embed="rId111"/>
            <a:stretch/>
          </p:blipFill>
          <p:spPr>
            <a:xfrm>
              <a:off x="2914200" y="51642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" descr=""/>
            <p:cNvPicPr/>
            <p:nvPr/>
          </p:nvPicPr>
          <p:blipFill>
            <a:blip r:embed="rId112"/>
            <a:stretch/>
          </p:blipFill>
          <p:spPr>
            <a:xfrm>
              <a:off x="2709000" y="5126400"/>
              <a:ext cx="207000" cy="37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113"/>
            <a:stretch/>
          </p:blipFill>
          <p:spPr>
            <a:xfrm>
              <a:off x="2503440" y="512640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114"/>
            <a:stretch/>
          </p:blipFill>
          <p:spPr>
            <a:xfrm>
              <a:off x="2297880" y="497628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115"/>
            <a:stretch/>
          </p:blipFill>
          <p:spPr>
            <a:xfrm>
              <a:off x="3366360" y="437544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116"/>
            <a:stretch/>
          </p:blipFill>
          <p:spPr>
            <a:xfrm>
              <a:off x="3366360" y="4750920"/>
              <a:ext cx="207000" cy="37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117"/>
            <a:stretch/>
          </p:blipFill>
          <p:spPr>
            <a:xfrm>
              <a:off x="3242880" y="4976280"/>
              <a:ext cx="198360" cy="37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118"/>
            <a:stretch/>
          </p:blipFill>
          <p:spPr>
            <a:xfrm>
              <a:off x="3076920" y="5126400"/>
              <a:ext cx="207000" cy="375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3" name="" descr=""/>
          <p:cNvPicPr/>
          <p:nvPr/>
        </p:nvPicPr>
        <p:blipFill>
          <a:blip r:embed="rId119"/>
          <a:stretch/>
        </p:blipFill>
        <p:spPr>
          <a:xfrm>
            <a:off x="1676520" y="4952880"/>
            <a:ext cx="199800" cy="3715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120"/>
          <a:stretch/>
        </p:blipFill>
        <p:spPr>
          <a:xfrm>
            <a:off x="2071800" y="3852720"/>
            <a:ext cx="206280" cy="376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121"/>
          <a:stretch/>
        </p:blipFill>
        <p:spPr>
          <a:xfrm>
            <a:off x="1905120" y="4191120"/>
            <a:ext cx="198360" cy="3715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122"/>
          <a:stretch/>
        </p:blipFill>
        <p:spPr>
          <a:xfrm>
            <a:off x="2819520" y="3505320"/>
            <a:ext cx="206280" cy="3744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123"/>
          <a:stretch/>
        </p:blipFill>
        <p:spPr>
          <a:xfrm>
            <a:off x="2971800" y="5562720"/>
            <a:ext cx="198360" cy="3715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124"/>
          <a:stretch/>
        </p:blipFill>
        <p:spPr>
          <a:xfrm>
            <a:off x="4419720" y="3657600"/>
            <a:ext cx="206280" cy="37620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125"/>
          <a:stretch/>
        </p:blipFill>
        <p:spPr>
          <a:xfrm>
            <a:off x="3733920" y="3429000"/>
            <a:ext cx="198360" cy="37152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126"/>
          <a:stretch/>
        </p:blipFill>
        <p:spPr>
          <a:xfrm>
            <a:off x="2209680" y="5638680"/>
            <a:ext cx="206640" cy="37476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127"/>
          <a:stretch/>
        </p:blipFill>
        <p:spPr>
          <a:xfrm>
            <a:off x="3581280" y="5105520"/>
            <a:ext cx="198720" cy="37152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128"/>
          <a:stretch/>
        </p:blipFill>
        <p:spPr>
          <a:xfrm>
            <a:off x="3886200" y="4800600"/>
            <a:ext cx="208080" cy="3762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129"/>
          <a:stretch/>
        </p:blipFill>
        <p:spPr>
          <a:xfrm>
            <a:off x="1828800" y="5334120"/>
            <a:ext cx="198360" cy="37152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130"/>
          <a:stretch/>
        </p:blipFill>
        <p:spPr>
          <a:xfrm>
            <a:off x="1752480" y="4495680"/>
            <a:ext cx="206640" cy="3762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131"/>
          <a:stretch/>
        </p:blipFill>
        <p:spPr>
          <a:xfrm>
            <a:off x="2666880" y="5638680"/>
            <a:ext cx="198720" cy="3715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132"/>
          <a:stretch/>
        </p:blipFill>
        <p:spPr>
          <a:xfrm>
            <a:off x="3276720" y="5334120"/>
            <a:ext cx="207720" cy="3744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133"/>
          <a:stretch/>
        </p:blipFill>
        <p:spPr>
          <a:xfrm>
            <a:off x="2666880" y="6334200"/>
            <a:ext cx="198720" cy="3715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134"/>
          <a:stretch/>
        </p:blipFill>
        <p:spPr>
          <a:xfrm>
            <a:off x="3429000" y="5867280"/>
            <a:ext cx="206280" cy="3762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135"/>
          <a:stretch/>
        </p:blipFill>
        <p:spPr>
          <a:xfrm>
            <a:off x="4114800" y="4267080"/>
            <a:ext cx="208080" cy="3747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136"/>
          <a:stretch/>
        </p:blipFill>
        <p:spPr>
          <a:xfrm>
            <a:off x="4572000" y="3962520"/>
            <a:ext cx="198360" cy="3715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4952880" y="1295280"/>
            <a:ext cx="2743200" cy="1219320"/>
          </a:xfrm>
          <a:prstGeom prst="cloudCallout">
            <a:avLst>
              <a:gd name="adj1" fmla="val -46699"/>
              <a:gd name="adj2" fmla="val 625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Lurker in one, mentor in an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66680" y="2362320"/>
            <a:ext cx="2514600" cy="914400"/>
          </a:xfrm>
          <a:prstGeom prst="cloudCallout">
            <a:avLst>
              <a:gd name="adj1" fmla="val 42171"/>
              <a:gd name="adj2" fmla="val 79689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Overlapping Comm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4114800"/>
            <a:ext cx="2514600" cy="1143000"/>
          </a:xfrm>
          <a:prstGeom prst="cloudCallout">
            <a:avLst>
              <a:gd name="adj1" fmla="val 48486"/>
              <a:gd name="adj2" fmla="val -92500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A community waiting to ha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91320" y="4267080"/>
            <a:ext cx="2514600" cy="838440"/>
          </a:xfrm>
          <a:prstGeom prst="cloudCallout">
            <a:avLst>
              <a:gd name="adj1" fmla="val -55680"/>
              <a:gd name="adj2" fmla="val 72157"/>
            </a:avLst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utura Md BT"/>
              </a:rPr>
              <a:t>Isolated Commun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The structure of Communities of Practi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02400" y="35942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340080" y="2603520"/>
            <a:ext cx="5257800" cy="350532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788000" y="3517920"/>
            <a:ext cx="2361960" cy="1600200"/>
          </a:xfrm>
          <a:prstGeom prst="ellipse">
            <a:avLst/>
          </a:prstGeom>
          <a:solidFill>
            <a:srgbClr val="d8c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26080" y="3898800"/>
            <a:ext cx="838080" cy="7621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560520" y="1308240"/>
            <a:ext cx="4572000" cy="1263240"/>
            <a:chOff x="560520" y="1308240"/>
            <a:chExt cx="4572000" cy="1263240"/>
          </a:xfrm>
        </p:grpSpPr>
        <p:sp>
          <p:nvSpPr>
            <p:cNvPr id="261" name=""/>
            <p:cNvSpPr/>
            <p:nvPr/>
          </p:nvSpPr>
          <p:spPr>
            <a:xfrm>
              <a:off x="914400" y="1333440"/>
              <a:ext cx="228600" cy="228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914400" y="1689120"/>
              <a:ext cx="228600" cy="228600"/>
            </a:xfrm>
            <a:prstGeom prst="rect">
              <a:avLst/>
            </a:prstGeom>
            <a:solidFill>
              <a:srgbClr val="d8c1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14400" y="2084400"/>
              <a:ext cx="228600" cy="22860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0520" y="1308240"/>
              <a:ext cx="45720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7640" bIns="17640" anchor="t">
              <a:spAutoFit/>
            </a:bodyPr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Core Group: 10-15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Active: 15-20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 Narrow"/>
                </a:rPr>
                <a:t>Peripheral: 65-75% (An essential dimension of communities of practi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127080" y="624852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unities of Practice:  The Organizational Frontier by Etienne Wenger and William M. Snyder, Harvard Business Review, 1999 and “Communities of Practice: A Guide to Managing Knowledge” by Etienne Wenger, Richard McDermott, William Snyder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68280" y="1174320"/>
            <a:ext cx="8074080" cy="45435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 fontScale="99000"/>
          </a:bodyPr>
          <a:p>
            <a:pPr marL="339480" indent="-3394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organis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drive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ve problems quick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recruit &amp; retain sta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ffuse best pract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oss-fertilize ideas, increase opportunities for inno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 organisational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p into employee tacit 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s knowledge sharing natural, not for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commun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a common langu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velop professional ski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individu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 people do their jo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uilding a sense of community bonds within organis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lps people to keep up to 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76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vides challenges and opportunities to contribu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68200" y="5964120"/>
            <a:ext cx="82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nities of Practice:  The Organizational Frontier by Etienne Wenger and William M. Snyder, Harvard Business Review, 1999 and “Communities of Practice: A Guide to Managing Knowledge” by Etienne Wenger, Richard McDermott, William Snyder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304920" y="838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What’s in it for me ?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81640" y="2538360"/>
            <a:ext cx="1720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Networ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808280" y="3200400"/>
            <a:ext cx="207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Putting names to fac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55520" y="2262240"/>
            <a:ext cx="175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Help Oth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57560" y="2819520"/>
            <a:ext cx="21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Improve my knowled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38480" y="36576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New ideas and perspectiv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0160" y="3693960"/>
            <a:ext cx="193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Comradeshi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886360" y="2362320"/>
            <a:ext cx="211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Help develop my care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19880" y="3336840"/>
            <a:ext cx="180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Waste less ti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3520" y="4389480"/>
            <a:ext cx="304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Univers"/>
              </a:rPr>
              <a:t>need to write a training evaluation plan for my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57200" y="4267080"/>
            <a:ext cx="3200400" cy="1371600"/>
          </a:xfrm>
          <a:prstGeom prst="ellipse">
            <a:avLst/>
          </a:prstGeom>
          <a:noFill/>
          <a:ln w="28440">
            <a:solidFill>
              <a:srgbClr val="cc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81280" y="4495680"/>
            <a:ext cx="55627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0033"/>
                </a:solidFill>
                <a:latin typeface="Univers"/>
              </a:rPr>
              <a:t>Task needs play a key role in driving individual participation and organisational learning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Benefits for the individual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How are Communities of Practice Different ?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314280" y="1619280"/>
          <a:ext cx="8155080" cy="407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314280" y="1619280"/>
                    <a:ext cx="8155080" cy="40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98440" y="6102360"/>
            <a:ext cx="732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xcerpt from “Communities of Practice:  The Organizational Frontier,  by Etienne Weng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High Level Content Specification</dc:description>
  <dc:language>en-US</dc:language>
  <cp:lastModifiedBy>d031429</cp:lastModifiedBy>
  <cp:lastPrinted>2000-05-10T17:23:18Z</cp:lastPrinted>
  <dcterms:modified xsi:type="dcterms:W3CDTF">2003-11-27T19:07:48Z</dcterms:modified>
  <cp:revision>628</cp:revision>
  <dc:subject/>
  <dc:title>EP Sample High Level Content Specification </dc:title>
</cp:coreProperties>
</file>