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A32095-931F-422F-A40D-A09ABFE01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3240" y="71424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41040" y="4357440"/>
            <a:ext cx="5032440" cy="414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Resume important aspects of previous portal projects (e.g. Employee Por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Document current state of knowledge regarding identified user requir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Broaden brandville guidelines in portal 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e existing knowledge to cut down on time required for requirements gathering /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80C1E11E-8DDC-4EA2-B820-533447C06C2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" Target="slide20.xml"/><Relationship Id="rId5" Type="http://schemas.openxmlformats.org/officeDocument/2006/relationships/slide" Target="slide13.xml"/><Relationship Id="rId6" Type="http://schemas.openxmlformats.org/officeDocument/2006/relationships/slide" Target="slide31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3.xm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" Target="slide25.xml"/><Relationship Id="rId3" Type="http://schemas.openxmlformats.org/officeDocument/2006/relationships/slide" Target="slide25.xml"/><Relationship Id="rId4" Type="http://schemas.openxmlformats.org/officeDocument/2006/relationships/slide" Target="slide40.xml"/><Relationship Id="rId5" Type="http://schemas.openxmlformats.org/officeDocument/2006/relationships/slide" Target="slide38.xml"/><Relationship Id="rId6" Type="http://schemas.openxmlformats.org/officeDocument/2006/relationships/slide" Target="slide36.xml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1971720"/>
            <a:ext cx="6750000" cy="487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yle Guide for AIM Port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76160" y="3266640"/>
            <a:ext cx="6064200" cy="226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Autofit/>
          </a:bodyPr>
          <a:p>
            <a:pPr indent="0" algn="ctr">
              <a:lnSpc>
                <a:spcPts val="4499"/>
              </a:lnSpc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prise Portal Servi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ease 0.9, May 12th, 2003   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4 Zones - Navigation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789080" y="1467000"/>
            <a:ext cx="4049640" cy="35337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upper Navigation has a defined size of 90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The Primary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eft Navigation has a defined size of 320 (height) x 144 (width).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is left Navigation Zone can be minimized to 320 (height) x 18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The 2nd and 3rd level navigation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Collapse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0">
              <a:spcBef>
                <a:spcPts val="162"/>
              </a:spcBef>
              <a:buNone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5 Zones - Content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827240" y="1466640"/>
            <a:ext cx="4049640" cy="31658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Content Zone has a defined size of 320 (height) x 634 (width) pixel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he Content Zone has a maximized size of 320 (height) x 760 (width) pixels if the the left Navigation Zone is minimized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Footer including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Security</a:t>
            </a:r>
            <a:r>
              <a:rPr b="0" lang="en-US" sz="1300" spc="-1" strike="noStrike" u="sng" baseline="30000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iView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Bread Crumb Navig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1300" spc="-1" strike="noStrike" u="sng">
                <a:solidFill>
                  <a:srgbClr val="000000"/>
                </a:solidFill>
                <a:uFillTx/>
                <a:latin typeface="Arial"/>
              </a:rPr>
              <a:t>Eco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 Country / Group / Corporat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1708200" y="1389240"/>
            <a:ext cx="2987640" cy="234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3. Portal Design Elements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5162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3.1	Bread Crumb Nav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2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o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4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View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5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6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7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purpose Sear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8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vigation (Primary and Secondary Navigatio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9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 Country/ Unit/ Topic Sel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.11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User Identifi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25000" y="1294920"/>
            <a:ext cx="7239240" cy="44197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lists the pages, visited by the user in a chronological or hierarchical order. By clicking on an element the user navigates back to the corresponding portal pag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Bread Crumb Naviga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 defined distance of 18 pixels to the upper margin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18 pixels to the side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featured in system font Arial Regular,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The Arial character “&gt;” is used as a separato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ength of the path is based on the content width of 432 pixels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aximizing content width doesn’t affect its positio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ths that are too long are interrupted (see example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8312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3656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1 Elements - Bread Crumb Naviga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168720" y="4017960"/>
            <a:ext cx="438156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7571880" y="4132440"/>
            <a:ext cx="1351080" cy="1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16760" y="387684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d Crumb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93920" y="27306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16280" y="1879560"/>
            <a:ext cx="901440" cy="123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93960" y="2430360"/>
            <a:ext cx="1027080" cy="11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74240" y="1420920"/>
            <a:ext cx="7239240" cy="44193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positioned in the Content Zone near the bottom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a defined distance of 18 pixels to the side margi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is featured in system font Arial Regular, size 10px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separated from the content by a 1px solid li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Eco Copyright with the year of issue is valid for Internet and Intrane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he Internet the content of the Footer must be in accordance with the respective legal regulation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ooter contains links to further information (Copyright, Privacy Policy, Legal, Corporate Info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Ru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dividual agreements of the organizational units are possibl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rcRect l="0" t="18350" r="17994" b="0"/>
          <a:stretch/>
        </p:blipFill>
        <p:spPr>
          <a:xfrm>
            <a:off x="1708200" y="1801800"/>
            <a:ext cx="6251400" cy="46688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2 Elements - Footer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916760" y="5676840"/>
            <a:ext cx="1454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o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7577280" y="5943600"/>
            <a:ext cx="134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60800" y="5732640"/>
            <a:ext cx="4389480" cy="372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43240" y="18032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06600" y="5937120"/>
            <a:ext cx="401760" cy="1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021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Help guides the user to a page where he’s provided with topic and task oriented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instructions on how to use the functionalities and content of the Port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link is positioned in the "Local" zone on the extreme right. It is generally used in combination with the link to Sitemap and Contact and its position is fixe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 combination Sitemap, Contact, Help has a defined distance of 12 pixels to the bottom margin and 9 pixels to the left to the vertical line which is defined by the standard grid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1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rcRect l="18312" t="0" r="0" b="17808"/>
          <a:stretch/>
        </p:blipFill>
        <p:spPr>
          <a:xfrm>
            <a:off x="1708200" y="1773360"/>
            <a:ext cx="6224400" cy="46972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5800" y="1239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3 Elements - Help (2 of 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30880" y="3218040"/>
            <a:ext cx="419400" cy="220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571880" y="3332160"/>
            <a:ext cx="135108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916760" y="3076560"/>
            <a:ext cx="1227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66960" y="27306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25000"/>
          </a:bodyPr>
          <a:p>
            <a:pPr marL="44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are positioned in the Content Zone.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ze and position of the iViews are adapted on the Fibonacci Gri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iView consists of a header bar and a content area.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contains the iView title (left) and small icons (right) for accessing standard functionalit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View width and height depends on the chosen content lay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s shouldn’t utilize horizontal scrollbar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iew content has to be designed with the constrained iView height &amp; width in mind. If not iViews automatically produce scroll bars when they have a constrained size (height and width) and the content is larger than that constrained iView siz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header bar is 18 px in height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280" indent="-442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222120"/>
                <a:tab algn="l" pos="444600"/>
                <a:tab algn="l" pos="666720"/>
                <a:tab algn="l" pos="888840"/>
                <a:tab algn="l" pos="1111320"/>
                <a:tab algn="l" pos="1333440"/>
                <a:tab algn="l" pos="1555920"/>
                <a:tab algn="l" pos="1778040"/>
                <a:tab algn="l" pos="2000160"/>
                <a:tab algn="l" pos="2222640"/>
                <a:tab algn="l" pos="2444760"/>
                <a:tab algn="l" pos="2666880"/>
                <a:tab algn="l" pos="2889360"/>
                <a:tab algn="l" pos="3111480"/>
                <a:tab algn="l" pos="3333600"/>
                <a:tab algn="l" pos="3556080"/>
                <a:tab algn="l" pos="3778200"/>
                <a:tab algn="l" pos="4000680"/>
                <a:tab algn="l" pos="4222800"/>
                <a:tab algn="l" pos="4444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pacing between the iView border and the actual content is 9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1 of 4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 Introduction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956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style guide contain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sual design, interaction elements for portal sites and its applicatio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services and iViews). I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bines several requirem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hat arise from different boundary conditions like the SAP-platform, the Eco online design guidelines, context of use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tionally, practic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rien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as gathered in previous &amp; current portal projects and careful attention to considerations regarding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bility best pract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were taken into account to assure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actical resul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is an additional chapter to the existing E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nline Design Guidelin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t brandville.eco.com. Therefore the document centers on definitions that differ or are absent in the Eco Online Design Guidelin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al specifications are highlighted i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bold and italic.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Underlined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ms link directly to slides with more detailed information on the respective topi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08200" y="178128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920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27520" y="3627360"/>
            <a:ext cx="4795560" cy="17017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954920" y="416232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7742160" y="442260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917800" y="2556000"/>
            <a:ext cx="115272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08200" y="178452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02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 (800 x 600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7732440" y="4622760"/>
            <a:ext cx="84780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927520" y="3627360"/>
            <a:ext cx="4795560" cy="2616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19240" y="25304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90720" y="182880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708200" y="1763640"/>
            <a:ext cx="6251400" cy="4707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0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4 Elements - iViews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36476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3 (1024 x 768 pixel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770600" y="4622760"/>
            <a:ext cx="80964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6480" y="436248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52840" y="3206880"/>
            <a:ext cx="5122800" cy="2922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1778040"/>
            <a:ext cx="652320" cy="150840"/>
          </a:xfrm>
          <a:prstGeom prst="rect">
            <a:avLst/>
          </a:prstGeom>
          <a:solidFill>
            <a:srgbClr val="6b6b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19360" y="2328840"/>
            <a:ext cx="115272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71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is positioned in the Local Zon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12 pixels to the bottom margin and 9 pixels to the right to the next vertical line which is defined by the standard gri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Selection consists of links which map the target language (e.g. francais, english, deutsch, italiano 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arget languages are always displayed as one wor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nguage that has been selected is not part of the language selection on the following p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f the Language Selection shows more than 3 languages, the link “choose language” is used which opens a new window with the assortment of the target languag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s are designed in the system font Arial Regular in the font size 11p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1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36740" t="0" r="0" b="36966"/>
          <a:stretch/>
        </p:blipFill>
        <p:spPr>
          <a:xfrm>
            <a:off x="1708200" y="1819440"/>
            <a:ext cx="6229440" cy="4655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5 Elements - Language Selection (2 of 2)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26648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660640" y="3835440"/>
            <a:ext cx="3156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16760" y="3419640"/>
            <a:ext cx="122724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nguage Selec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06920" y="3713040"/>
            <a:ext cx="1935000" cy="22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685800" y="1217160"/>
            <a:ext cx="7772400" cy="47052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460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to Login / Logout is located near the bottom margin of the upper Site Identifier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90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gin / Logout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in link a popup window with the Login area open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Logout link the user check out his personal portal and is redirected to the public portal page of his organizational uni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the Home page of public portal pages the link Login is absent. Instead, a Login Area which allows a direct access is positioned in the left navigation zo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 / Logout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2924280" y="3546360"/>
            <a:ext cx="11890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 Area</a:t>
            </a:r>
            <a:br>
              <a:rPr sz="1100"/>
            </a:b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Home Page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6 Elements - Login/Logout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24092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81492" b="0"/>
          <a:stretch/>
        </p:blipFill>
        <p:spPr>
          <a:xfrm>
            <a:off x="1708200" y="1773360"/>
            <a:ext cx="1158840" cy="4697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rcRect l="0" t="0" r="81558" b="0"/>
          <a:stretch/>
        </p:blipFill>
        <p:spPr>
          <a:xfrm>
            <a:off x="6784920" y="1801800"/>
            <a:ext cx="1147680" cy="4668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rcRect l="0" t="0" r="81487" b="0"/>
          <a:stretch/>
        </p:blipFill>
        <p:spPr>
          <a:xfrm>
            <a:off x="4249800" y="1801800"/>
            <a:ext cx="1152360" cy="4668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flipH="1">
            <a:off x="7959240" y="351792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26480" y="325764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459560" y="3414600"/>
            <a:ext cx="473040" cy="19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429160" y="3513240"/>
            <a:ext cx="620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040" y="3252960"/>
            <a:ext cx="925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29120" y="3409920"/>
            <a:ext cx="473040" cy="195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957040" y="3807000"/>
            <a:ext cx="621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08200" y="3703680"/>
            <a:ext cx="1222200" cy="21686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90720" y="1866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448160" y="1893960"/>
            <a:ext cx="65232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05600" y="1895400"/>
            <a:ext cx="652680" cy="88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90640" y="4446720"/>
            <a:ext cx="852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430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is positioned in the Global Zone on the righ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ulti-purpose Search consists of a drop down list, a search field and a go Button on the right. On the left side it is labeled with “search”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is featured in system font Arial Bold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al Ru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 personal portals the most frequent used search engine by the individual user is preset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7 Elements - Multi-purpose Search (1 of 2)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4847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located in the upper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18 pixels to the side and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imary Navigation is featured in system font Arial Bold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dividual navigation points are separated by a 1 px line (system character in Arial, centered)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ite Home Link is the first point in Primary Navigatio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lected Primary Navigation items are marked with a change of font colo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required Primary Navigation is spread over two line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econdary Navigation becomes visible in a drop-down menu by mouse-over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choosing one item of Primary Navigation, the Secondary Navigation becomes visible at left hand side (also when hit befor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1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7203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ary Navig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datory Rules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ary Navigation is located in the left bar of the Navigation Zone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has defined distances of 4 pixels to the side (to the arrow) and 36 pixels to the top margins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Secondary Navigation has a defined size of 320 (height) x 144 (width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featured in system font Arial, size 11px.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t can be collapsed to the left. The minimized Secondary Navigation bar is then  320 (height) x 18 (width) pixel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collapsed Secondary Navigation is maximized automatically when an element in the Primary Navigation or the mouse-over Secondary Navigation is clicked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ch element is marked with an arrow at the beginning of the lin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001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he Secondary Navigation becomes also visible in a drop-down menu by mouse-over the Primary Navigation (with a delay time of 1/2 second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2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76160" y="5943240"/>
            <a:ext cx="7086600" cy="579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PS Style Guide brings the decisive information togethe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900"/>
            </a:b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>
              <a:lnSpc>
                <a:spcPts val="4499"/>
              </a:lnSpc>
              <a:spcBef>
                <a:spcPts val="1874"/>
              </a:spcBef>
              <a:buClr>
                <a:srgbClr val="ffffff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71720" y="2438280"/>
            <a:ext cx="289584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48240" y="2438280"/>
            <a:ext cx="2895480" cy="16002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0800000">
            <a:off x="3862080" y="1065960"/>
            <a:ext cx="2590920" cy="1295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62440" y="4114800"/>
            <a:ext cx="2590920" cy="1295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16840" y="1143000"/>
            <a:ext cx="15948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.g. Employee Por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65360" y="4905360"/>
            <a:ext cx="168012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48120" y="2743200"/>
            <a:ext cx="15238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o Onlin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8400" y="3048120"/>
            <a:ext cx="1128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SAP 6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43320" y="2819520"/>
            <a:ext cx="1981440" cy="6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EP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45560" y="3689280"/>
            <a:ext cx="119844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Level;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2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310760"/>
            <a:ext cx="7772400" cy="414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3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7560" y="3605040"/>
            <a:ext cx="1152720" cy="265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270400" y="4083120"/>
            <a:ext cx="36086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863440" y="5437080"/>
            <a:ext cx="6039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70280" y="3187800"/>
            <a:ext cx="3625920" cy="977760"/>
          </a:xfrm>
          <a:custGeom>
            <a:avLst/>
            <a:gdLst/>
            <a:ahLst/>
            <a:rect l="l" t="t" r="r" b="b"/>
            <a:pathLst>
              <a:path w="2284" h="616">
                <a:moveTo>
                  <a:pt x="4" y="260"/>
                </a:moveTo>
                <a:lnTo>
                  <a:pt x="876" y="256"/>
                </a:lnTo>
                <a:lnTo>
                  <a:pt x="876" y="252"/>
                </a:lnTo>
                <a:lnTo>
                  <a:pt x="876" y="616"/>
                </a:lnTo>
                <a:lnTo>
                  <a:pt x="1500" y="608"/>
                </a:lnTo>
                <a:lnTo>
                  <a:pt x="1504" y="260"/>
                </a:ln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2857680" y="3683160"/>
            <a:ext cx="1466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073120" y="3683160"/>
            <a:ext cx="38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944800" y="252900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890720" y="1816200"/>
            <a:ext cx="701640" cy="150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708200" y="1773360"/>
            <a:ext cx="6251400" cy="46893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953480" y="302904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irma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914040"/>
            <a:ext cx="7238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3.8 Elements - Navigation (4 of 4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17560" y="3567240"/>
            <a:ext cx="200160" cy="26510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11360" y="1364760"/>
            <a:ext cx="7772400" cy="34452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3430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932600" y="5038560"/>
            <a:ext cx="12114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apsed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nd &amp; 3rd Level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 this example of “Primary Navigation 1”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6505560" y="3398760"/>
            <a:ext cx="241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1939680" y="5437080"/>
            <a:ext cx="696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924200" y="3683160"/>
            <a:ext cx="701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920000" y="3295800"/>
            <a:ext cx="88416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xim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70280" y="3187800"/>
            <a:ext cx="3625920" cy="419040"/>
          </a:xfrm>
          <a:custGeom>
            <a:avLst/>
            <a:gdLst/>
            <a:ahLst/>
            <a:rect l="l" t="t" r="r" b="b"/>
            <a:pathLst>
              <a:path w="2284" h="264">
                <a:moveTo>
                  <a:pt x="4" y="260"/>
                </a:moveTo>
                <a:lnTo>
                  <a:pt x="2284" y="264"/>
                </a:lnTo>
                <a:lnTo>
                  <a:pt x="2284" y="0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t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921040" y="2503440"/>
            <a:ext cx="1152360" cy="300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66960" y="1854360"/>
            <a:ext cx="776160" cy="997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685800" y="1467000"/>
            <a:ext cx="7772400" cy="38707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datory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positioned near the bottom margin of the upper Site Identifier Zone (only after login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has defined distances of 4 pixels to the side margin and 9 pixels to the bottom margi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ink Personalize is featured in system font Arial Regular, size 11px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is marked with an arrow at the beginning of the lin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e Personalize link a drop-down menu opens wherein the user get the option to adapt his / her profile, the portal framework or the site to his requiremen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1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rcRect l="0" t="0" r="18312" b="18060"/>
          <a:stretch/>
        </p:blipFill>
        <p:spPr>
          <a:xfrm>
            <a:off x="1708200" y="1773360"/>
            <a:ext cx="6224400" cy="46828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Arial"/>
              </a:rPr>
              <a:t>3.9 Elements - Personalize (2 of 2)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314000"/>
            <a:ext cx="7772400" cy="895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324000" indent="0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43120" y="3736800"/>
            <a:ext cx="819000" cy="263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93800" y="3733920"/>
            <a:ext cx="6329520" cy="1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953480" y="3363840"/>
            <a:ext cx="119052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95720" y="2754360"/>
            <a:ext cx="1152360" cy="2998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916280" y="1879560"/>
            <a:ext cx="852480" cy="12384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7800" rIns="37800" tIns="17280" bIns="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114800" y="3703680"/>
            <a:ext cx="1828800" cy="10666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160" y="1498680"/>
            <a:ext cx="7086600" cy="3045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cus of Portal Style Guide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2408400"/>
            <a:ext cx="153684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Usability Best Pract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086600" y="4998960"/>
            <a:ext cx="13716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4237200"/>
            <a:ext cx="914400" cy="6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257800"/>
            <a:ext cx="144756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Eco Online Design </a:t>
            </a:r>
            <a:br>
              <a:rPr sz="1600"/>
            </a:b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Guide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676520" y="4052880"/>
            <a:ext cx="17524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AP Restri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238880" y="2941560"/>
            <a:ext cx="12193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68" idx="3"/>
            <a:endCxn id="66" idx="1"/>
          </p:cNvCxnSpPr>
          <p:nvPr/>
        </p:nvCxnSpPr>
        <p:spPr>
          <a:xfrm>
            <a:off x="3365640" y="2736360"/>
            <a:ext cx="1018080" cy="1104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71" idx="3"/>
            <a:endCxn id="66" idx="3"/>
          </p:cNvCxnSpPr>
          <p:nvPr/>
        </p:nvCxnSpPr>
        <p:spPr>
          <a:xfrm flipV="1">
            <a:off x="3123720" y="4633200"/>
            <a:ext cx="1259640" cy="1105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77" idx="1"/>
            <a:endCxn id="66" idx="6"/>
          </p:cNvCxnSpPr>
          <p:nvPr/>
        </p:nvCxnSpPr>
        <p:spPr>
          <a:xfrm flipH="1" flipV="1">
            <a:off x="5961960" y="4236840"/>
            <a:ext cx="7866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78" name=""/>
          <p:cNvCxnSpPr>
            <a:stCxn id="72" idx="3"/>
            <a:endCxn id="66" idx="2"/>
          </p:cNvCxnSpPr>
          <p:nvPr/>
        </p:nvCxnSpPr>
        <p:spPr>
          <a:xfrm>
            <a:off x="3429000" y="4229280"/>
            <a:ext cx="667440" cy="8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343400" y="37800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108000" bIns="108000" anchor="ctr">
            <a:no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yle Gu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09320" y="2057400"/>
            <a:ext cx="6516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6240" y="2057400"/>
            <a:ext cx="842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767640" y="2800440"/>
            <a:ext cx="1552320" cy="2856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8000" rIns="108000" tIns="108000" bIns="108000" anchor="t">
            <a:spAutoFit/>
          </a:bodyPr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Visual Design Bas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te Lay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23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Interaction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76520" y="914400"/>
            <a:ext cx="7086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1/2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.1 Executive Summary (2/2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520" y="1447920"/>
            <a:ext cx="7162560" cy="33220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Area of validity of the docu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document will be used for the visual and interaction design o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al Sit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Enter.eco.com)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.g.: Login, Search, New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rive from an European / American use-context and a PC-based desktop vers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given information may be a starting point for both different user and device contex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  <a:ea typeface="Times New Roman"/>
              </a:rPr>
              <a:t>2. Screens Zones of Portal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69120" anchor="t">
            <a:normAutofit/>
          </a:bodyPr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1" action="ppaction://hlinksldjump"/>
              </a:rPr>
              <a:t>2.1	Glob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2" action="ppaction://hlinksldjump"/>
              </a:rPr>
              <a:t>2.2	Local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2.3 	Portal Identifier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2.4	Navigation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 u="sng">
                <a:solidFill>
                  <a:srgbClr val="6b6b6b"/>
                </a:solidFill>
                <a:uFillTx/>
                <a:latin typeface="Arial"/>
                <a:ea typeface="Times New Roman"/>
                <a:hlinkClick r:id="rId5" action="ppaction://hlinksldjump"/>
              </a:rPr>
              <a:t>2.5	Content Zo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1125"/>
              </a:spcBef>
              <a:buNone/>
              <a:tabLst>
                <a:tab algn="l" pos="17136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1 Zones - Glob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890960" y="1466640"/>
            <a:ext cx="4050000" cy="13795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Glob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54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co Log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Multi-purpose sear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2 Zones - Local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79880" y="1466640"/>
            <a:ext cx="4050000" cy="2382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Local Zone has a defined size of 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6 (height) x 634 (width) pixels.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Sitema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tact</a:t>
            </a:r>
            <a:r>
              <a:rPr b="0" lang="en-US" sz="13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Hel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may contain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anguage Sele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Arial"/>
              </a:rPr>
              <a:t>Country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.3 Zones - Portal Identifier Zon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827240" y="1467000"/>
            <a:ext cx="4049640" cy="34048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Site Identifier Zone has a defined size of 144 (height) x 144 (width) pixel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Key Vis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ublic portals (before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te Identifie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1" action="ppaction://hlinksldjump"/>
              </a:rPr>
              <a:t>Login 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2" action="ppaction://hlinksldjump"/>
              </a:rPr>
              <a:t>link</a:t>
            </a: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3" action="ppaction://hlinksldjump"/>
              </a:rPr>
              <a:t> (except on Home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938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t contains on personal portals (after login):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4" action="ppaction://hlinksldjump"/>
              </a:rPr>
              <a:t>User Identifi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5" action="ppaction://hlinksldjump"/>
              </a:rPr>
              <a:t>Personaliz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139680">
              <a:spcBef>
                <a:spcPts val="162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17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6b6b6b"/>
                </a:solidFill>
                <a:uFillTx/>
                <a:latin typeface="Arial"/>
                <a:hlinkClick r:id="rId6" action="ppaction://hlinksldjump"/>
              </a:rPr>
              <a:t>Logou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1708200" y="1387440"/>
            <a:ext cx="2986200" cy="2346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Style Guide</dc:description>
  <dc:language>en-US</dc:language>
  <cp:lastModifiedBy>d031429</cp:lastModifiedBy>
  <cp:lastPrinted>2000-05-10T17:23:18Z</cp:lastPrinted>
  <dcterms:modified xsi:type="dcterms:W3CDTF">2003-11-08T20:13:05Z</dcterms:modified>
  <cp:revision>457</cp:revision>
  <dc:subject/>
  <dc:title>EP Sample Style Guide</dc:title>
</cp:coreProperties>
</file>