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38160" rIns="38160" tIns="17640" bIns="17640" anchor="ctr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E222FD-978E-4B17-A0C1-2DDF185B1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" Target="../slides/slide8.xml"/><Relationship Id="rId4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5960" y="425520"/>
            <a:ext cx="4424400" cy="3317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469440" y="3884400"/>
            <a:ext cx="5877000" cy="435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ontent Management Prozesse, speziell die Content Lifecycle Prozesse sind entweder Bestandteile der täglich ablaufenden Geschäftsdprozesse oder werden durch diese ausgelöst. D.h. Content Management ist erfolgskritisch für das tägliche Geschä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er Content Manager unterstützt diese Prozesse durch Administrationsprozess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88584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E8717D-2B6F-4239-9A59-37182C1F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874080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17640" bIns="1764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432080" y="922320"/>
            <a:ext cx="3992400" cy="29941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1160" y="4370400"/>
            <a:ext cx="5027760" cy="38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16120" y="506520"/>
            <a:ext cx="3557520" cy="2668320"/>
          </a:xfrm>
          <a:prstGeom prst="rect">
            <a:avLst/>
          </a:prstGeom>
          <a:ln w="0">
            <a:noFill/>
          </a:ln>
        </p:spPr>
      </p:sp>
      <p:graphicFrame>
        <p:nvGraphicFramePr>
          <p:cNvPr id="199" name=""/>
          <p:cNvGraphicFramePr/>
          <p:nvPr/>
        </p:nvGraphicFramePr>
        <p:xfrm>
          <a:off x="785880" y="5154480"/>
          <a:ext cx="5322960" cy="15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5880" y="5154480"/>
                    <a:ext cx="532296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4AAD28DD-7525-4B5B-99A4-052D5D80C398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18880" y="3007800"/>
            <a:ext cx="49190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Structure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4520" y="660240"/>
            <a:ext cx="7523280" cy="673200"/>
          </a:xfrm>
          <a:prstGeom prst="rect">
            <a:avLst/>
          </a:prstGeom>
          <a:noFill/>
          <a:ln w="0">
            <a:noFill/>
          </a:ln>
        </p:spPr>
        <p:txBody>
          <a:bodyPr lIns="87120" rIns="87120" tIns="43560" bIns="4356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relation of Content Type Classes with </a:t>
            </a:r>
            <a:br>
              <a:rPr sz="2100"/>
            </a:b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orporate Taxonomy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244520" y="1447920"/>
            <a:ext cx="7701120" cy="5029200"/>
            <a:chOff x="1244520" y="1447920"/>
            <a:chExt cx="7701120" cy="5029200"/>
          </a:xfrm>
        </p:grpSpPr>
        <p:sp>
          <p:nvSpPr>
            <p:cNvPr id="142" name=""/>
            <p:cNvSpPr/>
            <p:nvPr/>
          </p:nvSpPr>
          <p:spPr>
            <a:xfrm>
              <a:off x="1244520" y="1447920"/>
              <a:ext cx="7701120" cy="5029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39760" y="2452680"/>
              <a:ext cx="6324840" cy="36068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200" bIns="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1244520" y="2730600"/>
            <a:ext cx="7899480" cy="3187440"/>
            <a:chOff x="1244520" y="2730600"/>
            <a:chExt cx="7899480" cy="3187440"/>
          </a:xfrm>
        </p:grpSpPr>
        <p:sp>
          <p:nvSpPr>
            <p:cNvPr id="145" name=""/>
            <p:cNvSpPr/>
            <p:nvPr/>
          </p:nvSpPr>
          <p:spPr>
            <a:xfrm>
              <a:off x="1244520" y="4273560"/>
              <a:ext cx="7899480" cy="851040"/>
            </a:xfrm>
            <a:custGeom>
              <a:avLst/>
              <a:gdLst>
                <a:gd name="textAreaLeft" fmla="*/ 0 w 7899480"/>
                <a:gd name="textAreaRight" fmla="*/ 7899840 w 789948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536" y="0"/>
                  </a:lnTo>
                  <a:lnTo>
                    <a:pt x="21600" y="10800"/>
                  </a:lnTo>
                  <a:lnTo>
                    <a:pt x="20536" y="21600"/>
                  </a:lnTo>
                  <a:lnTo>
                    <a:pt x="0" y="21600"/>
                  </a:lnTo>
                  <a:lnTo>
                    <a:pt x="1064" y="10800"/>
                  </a:lnTo>
                  <a:close/>
                </a:path>
              </a:pathLst>
            </a:cu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       </a:t>
              </a: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rocesses &amp; Roles                  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76440" y="5194440"/>
              <a:ext cx="225108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Tools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xperienc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34080" y="5194440"/>
              <a:ext cx="2112840" cy="72360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200" spc="-1" strike="noStrike">
                  <a:solidFill>
                    <a:srgbClr val="ffffff"/>
                  </a:solidFill>
                  <a:latin typeface="Arial"/>
                </a:rPr>
                <a:t>Technologi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89240" y="2730600"/>
              <a:ext cx="2565720" cy="723960"/>
            </a:xfrm>
            <a:prstGeom prst="rect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Employee Topics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536840" y="2095560"/>
            <a:ext cx="7340400" cy="2025720"/>
            <a:chOff x="1536840" y="2095560"/>
            <a:chExt cx="7340400" cy="2025720"/>
          </a:xfrm>
        </p:grpSpPr>
        <p:sp>
          <p:nvSpPr>
            <p:cNvPr id="150" name=""/>
            <p:cNvSpPr/>
            <p:nvPr/>
          </p:nvSpPr>
          <p:spPr>
            <a:xfrm>
              <a:off x="2514600" y="2108160"/>
              <a:ext cx="1590840" cy="533520"/>
            </a:xfrm>
            <a:prstGeom prst="parallelogram">
              <a:avLst>
                <a:gd name="adj" fmla="val 1511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About u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353360" y="3174840"/>
              <a:ext cx="1523880" cy="825840"/>
            </a:xfrm>
            <a:prstGeom prst="parallelogram">
              <a:avLst>
                <a:gd name="adj" fmla="val 9354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ype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36840" y="2882880"/>
              <a:ext cx="1333440" cy="1238400"/>
            </a:xfrm>
            <a:prstGeom prst="parallelogram">
              <a:avLst>
                <a:gd name="adj" fmla="val 5458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Contacts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&amp; </a:t>
              </a:r>
              <a:br>
                <a:rPr sz="2200"/>
              </a:b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05440" y="2095560"/>
              <a:ext cx="2320920" cy="533520"/>
            </a:xfrm>
            <a:prstGeom prst="parallelogram">
              <a:avLst>
                <a:gd name="adj" fmla="val 19636"/>
              </a:avLst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News &amp; Event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6299280" y="1511280"/>
            <a:ext cx="2502000" cy="430200"/>
          </a:xfrm>
          <a:prstGeom prst="octagon">
            <a:avLst>
              <a:gd name="adj" fmla="val 2928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rkets &amp; Trend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44520" y="1608120"/>
            <a:ext cx="7662960" cy="4836960"/>
            <a:chOff x="1244520" y="1608120"/>
            <a:chExt cx="7662960" cy="4836960"/>
          </a:xfrm>
        </p:grpSpPr>
        <p:sp>
          <p:nvSpPr>
            <p:cNvPr id="156" name=""/>
            <p:cNvSpPr/>
            <p:nvPr/>
          </p:nvSpPr>
          <p:spPr>
            <a:xfrm>
              <a:off x="3409920" y="58737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Learning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ai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10360" y="431172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66920" y="5854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ethods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ool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81360" y="281304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nta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244520" y="242568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pany/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iz Partne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878600" y="260352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Business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Offer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18120" y="576576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848720" y="387360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ducts, </a:t>
              </a:r>
              <a:br>
                <a:rPr sz="1500"/>
              </a:b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Solutions, 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743200" y="3429000"/>
              <a:ext cx="102888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Communit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846920" y="188136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Markets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&amp; Trend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02200" y="1608120"/>
              <a:ext cx="1028520" cy="571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New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81480" y="161928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Even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4400" y="1630440"/>
              <a:ext cx="102888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18400" y="2641680"/>
              <a:ext cx="1028520" cy="571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1e64"/>
                  </a:solidFill>
                  <a:latin typeface="Arial"/>
                </a:rPr>
                <a:t>Projec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263760" y="3784680"/>
            <a:ext cx="3467160" cy="1942920"/>
          </a:xfrm>
          <a:prstGeom prst="can">
            <a:avLst>
              <a:gd name="adj" fmla="val 25000"/>
            </a:avLst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noAutofit/>
          </a:bodyPr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Data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Knowledg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700" spc="-1" strike="noStrike">
                <a:solidFill>
                  <a:srgbClr val="001e64"/>
                </a:solidFill>
                <a:latin typeface="Arial"/>
              </a:rPr>
              <a:t>bas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27200" y="2921040"/>
            <a:ext cx="2349720" cy="1231920"/>
          </a:xfrm>
          <a:custGeom>
            <a:avLst/>
            <a:gdLst>
              <a:gd name="textAreaLeft" fmla="*/ 411120 w 2349720"/>
              <a:gd name="textAreaRight" fmla="*/ 1703520 w 234972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486400" y="2921040"/>
            <a:ext cx="2349360" cy="1231920"/>
          </a:xfrm>
          <a:custGeom>
            <a:avLst/>
            <a:gdLst>
              <a:gd name="textAreaLeft" fmla="*/ 411120 w 2349360"/>
              <a:gd name="textAreaRight" fmla="*/ 1703520 w 2349360"/>
              <a:gd name="textAreaTop" fmla="*/ 164880 h 1231920"/>
              <a:gd name="textAreaBottom" fmla="*/ 1067040 h 1231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68120" y="1679400"/>
            <a:ext cx="271512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Input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Content Type Class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Metadat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15880" y="1628640"/>
            <a:ext cx="140004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100" spc="-1" strike="noStrike">
                <a:solidFill>
                  <a:srgbClr val="001e64"/>
                </a:solidFill>
                <a:latin typeface="Arial"/>
              </a:rPr>
              <a:t>Outpu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1e64"/>
                </a:solidFill>
                <a:latin typeface="Arial"/>
              </a:rPr>
              <a:t>Search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71840" y="5462640"/>
            <a:ext cx="136836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1e64"/>
                </a:solidFill>
                <a:latin typeface="Arial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88000" y="384804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1516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606840" y="468648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486400" y="5054760"/>
            <a:ext cx="380880" cy="368280"/>
          </a:xfrm>
          <a:prstGeom prst="octagon">
            <a:avLst>
              <a:gd name="adj" fmla="val 2928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2806560" y="4876560"/>
            <a:ext cx="990720" cy="546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959200" y="5232240"/>
            <a:ext cx="2705040" cy="495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relation of Content Type Cl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and Taxonom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156120" y="710640"/>
            <a:ext cx="26028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How to proce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42280" y="1762200"/>
            <a:ext cx="6486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vestigation of Information-Object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Content Type Classes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 Metadata</a:t>
            </a:r>
            <a:br>
              <a:rPr sz="2800"/>
            </a:b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Association with Taxonom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1236600" y="1930320"/>
            <a:ext cx="7907400" cy="37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12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understood and useable by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ll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2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ould b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dependent from organiz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nctiona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3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houl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irectly guide to a task / probl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4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&gt; 90% (80%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ability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r a period of one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ust be from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erest / relevance for the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6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re must be at least 3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level 1 catego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und in 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63"/>
              </a:spcBef>
              <a:tabLst>
                <a:tab algn="l" pos="0"/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nl-BE" sz="1200" spc="-1" strike="noStrike">
                <a:solidFill>
                  <a:srgbClr val="cc0000"/>
                </a:solidFill>
                <a:latin typeface="Arial"/>
                <a:ea typeface="Arial"/>
              </a:rPr>
              <a:t>Criteria 7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tegories should have the sam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bstract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36600" y="270036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060640" y="2700360"/>
            <a:ext cx="0" cy="318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36600" y="5884920"/>
            <a:ext cx="7554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-43200" bIns="-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criteria for top level 0(level 1) categ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39880" y="1550160"/>
            <a:ext cx="36784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axonom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01360" y="73440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75360" y="710640"/>
            <a:ext cx="397584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r>
              <a:rPr b="0" lang="de-DE" sz="2400" spc="-1" strike="noStrike">
                <a:solidFill>
                  <a:srgbClr val="001e64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62400" y="1726920"/>
            <a:ext cx="7630560" cy="39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Taxono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 a broad sense, the science of classific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ut more strictly the classific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living and extinct organi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—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i.e.,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biological classific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The term is derived from the Gree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taxi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arrangement”) and </a:t>
            </a:r>
            <a:r>
              <a:rPr b="0" i="1" lang="de-DE" sz="2400" spc="-1" strike="noStrike">
                <a:solidFill>
                  <a:srgbClr val="000000"/>
                </a:solidFill>
                <a:latin typeface="hardmedia reference chars two"/>
              </a:rPr>
              <a:t>nomos</a:t>
            </a: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 (“law”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hardmedia reference chars two"/>
              </a:rPr>
              <a:t>We use it for the classification of 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962800" y="2549880"/>
            <a:ext cx="3815640" cy="14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luster of topics in taxonom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17480" y="710640"/>
            <a:ext cx="3890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34000" y="2184120"/>
            <a:ext cx="5684400" cy="21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Content Type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 a synopsis of Metadata for similar types of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formation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469600" y="710640"/>
            <a:ext cx="39895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"/>
              </a:rPr>
              <a:t>Information Architec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5760" y="2494080"/>
            <a:ext cx="5774040" cy="17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1e64"/>
                </a:solidFill>
                <a:latin typeface="Arial"/>
              </a:rPr>
              <a:t>Metada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e data which describe an informatio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3204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 algn="ctr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Content structures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29440" y="1506600"/>
            <a:ext cx="3586680" cy="1121400"/>
            <a:chOff x="5329440" y="1506600"/>
            <a:chExt cx="3586680" cy="1121400"/>
          </a:xfrm>
        </p:grpSpPr>
        <p:sp>
          <p:nvSpPr>
            <p:cNvPr id="65" name=""/>
            <p:cNvSpPr/>
            <p:nvPr/>
          </p:nvSpPr>
          <p:spPr>
            <a:xfrm rot="10762200">
              <a:off x="5331960" y="2113200"/>
              <a:ext cx="973080" cy="455400"/>
            </a:xfrm>
            <a:custGeom>
              <a:avLst/>
              <a:gdLst>
                <a:gd name="textAreaLeft" fmla="*/ 151920 w 973080"/>
                <a:gd name="textAreaRight" fmla="*/ 851760 w 97308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230880" y="1506600"/>
              <a:ext cx="2685240" cy="112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Different view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ic,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organization, process,..)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rporate Taxonomy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(top 2 layers) = topic view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391280" y="2865600"/>
            <a:ext cx="4992120" cy="1746720"/>
            <a:chOff x="4391280" y="2865600"/>
            <a:chExt cx="4992120" cy="1746720"/>
          </a:xfrm>
        </p:grpSpPr>
        <p:sp>
          <p:nvSpPr>
            <p:cNvPr id="68" name=""/>
            <p:cNvSpPr/>
            <p:nvPr/>
          </p:nvSpPr>
          <p:spPr>
            <a:xfrm rot="9315600">
              <a:off x="4400640" y="3785400"/>
              <a:ext cx="1873440" cy="455400"/>
            </a:xfrm>
            <a:custGeom>
              <a:avLst/>
              <a:gdLst>
                <a:gd name="textAreaLeft" fmla="*/ 292680 w 1873440"/>
                <a:gd name="textAreaRight" fmla="*/ 1639440 w 1873440"/>
                <a:gd name="textAreaTop" fmla="*/ 113760 h 455400"/>
                <a:gd name="textAreaBottom" fmla="*/ 34164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11800" y="2865600"/>
              <a:ext cx="31716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and general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Rules and template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building taxonomies for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communities, groups, regions,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12760" y="3583080"/>
            <a:ext cx="8068680" cy="2540520"/>
            <a:chOff x="1112760" y="3583080"/>
            <a:chExt cx="8068680" cy="2540520"/>
          </a:xfrm>
        </p:grpSpPr>
        <p:sp>
          <p:nvSpPr>
            <p:cNvPr id="71" name=""/>
            <p:cNvSpPr/>
            <p:nvPr/>
          </p:nvSpPr>
          <p:spPr>
            <a:xfrm flipH="1">
              <a:off x="1112760" y="3583080"/>
              <a:ext cx="561600" cy="852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08440" y="4743000"/>
              <a:ext cx="2673000" cy="13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Building and maintaining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iz specific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controlled vocabular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link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o Corporate </a:t>
              </a:r>
              <a:br>
                <a:rPr sz="1700"/>
              </a:b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Taxonomy and Metadat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398600" y="1486080"/>
            <a:ext cx="4900680" cy="2319120"/>
            <a:chOff x="1398600" y="1486080"/>
            <a:chExt cx="4900680" cy="2319120"/>
          </a:xfrm>
        </p:grpSpPr>
        <p:grpSp>
          <p:nvGrpSpPr>
            <p:cNvPr id="74" name=""/>
            <p:cNvGrpSpPr/>
            <p:nvPr/>
          </p:nvGrpSpPr>
          <p:grpSpPr>
            <a:xfrm>
              <a:off x="1571760" y="1803240"/>
              <a:ext cx="4501800" cy="1693800"/>
              <a:chOff x="1571760" y="1803240"/>
              <a:chExt cx="4501800" cy="1693800"/>
            </a:xfrm>
          </p:grpSpPr>
          <p:sp>
            <p:nvSpPr>
              <p:cNvPr id="75" name=""/>
              <p:cNvSpPr/>
              <p:nvPr/>
            </p:nvSpPr>
            <p:spPr>
              <a:xfrm>
                <a:off x="15717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About u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21938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7" name=""/>
              <p:cNvCxnSpPr>
                <a:stCxn id="75" idx="2"/>
                <a:endCxn id="76" idx="1"/>
              </p:cNvCxnSpPr>
              <p:nvPr/>
            </p:nvCxnSpPr>
            <p:spPr>
              <a:xfrm flipH="1" rot="16200000">
                <a:off x="19328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78" name=""/>
              <p:cNvSpPr/>
              <p:nvPr/>
            </p:nvSpPr>
            <p:spPr>
              <a:xfrm>
                <a:off x="21938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9" name=""/>
              <p:cNvCxnSpPr>
                <a:stCxn id="75" idx="2"/>
                <a:endCxn id="78" idx="1"/>
              </p:cNvCxnSpPr>
              <p:nvPr/>
            </p:nvCxnSpPr>
            <p:spPr>
              <a:xfrm flipH="1" rot="16200000">
                <a:off x="17470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0" name=""/>
              <p:cNvSpPr/>
              <p:nvPr/>
            </p:nvSpPr>
            <p:spPr>
              <a:xfrm>
                <a:off x="279756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Business</a:t>
                </a:r>
                <a:br>
                  <a:rPr sz="1500"/>
                </a:br>
                <a:r>
                  <a:rPr b="0" lang="de-DE" sz="1500" spc="-1" strike="noStrike">
                    <a:solidFill>
                      <a:srgbClr val="ffffff"/>
                    </a:solidFill>
                    <a:latin typeface="Arial"/>
                  </a:rPr>
                  <a:t>Types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342108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" name=""/>
              <p:cNvCxnSpPr>
                <a:stCxn id="80" idx="2"/>
                <a:endCxn id="81" idx="1"/>
              </p:cNvCxnSpPr>
              <p:nvPr/>
            </p:nvCxnSpPr>
            <p:spPr>
              <a:xfrm flipH="1" rot="16200000">
                <a:off x="316008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3" name=""/>
              <p:cNvSpPr/>
              <p:nvPr/>
            </p:nvSpPr>
            <p:spPr>
              <a:xfrm>
                <a:off x="341964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" name=""/>
              <p:cNvCxnSpPr>
                <a:stCxn id="80" idx="2"/>
                <a:endCxn id="83" idx="1"/>
              </p:cNvCxnSpPr>
              <p:nvPr/>
            </p:nvCxnSpPr>
            <p:spPr>
              <a:xfrm flipH="1" rot="16200000">
                <a:off x="2975400" y="2528280"/>
                <a:ext cx="66960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5" name=""/>
              <p:cNvSpPr/>
              <p:nvPr/>
            </p:nvSpPr>
            <p:spPr>
              <a:xfrm>
                <a:off x="4619880" y="1803240"/>
                <a:ext cx="830520" cy="469440"/>
              </a:xfrm>
              <a:prstGeom prst="rect">
                <a:avLst/>
              </a:prstGeom>
              <a:solidFill>
                <a:srgbClr val="0073a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243040" y="2436840"/>
                <a:ext cx="830520" cy="30384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" name=""/>
              <p:cNvCxnSpPr>
                <a:stCxn id="85" idx="2"/>
                <a:endCxn id="86" idx="1"/>
              </p:cNvCxnSpPr>
              <p:nvPr/>
            </p:nvCxnSpPr>
            <p:spPr>
              <a:xfrm flipH="1" rot="16200000">
                <a:off x="4982040" y="234252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88" name=""/>
              <p:cNvSpPr/>
              <p:nvPr/>
            </p:nvSpPr>
            <p:spPr>
              <a:xfrm>
                <a:off x="5241600" y="280728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" name=""/>
              <p:cNvCxnSpPr>
                <a:stCxn id="85" idx="2"/>
                <a:endCxn id="88" idx="1"/>
              </p:cNvCxnSpPr>
              <p:nvPr/>
            </p:nvCxnSpPr>
            <p:spPr>
              <a:xfrm flipH="1" rot="16200000">
                <a:off x="4796280" y="2528640"/>
                <a:ext cx="66960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0" name=""/>
              <p:cNvSpPr/>
              <p:nvPr/>
            </p:nvSpPr>
            <p:spPr>
              <a:xfrm>
                <a:off x="21938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3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75" idx="2"/>
                <a:endCxn id="90" idx="1"/>
              </p:cNvCxnSpPr>
              <p:nvPr/>
            </p:nvCxnSpPr>
            <p:spPr>
              <a:xfrm flipH="1" rot="16200000">
                <a:off x="15548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2" name=""/>
              <p:cNvSpPr/>
              <p:nvPr/>
            </p:nvSpPr>
            <p:spPr>
              <a:xfrm>
                <a:off x="342108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" name=""/>
              <p:cNvCxnSpPr>
                <a:stCxn id="80" idx="2"/>
                <a:endCxn id="92" idx="1"/>
              </p:cNvCxnSpPr>
              <p:nvPr/>
            </p:nvCxnSpPr>
            <p:spPr>
              <a:xfrm flipH="1" rot="16200000">
                <a:off x="278208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4" name=""/>
              <p:cNvSpPr/>
              <p:nvPr/>
            </p:nvSpPr>
            <p:spPr>
              <a:xfrm>
                <a:off x="5243040" y="3192840"/>
                <a:ext cx="830520" cy="30420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85" idx="2"/>
                <a:endCxn id="94" idx="1"/>
              </p:cNvCxnSpPr>
              <p:nvPr/>
            </p:nvCxnSpPr>
            <p:spPr>
              <a:xfrm flipH="1" rot="16200000">
                <a:off x="4604040" y="2720520"/>
                <a:ext cx="1055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96" name=""/>
              <p:cNvSpPr/>
              <p:nvPr/>
            </p:nvSpPr>
            <p:spPr>
              <a:xfrm>
                <a:off x="4489920" y="28324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 flipV="1">
              <a:off x="5384880" y="158112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Top </a:t>
              </a:r>
              <a:br>
                <a:rPr sz="1700"/>
              </a:b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dow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398600" y="1486080"/>
              <a:ext cx="43927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Corporate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1241280" y="4040280"/>
            <a:ext cx="5058000" cy="2224080"/>
            <a:chOff x="1241280" y="4040280"/>
            <a:chExt cx="5058000" cy="2224080"/>
          </a:xfrm>
        </p:grpSpPr>
        <p:grpSp>
          <p:nvGrpSpPr>
            <p:cNvPr id="100" name=""/>
            <p:cNvGrpSpPr/>
            <p:nvPr/>
          </p:nvGrpSpPr>
          <p:grpSpPr>
            <a:xfrm>
              <a:off x="1241280" y="4627440"/>
              <a:ext cx="4813200" cy="1517400"/>
              <a:chOff x="1241280" y="4627440"/>
              <a:chExt cx="4813200" cy="1517400"/>
            </a:xfrm>
          </p:grpSpPr>
          <p:sp>
            <p:nvSpPr>
              <p:cNvPr id="101" name=""/>
              <p:cNvSpPr/>
              <p:nvPr/>
            </p:nvSpPr>
            <p:spPr>
              <a:xfrm>
                <a:off x="1241280" y="4627440"/>
                <a:ext cx="1103760" cy="316080"/>
              </a:xfrm>
              <a:prstGeom prst="rect">
                <a:avLst/>
              </a:prstGeom>
              <a:solidFill>
                <a:srgbClr val="669966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CoP Meta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137680" y="508392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3" name=""/>
              <p:cNvCxnSpPr>
                <a:stCxn id="101" idx="2"/>
                <a:endCxn id="102" idx="1"/>
              </p:cNvCxnSpPr>
              <p:nvPr/>
            </p:nvCxnSpPr>
            <p:spPr>
              <a:xfrm flipH="1" rot="16200000">
                <a:off x="1819800" y="4933080"/>
                <a:ext cx="27540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>
                <a:off x="2136240" y="545508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" name=""/>
              <p:cNvCxnSpPr>
                <a:stCxn id="101" idx="2"/>
                <a:endCxn id="104" idx="1"/>
              </p:cNvCxnSpPr>
              <p:nvPr/>
            </p:nvCxnSpPr>
            <p:spPr>
              <a:xfrm flipH="1" rot="16200000">
                <a:off x="1634040" y="5118840"/>
                <a:ext cx="645840" cy="33012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6" name=""/>
              <p:cNvSpPr/>
              <p:nvPr/>
            </p:nvSpPr>
            <p:spPr>
              <a:xfrm>
                <a:off x="2137680" y="5840640"/>
                <a:ext cx="830520" cy="304200"/>
              </a:xfrm>
              <a:prstGeom prst="rect">
                <a:avLst/>
              </a:prstGeom>
              <a:solidFill>
                <a:srgbClr val="ccffcc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7" name=""/>
              <p:cNvCxnSpPr>
                <a:stCxn id="101" idx="2"/>
                <a:endCxn id="106" idx="1"/>
              </p:cNvCxnSpPr>
              <p:nvPr/>
            </p:nvCxnSpPr>
            <p:spPr>
              <a:xfrm flipH="1" rot="16200000">
                <a:off x="1441440" y="5311440"/>
                <a:ext cx="1032120" cy="3315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08" name=""/>
              <p:cNvSpPr/>
              <p:nvPr/>
            </p:nvSpPr>
            <p:spPr>
              <a:xfrm>
                <a:off x="2883240" y="4627440"/>
                <a:ext cx="830160" cy="29232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Group IC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506400" y="508392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0" name=""/>
              <p:cNvCxnSpPr>
                <a:stCxn id="108" idx="2"/>
                <a:endCxn id="109" idx="1"/>
              </p:cNvCxnSpPr>
              <p:nvPr/>
            </p:nvCxnSpPr>
            <p:spPr>
              <a:xfrm flipH="1" rot="16200000">
                <a:off x="324540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1" name=""/>
              <p:cNvSpPr/>
              <p:nvPr/>
            </p:nvSpPr>
            <p:spPr>
              <a:xfrm>
                <a:off x="3504960" y="5455080"/>
                <a:ext cx="83052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2" name=""/>
              <p:cNvCxnSpPr>
                <a:stCxn id="108" idx="2"/>
                <a:endCxn id="111" idx="1"/>
              </p:cNvCxnSpPr>
              <p:nvPr/>
            </p:nvCxnSpPr>
            <p:spPr>
              <a:xfrm flipH="1" rot="16200000">
                <a:off x="3059280" y="5176080"/>
                <a:ext cx="669960" cy="19260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3" name=""/>
              <p:cNvSpPr/>
              <p:nvPr/>
            </p:nvSpPr>
            <p:spPr>
              <a:xfrm>
                <a:off x="3506400" y="5840640"/>
                <a:ext cx="830160" cy="304200"/>
              </a:xfrm>
              <a:prstGeom prst="rect">
                <a:avLst/>
              </a:prstGeom>
              <a:solidFill>
                <a:srgbClr val="fe997e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" name=""/>
              <p:cNvCxnSpPr>
                <a:stCxn id="108" idx="2"/>
                <a:endCxn id="113" idx="1"/>
              </p:cNvCxnSpPr>
              <p:nvPr/>
            </p:nvCxnSpPr>
            <p:spPr>
              <a:xfrm flipH="1" rot="16200000">
                <a:off x="286704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5" name=""/>
              <p:cNvSpPr/>
              <p:nvPr/>
            </p:nvSpPr>
            <p:spPr>
              <a:xfrm>
                <a:off x="4602240" y="4627440"/>
                <a:ext cx="830160" cy="292320"/>
              </a:xfrm>
              <a:prstGeom prst="rect">
                <a:avLst/>
              </a:prstGeom>
              <a:solidFill>
                <a:srgbClr val="676767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Region X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223960" y="508392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7" name=""/>
              <p:cNvCxnSpPr>
                <a:stCxn id="115" idx="2"/>
                <a:endCxn id="116" idx="1"/>
              </p:cNvCxnSpPr>
              <p:nvPr/>
            </p:nvCxnSpPr>
            <p:spPr>
              <a:xfrm flipH="1" rot="16200000">
                <a:off x="4962960" y="4989960"/>
                <a:ext cx="29916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18" name=""/>
              <p:cNvSpPr/>
              <p:nvPr/>
            </p:nvSpPr>
            <p:spPr>
              <a:xfrm>
                <a:off x="5222880" y="545508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9" name=""/>
              <p:cNvCxnSpPr>
                <a:stCxn id="115" idx="2"/>
                <a:endCxn id="118" idx="1"/>
              </p:cNvCxnSpPr>
              <p:nvPr/>
            </p:nvCxnSpPr>
            <p:spPr>
              <a:xfrm flipH="1" rot="16200000">
                <a:off x="4777920" y="5175720"/>
                <a:ext cx="669960" cy="19296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0" name=""/>
              <p:cNvSpPr/>
              <p:nvPr/>
            </p:nvSpPr>
            <p:spPr>
              <a:xfrm>
                <a:off x="5223960" y="5840640"/>
                <a:ext cx="830520" cy="304200"/>
              </a:xfrm>
              <a:prstGeom prst="rect">
                <a:avLst/>
              </a:prstGeom>
              <a:solidFill>
                <a:srgbClr val="dadada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1" name=""/>
              <p:cNvCxnSpPr>
                <a:stCxn id="115" idx="2"/>
                <a:endCxn id="120" idx="1"/>
              </p:cNvCxnSpPr>
              <p:nvPr/>
            </p:nvCxnSpPr>
            <p:spPr>
              <a:xfrm flipH="1" rot="16200000">
                <a:off x="4584600" y="5368320"/>
                <a:ext cx="1055880" cy="194040"/>
              </a:xfrm>
              <a:prstGeom prst="bentConnector2">
                <a:avLst/>
              </a:prstGeom>
              <a:ln w="38160">
                <a:solidFill>
                  <a:srgbClr val="000000"/>
                </a:solidFill>
                <a:miter/>
              </a:ln>
            </p:spPr>
          </p:cxnSp>
          <p:sp>
            <p:nvSpPr>
              <p:cNvPr id="122" name=""/>
              <p:cNvSpPr/>
              <p:nvPr/>
            </p:nvSpPr>
            <p:spPr>
              <a:xfrm>
                <a:off x="4489920" y="5339880"/>
                <a:ext cx="379440" cy="41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4240" rIns="84240" tIns="42120" bIns="42120" anchor="t">
                <a:spAutoFit/>
              </a:bodyPr>
              <a:p>
                <a:pPr algn="ctr">
                  <a:tabLst>
                    <a:tab algn="l" pos="0"/>
                    <a:tab algn="l" pos="703440"/>
                    <a:tab algn="l" pos="1406520"/>
                    <a:tab algn="l" pos="2109960"/>
                    <a:tab algn="l" pos="2813040"/>
                    <a:tab algn="l" pos="3516480"/>
                    <a:tab algn="l" pos="4219560"/>
                    <a:tab algn="l" pos="4923000"/>
                    <a:tab algn="l" pos="5626080"/>
                    <a:tab algn="l" pos="6329520"/>
                    <a:tab algn="l" pos="7032600"/>
                    <a:tab algn="l" pos="7736040"/>
                    <a:tab algn="l" pos="8439120"/>
                    <a:tab algn="l" pos="9142560"/>
                    <a:tab algn="l" pos="9845640"/>
                    <a:tab algn="l" pos="10549080"/>
                  </a:tabLst>
                </a:pPr>
                <a:r>
                  <a:rPr b="1" lang="de-DE" sz="2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5384880" y="4040280"/>
              <a:ext cx="914400" cy="2224080"/>
            </a:xfrm>
            <a:prstGeom prst="flowChartExtract">
              <a:avLst/>
            </a:prstGeom>
            <a:solidFill>
              <a:srgbClr val="dadad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4240" rIns="8424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Bottom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03440"/>
                  <a:tab algn="l" pos="1406520"/>
                  <a:tab algn="l" pos="2109960"/>
                  <a:tab algn="l" pos="2813040"/>
                  <a:tab algn="l" pos="3516480"/>
                  <a:tab algn="l" pos="4219560"/>
                  <a:tab algn="l" pos="4923000"/>
                  <a:tab algn="l" pos="5626080"/>
                  <a:tab algn="l" pos="6329520"/>
                  <a:tab algn="l" pos="7032600"/>
                  <a:tab algn="l" pos="7736040"/>
                  <a:tab algn="l" pos="8439120"/>
                  <a:tab algn="l" pos="9142560"/>
                  <a:tab algn="l" pos="9845640"/>
                  <a:tab algn="l" pos="10549080"/>
                </a:tabLst>
              </a:pP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555920" y="4314960"/>
              <a:ext cx="4394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2480" bIns="42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46000"/>
                  <a:tab algn="l" pos="1692360"/>
                  <a:tab algn="l" pos="2538360"/>
                  <a:tab algn="l" pos="3384720"/>
                  <a:tab algn="l" pos="4230720"/>
                  <a:tab algn="l" pos="5076720"/>
                  <a:tab algn="l" pos="5923080"/>
                  <a:tab algn="l" pos="6769080"/>
                  <a:tab algn="l" pos="7615080"/>
                  <a:tab algn="l" pos="8461440"/>
                  <a:tab algn="l" pos="9307440"/>
                  <a:tab algn="l" pos="101538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de-DE" sz="17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specific</a:t>
              </a:r>
              <a:r>
                <a:rPr b="0" lang="en-GB" sz="1700" spc="-1" strike="noStrike">
                  <a:solidFill>
                    <a:srgbClr val="000000"/>
                  </a:solidFill>
                  <a:latin typeface="Arial"/>
                </a:rPr>
                <a:t> Taxonomie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32000" y="2043000"/>
            <a:ext cx="7049880" cy="315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000066"/>
                </a:solidFill>
                <a:latin typeface="Arial"/>
              </a:rPr>
              <a:t>TOP CATEGORIES of Corporate Taxonom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orporate Tax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486160"/>
            <a:ext cx="3414600" cy="262980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About u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is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Business Types</a:t>
            </a:r>
            <a:r>
              <a:rPr b="1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0" lang="nl-BE" sz="1000" spc="-1" strike="noStrike">
                <a:solidFill>
                  <a:srgbClr val="001e64"/>
                </a:solidFill>
                <a:latin typeface="Arial"/>
              </a:rPr>
              <a:t>(Prod., Solutions, Proj., Serv.)</a:t>
            </a:r>
            <a:br>
              <a:rPr sz="10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off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Contacts &amp; Support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o can I contact whe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Employee Topic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human resources services are available for 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Markets &amp; Trend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do we know about our marke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67280" y="2486160"/>
            <a:ext cx="3414600" cy="2234160"/>
          </a:xfrm>
          <a:prstGeom prst="rect">
            <a:avLst/>
          </a:prstGeom>
          <a:solidFill>
            <a:srgbClr val="d3e2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News &amp; Event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´s going on around my company/un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1e64"/>
                </a:solidFill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Processes &amp; Rol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are our business proces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echnologi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technologies do we use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1400" spc="-1" strike="noStrike" u="sng">
                <a:solidFill>
                  <a:srgbClr val="001e64"/>
                </a:solidFill>
                <a:uFillTx/>
                <a:latin typeface="Arial"/>
              </a:rPr>
              <a:t>Tools &amp; Experiences</a:t>
            </a:r>
            <a:br>
              <a:rPr sz="1400"/>
            </a:br>
            <a:r>
              <a:rPr b="0" i="1" lang="nl-BE" sz="1200" spc="-1" strike="noStrike">
                <a:solidFill>
                  <a:srgbClr val="ff0000"/>
                </a:solidFill>
                <a:latin typeface="Arial"/>
              </a:rPr>
              <a:t>What can help me work more effectivel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86680" y="5780160"/>
            <a:ext cx="134388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1500" spc="-1" strike="noStrike">
                <a:solidFill>
                  <a:srgbClr val="ff0000"/>
                </a:solidFill>
                <a:latin typeface="Arial"/>
              </a:rPr>
              <a:t>Main Ques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307040" y="5329080"/>
            <a:ext cx="302580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360" rIns="54360" tIns="43560" bIns="43560" anchor="t">
            <a:spAutoFit/>
          </a:bodyPr>
          <a:p>
            <a:pPr>
              <a:lnSpc>
                <a:spcPct val="100000"/>
              </a:lnSpc>
              <a:buClr>
                <a:srgbClr val="001e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 </a:t>
            </a:r>
            <a:r>
              <a:rPr b="1" lang="nl-BE" sz="2400" spc="-1" strike="noStrike" u="sng">
                <a:solidFill>
                  <a:srgbClr val="001e64"/>
                </a:solidFill>
                <a:uFillTx/>
                <a:latin typeface="Arial"/>
              </a:rPr>
              <a:t>TOP CATEG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16200000">
            <a:off x="-1329480" y="3909240"/>
            <a:ext cx="3916440" cy="4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360" rIns="54360" tIns="43560" bIns="43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LEVEL 0, first entry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 flipV="1">
            <a:off x="3997440" y="4814640"/>
            <a:ext cx="984240" cy="882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3796920" y="5156280"/>
            <a:ext cx="655560" cy="7380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360" y="1627200"/>
          <a:ext cx="315756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1627200"/>
                    <a:ext cx="31575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3268800" y="1638360"/>
            <a:ext cx="574812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alyses, Studies, Trend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market studies, portfolio analyse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mpany Profiles 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customers, partners, … 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untry Aspect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religion, culture, customs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stitutions &amp; Government agencie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DIN, FDA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86364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n Government Organizations</a:t>
            </a:r>
            <a:br>
              <a:rPr sz="20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e.g.  Greenpeace, …</a:t>
            </a:r>
            <a:br>
              <a:rPr sz="1600"/>
            </a:b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88960"/>
            <a:ext cx="801396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280" rIns="89280" tIns="42480" bIns="4248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555480"/>
                <a:tab algn="l" pos="1111320"/>
                <a:tab algn="l" pos="1666800"/>
                <a:tab algn="l" pos="2222640"/>
                <a:tab algn="l" pos="2778120"/>
                <a:tab algn="l" pos="3333600"/>
                <a:tab algn="l" pos="3889440"/>
                <a:tab algn="l" pos="4444920"/>
                <a:tab algn="l" pos="5000760"/>
                <a:tab algn="l" pos="5556240"/>
                <a:tab algn="l" pos="6111720"/>
                <a:tab algn="l" pos="6667560"/>
                <a:tab algn="l" pos="7223040"/>
                <a:tab algn="l" pos="7778880"/>
                <a:tab algn="l" pos="8334360"/>
                <a:tab algn="l" pos="8889840"/>
                <a:tab algn="l" pos="9445680"/>
                <a:tab algn="l" pos="10001160"/>
                <a:tab algn="l" pos="105570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Arial"/>
              </a:rPr>
              <a:t>Example level 1 Markets &amp; Indus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066680" y="1508040"/>
            <a:ext cx="1650960" cy="1146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04840" y="2959200"/>
            <a:ext cx="1770120" cy="3520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360" rIns="5436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Structure Concept</dc:description>
  <dc:language>en-US</dc:language>
  <cp:lastModifiedBy>d003179</cp:lastModifiedBy>
  <cp:lastPrinted>2000-05-10T17:23:18Z</cp:lastPrinted>
  <dcterms:modified xsi:type="dcterms:W3CDTF">2003-07-01T12:49:28Z</dcterms:modified>
  <cp:revision>456</cp:revision>
  <dc:subject/>
  <dc:title>EP Sample Content Structure Concept</dc:title>
</cp:coreProperties>
</file>