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FC74AF09-B722-4523-BDB1-482A65E59F2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392200" y="2031840"/>
            <a:ext cx="3733920" cy="16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ortal Deploy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Type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1342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o guarantee a stabil portal platform and equally enforce content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actuality and attractiviness, the following basic deployment typ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should be distinguished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ent Staging and Content Manage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velopment Deploy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ini Development Deployment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ull Deployment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(only for building up new Portal System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These deployment „types“ can be distinguished in terms of process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cycle, responsibility and master portal system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nother issue is the management of platform hotfixes and patches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-&gt; separate strategy required)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936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Staging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3000" y="914400"/>
            <a:ext cx="8178840" cy="4244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„intranet“ content, which is created by an editorial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process – content gets displayed via standard Intranet-iViews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(integrated WCM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reation and change of static content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pproval and release (in WC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into portal via iView (new or existing in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tegration of new iView in portal page (exist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ad hoc - week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Edi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Content Manage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53680" y="1314000"/>
            <a:ext cx="8178840" cy="340092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maintenace of roles, worksets and page layout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intenance of the portal content objects via administration functions of the editorial portal (RedPro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1-2 week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Content Manag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RedPro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3040" y="33768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ini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iViews (properties, code corec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hanges to existing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inor iView develop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rection 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monthl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Major Development Deploymen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465048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lated t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mplementation of new content scena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ew iviews, pages, worksets and r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latform modifications, branding and layo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ces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ctional Requir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velopment/portal administration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20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Deploymen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ycle: 3-6 month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esponsible: Portal Development Te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aster Portal: Dev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4000"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0">
              <a:spcBef>
                <a:spcPts val="201"/>
              </a:spcBef>
              <a:buNone/>
              <a:tabLst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3660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de-DE" sz="1900" spc="-1" strike="noStrike">
                <a:solidFill>
                  <a:srgbClr val="000000"/>
                </a:solidFill>
                <a:latin typeface="Arial"/>
              </a:rPr>
              <a:t>Deployment Paths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32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9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46120" y="5943600"/>
            <a:ext cx="78876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D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6440" y="464832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18640" y="281304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e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32640" y="11001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990720" y="5333760"/>
            <a:ext cx="958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7400" y="5487840"/>
            <a:ext cx="26028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2922480" y="5487840"/>
            <a:ext cx="277920" cy="455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521080" y="36878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083040" y="1649160"/>
            <a:ext cx="2766960" cy="141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523960" y="1844640"/>
            <a:ext cx="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3082680" y="1486080"/>
            <a:ext cx="2741400" cy="13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BS00103_" descr=""/>
          <p:cNvPicPr/>
          <p:nvPr/>
        </p:nvPicPr>
        <p:blipFill>
          <a:blip r:embed="rId1"/>
          <a:stretch/>
        </p:blipFill>
        <p:spPr>
          <a:xfrm>
            <a:off x="2190600" y="84600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4" name="BS00103_" descr=""/>
          <p:cNvPicPr/>
          <p:nvPr/>
        </p:nvPicPr>
        <p:blipFill>
          <a:blip r:embed="rId2"/>
          <a:stretch/>
        </p:blipFill>
        <p:spPr>
          <a:xfrm>
            <a:off x="5951520" y="8668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5" name="BS00103_" descr=""/>
          <p:cNvPicPr/>
          <p:nvPr/>
        </p:nvPicPr>
        <p:blipFill>
          <a:blip r:embed="rId3"/>
          <a:stretch/>
        </p:blipFill>
        <p:spPr>
          <a:xfrm>
            <a:off x="2209680" y="2573280"/>
            <a:ext cx="847800" cy="957240"/>
          </a:xfrm>
          <a:prstGeom prst="rect">
            <a:avLst/>
          </a:prstGeom>
          <a:ln w="0">
            <a:noFill/>
          </a:ln>
        </p:spPr>
      </p:pic>
      <p:pic>
        <p:nvPicPr>
          <p:cNvPr id="76" name="BS00103_" descr=""/>
          <p:cNvPicPr/>
          <p:nvPr/>
        </p:nvPicPr>
        <p:blipFill>
          <a:blip r:embed="rId4"/>
          <a:stretch/>
        </p:blipFill>
        <p:spPr>
          <a:xfrm>
            <a:off x="2265480" y="4411800"/>
            <a:ext cx="847440" cy="957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 flipV="1">
            <a:off x="2676600" y="1855440"/>
            <a:ext cx="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47560" y="1095480"/>
            <a:ext cx="17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RedProd</a:t>
            </a:r>
            <a:br>
              <a:rPr sz="24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editorial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127620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ad hoc/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29280" y="2165400"/>
            <a:ext cx="131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-6 Mon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70560" y="382896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056240" y="2017800"/>
            <a:ext cx="133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1-6 month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58320" y="19875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c0000"/>
                </a:solidFill>
                <a:latin typeface="ZapfDingbats"/>
                <a:ea typeface="ZapfDingbats"/>
              </a:rPr>
              <a:t>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de-DE" sz="1400" spc="-1" strike="noStrike">
                <a:solidFill>
                  <a:srgbClr val="cc0000"/>
                </a:solidFill>
                <a:latin typeface="Arial"/>
              </a:rPr>
              <a:t>wee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9680" y="4618080"/>
            <a:ext cx="32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tform and new master iView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32160" y="4662360"/>
            <a:ext cx="479520" cy="48600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94520" y="3313080"/>
            <a:ext cx="2238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ster system for a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other content ob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3000" y="2768760"/>
            <a:ext cx="485640" cy="458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7676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Deployment Strategy</dc:description>
  <dc:language>en-US</dc:language>
  <cp:lastModifiedBy>d031429</cp:lastModifiedBy>
  <cp:lastPrinted>2000-05-10T17:23:18Z</cp:lastPrinted>
  <dcterms:modified xsi:type="dcterms:W3CDTF">2003-11-27T18:59:31Z</dcterms:modified>
  <cp:revision>465</cp:revision>
  <dc:subject/>
  <dc:title>EP Sample Deployment Strategy</dc:title>
</cp:coreProperties>
</file>