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A11C-844D-44EC-A839-9D19A63CA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4E39-AA0D-4D9B-8B44-7BC0EEC3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7B6-FAA2-4AD3-938A-1B9B4885F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5D96-1875-41EE-BA40-F7624256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B77D-3ACF-4DB0-94AE-706392B9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2C8B-431E-4E3E-84B6-9F5E3606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533E-3B1D-4D07-B23F-F0578CD92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7226-02B0-4128-971D-4472F440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A9F8-FC34-4C8D-8A3B-5108166F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1B9E-8F46-44A8-81DA-2C1993E9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35BC-FF67-4695-A52F-BDB7990B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58B0-D69D-4346-AA0F-FB3CBD6D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FB6EB-28DD-4029-A2E4-CABE1B090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95600" y="193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4T13:10:27Z</dcterms:created>
  <dc:creator>d003179</dc:creator>
  <dc:description>EP Sample Development Landscape.ppt</dc:description>
  <cp:keywords>Development Landscape</cp:keywords>
  <dc:language>en-US</dc:language>
  <cp:lastModifiedBy>d003179</cp:lastModifiedBy>
  <dcterms:modified xsi:type="dcterms:W3CDTF">2003-06-24T13:13:12Z</dcterms:modified>
  <cp:revision>1</cp:revision>
  <dc:subject/>
  <dc:title>Sample Development Landscape</dc:title>
</cp:coreProperties>
</file>