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8436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65720" y="91404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8436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65720" y="3632760"/>
            <a:ext cx="264852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03000" y="114480"/>
            <a:ext cx="82278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18600" y="363276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8600" y="914040"/>
            <a:ext cx="4014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226360" cy="24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22636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56880">
              <a:spcBef>
                <a:spcPts val="1874"/>
              </a:spcBef>
              <a:buClr>
                <a:srgbClr val="ffffff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671400" indent="-290520">
              <a:spcBef>
                <a:spcPts val="1874"/>
              </a:spcBef>
              <a:buClr>
                <a:srgbClr val="33333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052640" indent="-190800">
              <a:spcBef>
                <a:spcPts val="1874"/>
              </a:spcBef>
              <a:buClr>
                <a:srgbClr val="333333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433520" indent="-19044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22400" y="6648480"/>
            <a:ext cx="35733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b2b2b2"/>
                </a:solidFill>
                <a:latin typeface="Arial"/>
              </a:rPr>
              <a:t>2003 SAP, </a:t>
            </a:r>
            <a:fld id="{16F41931-D7E3-46B3-B15C-88558EFB00C3}" type="slidenum">
              <a:rPr b="0" lang="en-US" sz="8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3200400"/>
            <a:ext cx="5983560" cy="1868400"/>
          </a:xfrm>
          <a:prstGeom prst="rect">
            <a:avLst/>
          </a:prstGeom>
          <a:noFill/>
          <a:ln w="0">
            <a:noFill/>
          </a:ln>
        </p:spPr>
        <p:txBody>
          <a:bodyPr lIns="36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3000" y="114480"/>
            <a:ext cx="82278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13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 Black"/>
              </a:rPr>
              <a:t>Example: Rollout Strategy</a:t>
            </a:r>
            <a:endParaRPr b="0" lang="en-US" sz="2200" spc="-1" strike="noStrike">
              <a:solidFill>
                <a:srgbClr val="333333"/>
              </a:solidFill>
              <a:latin typeface="Arial Black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7811" t="29570" r="14844" b="8063"/>
          <a:stretch/>
        </p:blipFill>
        <p:spPr>
          <a:xfrm>
            <a:off x="762120" y="1143000"/>
            <a:ext cx="7543800" cy="44197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429000" y="2666880"/>
            <a:ext cx="685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ECO Lt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14:11:59Z</dcterms:created>
  <dc:creator>Helge Meyer</dc:creator>
  <dc:description/>
  <dc:language>en-US</dc:language>
  <cp:lastModifiedBy>d031429</cp:lastModifiedBy>
  <dcterms:modified xsi:type="dcterms:W3CDTF">2003-09-30T12:03:14Z</dcterms:modified>
  <cp:revision>39</cp:revision>
  <dc:subject>Sample Rollout Strategy</dc:subject>
  <dc:title>EP Praxis</dc:title>
</cp:coreProperties>
</file>