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5AF9C256-3F48-4B4F-8DDF-D3679E08526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1600200"/>
            <a:ext cx="7691400" cy="39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ECO, Ltd.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Project AIM 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Naming Conventions</a:t>
            </a:r>
            <a:br>
              <a:rPr sz="2000"/>
            </a:b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163520" y="4724280"/>
            <a:ext cx="7648560" cy="11430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50000">
                <a:srgbClr val="dfdfdf"/>
              </a:gs>
              <a:gs pos="100000">
                <a:srgbClr val="bfbfbf"/>
              </a:gs>
            </a:gsLst>
            <a:lin ang="54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0" rIns="0" tIns="36000" bIns="36000" anchor="ctr">
            <a:noAutofit/>
          </a:bodyPr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ules: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 maximum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racters long, separator is do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small letters, numbers and underlin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gistration of all portal components is mandatory</a:t>
            </a:r>
            <a:br>
              <a:rPr sz="1600"/>
            </a:b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1" lang="en-US" sz="1600" spc="-1" strike="noStrike">
                <a:solidFill>
                  <a:srgbClr val="dadada"/>
                </a:solidFill>
                <a:latin typeface="Arial"/>
              </a:rPr>
              <a:t>&gt;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ust not contain d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Naming conventions for </a:t>
            </a: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Object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1187280" y="1523880"/>
            <a:ext cx="7616880" cy="539640"/>
            <a:chOff x="1187280" y="1523880"/>
            <a:chExt cx="7616880" cy="539640"/>
          </a:xfrm>
        </p:grpSpPr>
        <p:sp>
          <p:nvSpPr>
            <p:cNvPr id="48" name=""/>
            <p:cNvSpPr/>
            <p:nvPr/>
          </p:nvSpPr>
          <p:spPr>
            <a:xfrm>
              <a:off x="1187280" y="1523880"/>
              <a:ext cx="462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c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758960" y="1523880"/>
              <a:ext cx="8110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EC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168720" y="1523880"/>
              <a:ext cx="8762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4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214960" y="1523880"/>
              <a:ext cx="9604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86680" y="1523880"/>
              <a:ext cx="90144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04240" y="1523880"/>
              <a:ext cx="79992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679840" y="1523880"/>
              <a:ext cx="38556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Arial"/>
                </a:rPr>
                <a:t>p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8280" y="1523880"/>
              <a:ext cx="96660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solution</a:t>
              </a:r>
              <a:br>
                <a:rPr sz="1400"/>
              </a:br>
              <a:r>
                <a:rPr b="1" lang="en-GB" sz="14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289640" y="1523880"/>
              <a:ext cx="611280" cy="5396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4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4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18200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8962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786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0840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3848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6216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70040" y="1523880"/>
              <a:ext cx="10800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52760" y="1523880"/>
              <a:ext cx="107640" cy="5396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59560" y="1661040"/>
            <a:ext cx="77508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6699"/>
                </a:solidFill>
                <a:latin typeface="Arial"/>
              </a:rPr>
              <a:t>SAP EP6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22200" y="2349360"/>
            <a:ext cx="762984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domain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company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0" lang="de-DE" sz="1000" spc="-1" strike="noStrike">
                <a:solidFill>
                  <a:srgbClr val="676767"/>
                </a:solidFill>
                <a:latin typeface="Arial"/>
              </a:rPr>
              <a:t>ECO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object type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676767"/>
                </a:solidFill>
                <a:latin typeface="Arial"/>
              </a:rPr>
              <a:t>pct 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(fixed)</a:t>
            </a:r>
            <a:br>
              <a:rPr sz="1000"/>
            </a:b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66ff"/>
                </a:solidFill>
                <a:latin typeface="Arial"/>
              </a:rPr>
              <a:t>sourc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US" sz="1000" spc="-1" strike="noStrike">
                <a:solidFill>
                  <a:srgbClr val="cc66ff"/>
                </a:solidFill>
                <a:latin typeface="Arial"/>
              </a:rPr>
              <a:t>portal solution packag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009900"/>
                </a:solidFill>
                <a:latin typeface="Arial"/>
              </a:rPr>
              <a:t>function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 &lt;</a:t>
            </a:r>
            <a:r>
              <a:rPr b="1" lang="en-GB" sz="1000" spc="-1" strike="noStrike">
                <a:solidFill>
                  <a:srgbClr val="990033"/>
                </a:solidFill>
                <a:latin typeface="Arial"/>
              </a:rPr>
              <a:t>product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0000"/>
                </a:solidFill>
                <a:latin typeface="Arial"/>
              </a:rPr>
              <a:t>typ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predefined in the online Portal Object Catalogue, additional entries must be applied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25"/>
              </a:spcBef>
              <a:tabLst>
                <a:tab algn="l" pos="0"/>
                <a:tab algn="l" pos="1878120"/>
                <a:tab algn="l" pos="3048120"/>
                <a:tab algn="l" pos="4035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lt;</a:t>
            </a:r>
            <a:r>
              <a:rPr b="1" lang="en-GB" sz="10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&gt;</a:t>
            </a:r>
            <a:r>
              <a:rPr b="0" lang="en-GB" sz="1000" spc="-1" strike="noStrike">
                <a:solidFill>
                  <a:srgbClr val="dadada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676767"/>
                </a:solidFill>
                <a:latin typeface="Arial"/>
              </a:rPr>
              <a:t>online definition from user (developer, project, business unit,…) , release from C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7600" y="2192400"/>
            <a:ext cx="2528640" cy="1116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1134720" y="2179800"/>
            <a:ext cx="2733480" cy="10800"/>
          </a:xfrm>
          <a:prstGeom prst="line">
            <a:avLst/>
          </a:prstGeom>
          <a:ln w="28440">
            <a:solidFill>
              <a:srgbClr val="67676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9080" y="2090880"/>
            <a:ext cx="2207520" cy="2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t">
            <a:spAutoFit/>
          </a:bodyPr>
          <a:p>
            <a:pPr algn="ctr"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Maximum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200" spc="-1" strike="noStrike">
                <a:solidFill>
                  <a:srgbClr val="dadada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76767"/>
                </a:solidFill>
                <a:latin typeface="Arial"/>
              </a:rPr>
              <a:t>characters l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3520" y="1905120"/>
          <a:ext cx="7772400" cy="4571640"/>
        </p:xfrm>
        <a:graphic>
          <a:graphicData uri="http://schemas.openxmlformats.org/drawingml/2006/table">
            <a:tbl>
              <a:tblPr/>
              <a:tblGrid>
                <a:gridCol w="5135400"/>
                <a:gridCol w="2637000"/>
              </a:tblGrid>
              <a:tr h="3099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ourc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599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&amp;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35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na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0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88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2" name=""/>
          <p:cNvGrpSpPr/>
          <p:nvPr/>
        </p:nvGrpSpPr>
        <p:grpSpPr>
          <a:xfrm>
            <a:off x="2514600" y="1066680"/>
            <a:ext cx="5005440" cy="460440"/>
            <a:chOff x="2514600" y="1066680"/>
            <a:chExt cx="5005440" cy="460440"/>
          </a:xfrm>
        </p:grpSpPr>
        <p:sp>
          <p:nvSpPr>
            <p:cNvPr id="73" name=""/>
            <p:cNvSpPr/>
            <p:nvPr/>
          </p:nvSpPr>
          <p:spPr>
            <a:xfrm>
              <a:off x="2514600" y="10666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890080" y="10666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720" y="1066680"/>
              <a:ext cx="5756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161320" y="10666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865480" y="10666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94440" y="10666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495240" y="10666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60400" y="10666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24640" y="10666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5408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9231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9456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0911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3880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4652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23240" y="10666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820240" y="10666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807000" y="1066680"/>
            <a:ext cx="60948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09680" y="1600200"/>
            <a:ext cx="5005440" cy="476280"/>
            <a:chOff x="2209680" y="1600200"/>
            <a:chExt cx="5005440" cy="476280"/>
          </a:xfrm>
        </p:grpSpPr>
        <p:sp>
          <p:nvSpPr>
            <p:cNvPr id="93" name=""/>
            <p:cNvSpPr/>
            <p:nvPr/>
          </p:nvSpPr>
          <p:spPr>
            <a:xfrm>
              <a:off x="2209680" y="1600200"/>
              <a:ext cx="3031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85880" y="1600200"/>
              <a:ext cx="532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511440" y="1600200"/>
              <a:ext cx="5763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00ff"/>
                  </a:solidFill>
                  <a:latin typeface="Arial"/>
                </a:rPr>
                <a:t>source</a:t>
              </a:r>
              <a:r>
                <a:rPr b="1" lang="de-DE" sz="1000" spc="-1" strike="noStrike">
                  <a:solidFill>
                    <a:srgbClr val="009900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856040" y="1600200"/>
              <a:ext cx="631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56092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689520" y="160020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190680" y="1600200"/>
              <a:ext cx="25272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155840" y="1600200"/>
              <a:ext cx="63504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99ff"/>
                  </a:solidFill>
                  <a:latin typeface="Arial"/>
                </a:rPr>
                <a:t>   package</a:t>
              </a:r>
              <a:r>
                <a:rPr b="1" lang="fr-FR" sz="1000" spc="-1" strike="noStrike">
                  <a:solidFill>
                    <a:srgbClr val="cc99ff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19720" y="1600200"/>
              <a:ext cx="40176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484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182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964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862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08312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41600" y="1600200"/>
              <a:ext cx="716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117960" y="1600200"/>
              <a:ext cx="7128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6040" y="1600200"/>
              <a:ext cx="6984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137120" y="1600200"/>
              <a:ext cx="682560" cy="4762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685800" y="2590920"/>
            <a:ext cx="787248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en-US" sz="1800" spc="-1" strike="noStrike">
                <a:solidFill>
                  <a:srgbClr val="cc99ff"/>
                </a:solidFill>
                <a:latin typeface="Arial"/>
              </a:rPr>
              <a:t>Portal Solution Package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&gt; is a description you can choose for your package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Please keep it as short as possible – “Short is beautiful”</a:t>
            </a:r>
            <a:br>
              <a:rPr sz="1800"/>
            </a:b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e.g. all Portal Administration objects are contained in the Portal Solution Package 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7162920" cy="447192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32832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ist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ad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usiness Intellige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b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lla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ent Manag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ntrol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ustom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ea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nanci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f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uman Resourc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h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duct Lifecycle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roject Mgm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p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ier Relationship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upply Chain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s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4" name=""/>
          <p:cNvGrpSpPr/>
          <p:nvPr/>
        </p:nvGrpSpPr>
        <p:grpSpPr>
          <a:xfrm>
            <a:off x="2286000" y="1295280"/>
            <a:ext cx="5005440" cy="460440"/>
            <a:chOff x="2286000" y="1295280"/>
            <a:chExt cx="5005440" cy="460440"/>
          </a:xfrm>
        </p:grpSpPr>
        <p:sp>
          <p:nvSpPr>
            <p:cNvPr id="115" name=""/>
            <p:cNvSpPr/>
            <p:nvPr/>
          </p:nvSpPr>
          <p:spPr>
            <a:xfrm>
              <a:off x="228600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66148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8812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32720" y="1295280"/>
              <a:ext cx="63108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636880" y="129528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6584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6664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23180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29604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22548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6945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659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625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1594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1792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94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164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937040" y="1295280"/>
            <a:ext cx="646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066680" y="1981080"/>
          <a:ext cx="7162920" cy="4529160"/>
        </p:xfrm>
        <a:graphic>
          <a:graphicData uri="http://schemas.openxmlformats.org/drawingml/2006/table">
            <a:tbl>
              <a:tblPr/>
              <a:tblGrid>
                <a:gridCol w="4732560"/>
                <a:gridCol w="2430360"/>
              </a:tblGrid>
              <a:tr h="27468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roduct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glob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rosswor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bm_c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erwoven Teamsi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wov_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 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intran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 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ms_exchan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Not Applic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_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Open Text 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liveli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peoplesof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a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Business Warehou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b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Content 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e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Enterprise 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or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pl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 R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ap_r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 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iebel_c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Corporate Orga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5480"/>
                          <a:tab algn="l" pos="1111320"/>
                          <a:tab algn="l" pos="1666800"/>
                          <a:tab algn="l" pos="2222640"/>
                          <a:tab algn="l" pos="2778120"/>
                          <a:tab algn="l" pos="3333600"/>
                          <a:tab algn="l" pos="3889440"/>
                          <a:tab algn="l" pos="4444920"/>
                          <a:tab algn="l" pos="5000760"/>
                          <a:tab algn="l" pos="5556240"/>
                          <a:tab algn="l" pos="6111720"/>
                          <a:tab algn="l" pos="6667560"/>
                          <a:tab algn="l" pos="7223040"/>
                          <a:tab algn="l" pos="7778880"/>
                          <a:tab algn="l" pos="8334360"/>
                          <a:tab algn="l" pos="8889840"/>
                          <a:tab algn="l" pos="9445680"/>
                          <a:tab algn="l" pos="10001160"/>
                          <a:tab algn="l" pos="10557000"/>
                        </a:tabLst>
                      </a:pPr>
                      <a:r>
                        <a:rPr b="1" lang="en-GB" sz="1400" spc="-1" strike="noStrike">
                          <a:solidFill>
                            <a:srgbClr val="990000"/>
                          </a:solidFill>
                          <a:latin typeface="Arial"/>
                          <a:ea typeface="Arial"/>
                        </a:rPr>
                        <a:t>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35" name=""/>
          <p:cNvGrpSpPr/>
          <p:nvPr/>
        </p:nvGrpSpPr>
        <p:grpSpPr>
          <a:xfrm>
            <a:off x="2133720" y="1295280"/>
            <a:ext cx="5005440" cy="460440"/>
            <a:chOff x="2133720" y="1295280"/>
            <a:chExt cx="5005440" cy="460440"/>
          </a:xfrm>
        </p:grpSpPr>
        <p:sp>
          <p:nvSpPr>
            <p:cNvPr id="136" name=""/>
            <p:cNvSpPr/>
            <p:nvPr/>
          </p:nvSpPr>
          <p:spPr>
            <a:xfrm>
              <a:off x="2133720" y="129528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9200" y="129528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35840" y="129528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ff0000"/>
                  </a:solidFill>
                  <a:latin typeface="Arial"/>
                </a:rPr>
                <a:t>&lt;sourc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80440" y="129528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&lt;function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4600" y="1295280"/>
              <a:ext cx="5922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cc6600"/>
                  </a:solidFill>
                  <a:latin typeface="Arial"/>
                </a:rPr>
                <a:t>&lt;product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613560" y="1295280"/>
              <a:ext cx="5256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14360" y="129528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79520" y="129528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43760" y="129528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320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5422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1368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102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071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6564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042360" y="129528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39360" y="129528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457960" y="1295280"/>
            <a:ext cx="64584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62120" y="2209680"/>
          <a:ext cx="7772040" cy="4400640"/>
        </p:xfrm>
        <a:graphic>
          <a:graphicData uri="http://schemas.openxmlformats.org/drawingml/2006/table">
            <a:tbl>
              <a:tblPr/>
              <a:tblGrid>
                <a:gridCol w="5135040"/>
                <a:gridCol w="2637000"/>
              </a:tblGrid>
              <a:tr h="293760">
                <a:tc gridSpan="2"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lt;</a:t>
                      </a:r>
                      <a:r>
                        <a:rPr b="0" lang="en-GB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yp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2680"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play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  <a:tc>
                  <a:txBody>
                    <a:bodyPr lIns="10800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e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69696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ie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ork S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w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3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ayo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Templa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 Al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376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268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ransport Pack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t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94120"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 f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0800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spcAft>
                          <a:spcPts val="34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ar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08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1981080" y="1447920"/>
            <a:ext cx="5005440" cy="460080"/>
            <a:chOff x="1981080" y="1447920"/>
            <a:chExt cx="5005440" cy="460080"/>
          </a:xfrm>
        </p:grpSpPr>
        <p:sp>
          <p:nvSpPr>
            <p:cNvPr id="157" name=""/>
            <p:cNvSpPr/>
            <p:nvPr/>
          </p:nvSpPr>
          <p:spPr>
            <a:xfrm>
              <a:off x="1981080" y="1447920"/>
              <a:ext cx="3034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356560" y="1447920"/>
              <a:ext cx="5328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3200" y="1447920"/>
              <a:ext cx="5756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27800" y="1447920"/>
              <a:ext cx="631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31960" y="1447920"/>
              <a:ext cx="5922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60920" y="1447920"/>
              <a:ext cx="52560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9900"/>
                  </a:solidFill>
                  <a:latin typeface="Arial"/>
                </a:rPr>
                <a:t>nam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961720" y="1447920"/>
              <a:ext cx="25308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926880" y="1447920"/>
              <a:ext cx="635040" cy="460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991120" y="1447920"/>
              <a:ext cx="401400" cy="46008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92056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3896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26104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576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545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1300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89720" y="1447920"/>
              <a:ext cx="7092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86720" y="1447920"/>
              <a:ext cx="70560" cy="46008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5965920" y="1447920"/>
            <a:ext cx="45072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Object Catalogu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133720" y="1600200"/>
            <a:ext cx="5005440" cy="460440"/>
            <a:chOff x="2133720" y="1600200"/>
            <a:chExt cx="5005440" cy="460440"/>
          </a:xfrm>
        </p:grpSpPr>
        <p:sp>
          <p:nvSpPr>
            <p:cNvPr id="177" name=""/>
            <p:cNvSpPr/>
            <p:nvPr/>
          </p:nvSpPr>
          <p:spPr>
            <a:xfrm>
              <a:off x="2133720" y="1600200"/>
              <a:ext cx="3034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co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09200" y="1600200"/>
              <a:ext cx="5328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dadada"/>
                  </a:solidFill>
                  <a:latin typeface="Arial"/>
                </a:rPr>
                <a:t>e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435840" y="1600200"/>
              <a:ext cx="5756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de-DE" sz="1000" spc="-1" strike="noStrike">
                  <a:solidFill>
                    <a:srgbClr val="0066ff"/>
                  </a:solidFill>
                  <a:latin typeface="Arial"/>
                </a:rPr>
                <a:t>source</a:t>
              </a:r>
              <a:r>
                <a:rPr b="0" i="1" lang="de-DE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0440" y="1600200"/>
              <a:ext cx="631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009900"/>
                  </a:solidFill>
                  <a:latin typeface="Arial"/>
                </a:rPr>
                <a:t>function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84600" y="1600200"/>
              <a:ext cx="5922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990033"/>
                  </a:solidFill>
                  <a:latin typeface="Arial"/>
                </a:rPr>
                <a:t>product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3560" y="1600200"/>
              <a:ext cx="525600" cy="460440"/>
            </a:xfrm>
            <a:prstGeom prst="rect">
              <a:avLst/>
            </a:prstGeom>
            <a:gradFill rotWithShape="0">
              <a:gsLst>
                <a:gs pos="0">
                  <a:srgbClr val="9bc29b"/>
                </a:gs>
                <a:gs pos="50000">
                  <a:srgbClr val="ccffcc"/>
                </a:gs>
                <a:gs pos="100000">
                  <a:srgbClr val="9bc29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&lt;name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14360" y="1600200"/>
              <a:ext cx="25308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p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79520" y="1600200"/>
              <a:ext cx="63504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portal     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solution</a:t>
              </a:r>
              <a:br>
                <a:rPr sz="1000"/>
              </a:br>
              <a:r>
                <a:rPr b="1" lang="en-GB" sz="1000" spc="-1" strike="noStrike">
                  <a:solidFill>
                    <a:srgbClr val="cc66ff"/>
                  </a:solidFill>
                  <a:latin typeface="Arial"/>
                </a:rPr>
                <a:t>   packag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43760" y="1600200"/>
              <a:ext cx="401400" cy="460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lt;</a:t>
              </a: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type</a:t>
              </a:r>
              <a:r>
                <a:rPr b="0" i="1" lang="fr-FR" sz="1000" spc="-1" strike="noStrike">
                  <a:solidFill>
                    <a:srgbClr val="dadada"/>
                  </a:solidFill>
                  <a:latin typeface="Arial"/>
                </a:rPr>
                <a:t>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7320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5422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368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071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36564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042360" y="1600200"/>
              <a:ext cx="7092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9360" y="1600200"/>
              <a:ext cx="70560" cy="460440"/>
            </a:xfrm>
            <a:prstGeom prst="rect">
              <a:avLst/>
            </a:prstGeom>
            <a:gradFill rotWithShape="0">
              <a:gsLst>
                <a:gs pos="0">
                  <a:srgbClr val="bdbdbd"/>
                </a:gs>
                <a:gs pos="50000">
                  <a:srgbClr val="dddddd"/>
                </a:gs>
                <a:gs pos="100000">
                  <a:srgbClr val="bdbdbd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0" tIns="0" bIns="0" anchor="ctr" anchorCtr="1">
              <a:noAutofit/>
            </a:bodyPr>
            <a:p>
              <a:pPr algn="ctr">
                <a:lnSpc>
                  <a:spcPct val="110000"/>
                </a:lnSpc>
                <a:spcBef>
                  <a:spcPts val="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dadada"/>
                  </a:solidFill>
                  <a:latin typeface="Arial"/>
                </a:rPr>
                <a:t>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600960" y="1600200"/>
            <a:ext cx="538200" cy="47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800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2895480"/>
            <a:ext cx="8288280" cy="33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spAutoFit/>
          </a:bodyPr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lt;</a:t>
            </a:r>
            <a:r>
              <a:rPr b="0" lang="de-DE" sz="1800" spc="-1" strike="noStrike">
                <a:solidFill>
                  <a:srgbClr val="ff9900"/>
                </a:solidFill>
                <a:latin typeface="Arial"/>
              </a:rPr>
              <a:t>name</a:t>
            </a: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&gt; is the description of the ob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Please keep it as short as possibl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– “Short is beautifu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1680" indent="-285840">
              <a:lnSpc>
                <a:spcPct val="115000"/>
              </a:lnSpc>
              <a:spcBef>
                <a:spcPts val="451"/>
              </a:spcBef>
              <a:buClr>
                <a:srgbClr val="dadada"/>
              </a:buClr>
              <a:buFont typeface="Wingdings" charset="2"/>
              <a:buChar char=""/>
              <a:tabLst>
                <a:tab algn="l" pos="24764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e.g.</a:t>
            </a: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 </a:t>
            </a:r>
            <a:br>
              <a:rPr sz="1800"/>
            </a:b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de-DE" sz="14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009900"/>
                </a:solidFill>
                <a:latin typeface="Arial"/>
              </a:rPr>
              <a:t>admin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990000"/>
                </a:solidFill>
                <a:latin typeface="Arial"/>
              </a:rPr>
              <a:t>intranet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0000"/>
                </a:solidFill>
                <a:latin typeface="Arial"/>
              </a:rPr>
              <a:t>iv</a:t>
            </a:r>
            <a:r>
              <a:rPr b="1" lang="de-DE" sz="14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de-DE" sz="1400" spc="-1" strike="noStrike">
                <a:solidFill>
                  <a:srgbClr val="ff9900"/>
                </a:solidFill>
                <a:latin typeface="Arial"/>
              </a:rPr>
              <a:t>portal_component_registration</a:t>
            </a:r>
            <a:br>
              <a:rPr sz="1400"/>
            </a:br>
            <a:br>
              <a:rPr sz="1800"/>
            </a:br>
            <a:r>
              <a:rPr b="0" lang="de-DE" sz="1800" spc="-1" strike="noStrike">
                <a:solidFill>
                  <a:srgbClr val="336699"/>
                </a:solidFill>
                <a:latin typeface="Arial"/>
              </a:rPr>
              <a:t>for the iView displaying the Portal Component Registration belonging to the Portal Solution Package 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„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com.eco.pct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ndard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cc99ff"/>
                </a:solidFill>
                <a:latin typeface="Arial"/>
              </a:rPr>
              <a:t>portal_admin</a:t>
            </a: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Naming Conventions</dc:description>
  <dc:language>en-US</dc:language>
  <cp:lastModifiedBy>d003179</cp:lastModifiedBy>
  <cp:lastPrinted>2000-05-10T17:23:18Z</cp:lastPrinted>
  <dcterms:modified xsi:type="dcterms:W3CDTF">2003-11-20T15:44:19Z</dcterms:modified>
  <cp:revision>455</cp:revision>
  <dc:subject/>
  <dc:title>EP Sample Naming Conventions</dc:title>
</cp:coreProperties>
</file>