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0969-3067-43B0-A75D-5701F006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24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F5F2-DEB5-4F6E-A077-95264E90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DC7-3B94-4B62-BE6E-27BAFA10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2992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2992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4B2-729C-4A58-A675-5F5BE68C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6B57-EF7C-453E-9830-E1A79297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F29D-A4E9-4610-A3C0-D68800A3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E47F-E656-4DDF-9DC9-4E3FEFBF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8931-F50D-4357-84B3-5514D35B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10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B5D-8FF9-46A3-8BA8-A164AEEF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F780-1653-4CED-AC39-66AE3642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1EC3-0D69-4908-AEFC-AF4DCB55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24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9EF-6913-4F34-A42A-8F8390FD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67000"/>
          </a:bodyPr>
          <a:p>
            <a:pPr marL="334800" indent="-334800">
              <a:spcBef>
                <a:spcPts val="1176"/>
              </a:spcBef>
              <a:buClr>
                <a:srgbClr val="000000"/>
              </a:buClr>
              <a:buFont typeface="Times New Roman"/>
              <a:buChar char="•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278280">
              <a:spcBef>
                <a:spcPts val="1176"/>
              </a:spcBef>
              <a:buClr>
                <a:srgbClr val="000000"/>
              </a:buClr>
              <a:buFont typeface="Times New Roman"/>
              <a:buChar char="–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564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•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240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–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808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808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808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636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lstStyle>
            <a:lvl1pPr indent="0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lstStyle>
            <a:lvl1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636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lstStyle>
            <a:lvl1pPr indent="0" algn="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73AD049D-9E8D-422F-A4A5-BBBA9EDAD477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33920" y="0"/>
            <a:ext cx="45100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100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1920" y="966960"/>
            <a:ext cx="550800" cy="226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440" y="1401840"/>
            <a:ext cx="552600" cy="23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0320" y="2766960"/>
            <a:ext cx="552240" cy="227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38640" y="958680"/>
            <a:ext cx="550800" cy="227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576760" y="1968480"/>
            <a:ext cx="7920" cy="1898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1000" y="1135080"/>
            <a:ext cx="3676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6840" y="2227320"/>
            <a:ext cx="157932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Se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62200" y="2503440"/>
            <a:ext cx="13078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200" y="4495680"/>
            <a:ext cx="126216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327560" cy="5867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4325760" cy="5867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19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914400"/>
            <a:ext cx="4190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1676520"/>
            <a:ext cx="0" cy="19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76200" y="23875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92760" y="44449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320" y="2405160"/>
            <a:ext cx="8380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320" y="1066680"/>
            <a:ext cx="8380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7640" y="0"/>
            <a:ext cx="4325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monitorinit1" descr=""/>
          <p:cNvPicPr/>
          <p:nvPr/>
        </p:nvPicPr>
        <p:blipFill>
          <a:blip r:embed="rId1"/>
          <a:stretch/>
        </p:blipFill>
        <p:spPr>
          <a:xfrm>
            <a:off x="2884320" y="1128600"/>
            <a:ext cx="3373560" cy="4599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495680" y="2514600"/>
            <a:ext cx="914400" cy="457200"/>
          </a:xfrm>
          <a:prstGeom prst="ellipse">
            <a:avLst/>
          </a:prstGeom>
          <a:noFill/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274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990720"/>
            <a:ext cx="685800" cy="226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62120" y="1828800"/>
            <a:ext cx="9360" cy="2131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2480" y="2133720"/>
            <a:ext cx="140544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5183280"/>
            <a:ext cx="13554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37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71520" y="1017720"/>
            <a:ext cx="1228680" cy="27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285920" y="1855800"/>
            <a:ext cx="9360" cy="2133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69080" y="2160720"/>
            <a:ext cx="140544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98960" y="5205240"/>
            <a:ext cx="13554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4352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100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40" y="1401840"/>
            <a:ext cx="552600" cy="23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370160"/>
            <a:ext cx="628920" cy="253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38400" y="1397160"/>
            <a:ext cx="858600" cy="226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160" y="2563920"/>
            <a:ext cx="1066680" cy="253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532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6264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0"/>
            <a:ext cx="7467480" cy="2666160"/>
            <a:chOff x="0" y="0"/>
            <a:chExt cx="7467480" cy="2666160"/>
          </a:xfrm>
        </p:grpSpPr>
        <p:sp>
          <p:nvSpPr>
            <p:cNvPr id="71" name=""/>
            <p:cNvSpPr/>
            <p:nvPr/>
          </p:nvSpPr>
          <p:spPr>
            <a:xfrm>
              <a:off x="4977720" y="0"/>
              <a:ext cx="248940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11440" y="836640"/>
              <a:ext cx="921240" cy="91692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735480" bIns="-73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6476040" y="551520"/>
              <a:ext cx="418680" cy="1198080"/>
              <a:chOff x="6476040" y="551520"/>
              <a:chExt cx="418680" cy="119808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6511680" y="8229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523920" y="11109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657840" y="5515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6643080" y="77040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643440" y="112428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6608520" y="112428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6476040" y="15055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23920" y="8985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598440" y="55152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6741000" y="666720"/>
              <a:ext cx="418680" cy="1198080"/>
              <a:chOff x="6741000" y="666720"/>
              <a:chExt cx="418680" cy="1198080"/>
            </a:xfrm>
          </p:grpSpPr>
          <p:sp>
            <p:nvSpPr>
              <p:cNvPr id="84" name=""/>
              <p:cNvSpPr/>
              <p:nvPr/>
            </p:nvSpPr>
            <p:spPr>
              <a:xfrm flipH="1">
                <a:off x="6776640" y="9381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88880" y="12261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22800" y="6667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6908040" y="88560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908400" y="123948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6873480" y="123948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6741000" y="16207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88880" y="10137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63400" y="66672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6836400" y="1218240"/>
              <a:ext cx="13680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3840" bIns="-129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94120" y="1139040"/>
              <a:ext cx="1335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98600" y="1246320"/>
              <a:ext cx="1371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8960" y="1246320"/>
              <a:ext cx="13680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13057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26760" y="13057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10840" y="133704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00840" y="1337040"/>
              <a:ext cx="1371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34080" y="1142640"/>
              <a:ext cx="508680" cy="35712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026720" bIns="-102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77720" y="2099160"/>
              <a:ext cx="2489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17200" bIns="-817200" anchor="t">
              <a:normAutofit/>
            </a:bodyPr>
            <a:p>
              <a:pPr algn="ctr">
                <a:spcBef>
                  <a:spcPts val="102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89400" y="2099160"/>
              <a:ext cx="248796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17200" bIns="-817200" anchor="t">
              <a:normAutofit/>
            </a:bodyPr>
            <a:p>
              <a:pPr algn="ctr">
                <a:spcBef>
                  <a:spcPts val="102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2099160"/>
              <a:ext cx="2489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17200" bIns="-817200" anchor="t">
              <a:normAutofit/>
            </a:bodyPr>
            <a:p>
              <a:pPr algn="ctr">
                <a:spcBef>
                  <a:spcPts val="102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89400" y="0"/>
              <a:ext cx="248796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0"/>
              <a:ext cx="248940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0"/>
              <a:ext cx="7467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383840" bIns="-138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2099160"/>
              <a:ext cx="746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383840" bIns="-138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666160"/>
              <a:ext cx="7467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383840" bIns="-138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89400" y="0"/>
              <a:ext cx="0" cy="266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1282320" bIns="128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77720" y="0"/>
              <a:ext cx="0" cy="266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1282320" bIns="128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67480" y="0"/>
              <a:ext cx="0" cy="2666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1282320" bIns="128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2099160"/>
              <a:ext cx="0" cy="56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817200" bIns="-81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0"/>
              <a:ext cx="0" cy="2099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70080" y="357120"/>
              <a:ext cx="418680" cy="1198080"/>
              <a:chOff x="370080" y="357120"/>
              <a:chExt cx="418680" cy="1198080"/>
            </a:xfrm>
          </p:grpSpPr>
          <p:sp>
            <p:nvSpPr>
              <p:cNvPr id="116" name=""/>
              <p:cNvSpPr/>
              <p:nvPr/>
            </p:nvSpPr>
            <p:spPr>
              <a:xfrm flipH="1">
                <a:off x="405720" y="6285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17960" y="9165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51880" y="3571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537120" y="57600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37480" y="92988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02560" y="92988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370080" y="13111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7960" y="7041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92480" y="35712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5840" y="483840"/>
              <a:ext cx="418680" cy="1198080"/>
              <a:chOff x="645840" y="483840"/>
              <a:chExt cx="418680" cy="1198080"/>
            </a:xfrm>
          </p:grpSpPr>
          <p:sp>
            <p:nvSpPr>
              <p:cNvPr id="126" name=""/>
              <p:cNvSpPr/>
              <p:nvPr/>
            </p:nvSpPr>
            <p:spPr>
              <a:xfrm flipH="1">
                <a:off x="681480" y="75528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93720" y="104328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27640" y="48384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812880" y="70272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3240" y="105660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778320" y="105660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45840" y="143784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93720" y="83088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8240" y="48384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910800" y="599040"/>
              <a:ext cx="418680" cy="1198080"/>
              <a:chOff x="910800" y="599040"/>
              <a:chExt cx="418680" cy="1198080"/>
            </a:xfrm>
          </p:grpSpPr>
          <p:sp>
            <p:nvSpPr>
              <p:cNvPr id="136" name=""/>
              <p:cNvSpPr/>
              <p:nvPr/>
            </p:nvSpPr>
            <p:spPr>
              <a:xfrm flipH="1">
                <a:off x="946440" y="87048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58680" y="115848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92600" y="59904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077840" y="81792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78200" y="117180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043280" y="117180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910800" y="155304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58680" y="94608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33200" y="59904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1374840" y="987840"/>
              <a:ext cx="748440" cy="475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907920" bIns="-90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12000" y="111492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47360" y="111492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83080" y="1114920"/>
              <a:ext cx="13680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20240" y="111492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12000" y="12463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47360" y="12463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83080" y="1246320"/>
              <a:ext cx="13680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20240" y="12463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3981600" y="500040"/>
              <a:ext cx="418680" cy="1197360"/>
              <a:chOff x="3981600" y="500040"/>
              <a:chExt cx="418680" cy="1197360"/>
            </a:xfrm>
          </p:grpSpPr>
          <p:sp>
            <p:nvSpPr>
              <p:cNvPr id="155" name=""/>
              <p:cNvSpPr/>
              <p:nvPr/>
            </p:nvSpPr>
            <p:spPr>
              <a:xfrm flipH="1">
                <a:off x="4017240" y="77148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029480" y="105912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63400" y="50004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4148640" y="718560"/>
                <a:ext cx="70200" cy="38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520" bIns="-100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149000" y="1072440"/>
                <a:ext cx="182520" cy="62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880" bIns="-75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4114080" y="1072440"/>
                <a:ext cx="50040" cy="39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360" bIns="-990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3981600" y="14533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29480" y="84708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104000" y="500040"/>
                <a:ext cx="296280" cy="21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5320" bIns="-116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247280" y="615240"/>
              <a:ext cx="416880" cy="1197360"/>
              <a:chOff x="4247280" y="615240"/>
              <a:chExt cx="416880" cy="1197360"/>
            </a:xfrm>
          </p:grpSpPr>
          <p:sp>
            <p:nvSpPr>
              <p:cNvPr id="165" name=""/>
              <p:cNvSpPr/>
              <p:nvPr/>
            </p:nvSpPr>
            <p:spPr>
              <a:xfrm flipH="1">
                <a:off x="4282560" y="886680"/>
                <a:ext cx="18900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94440" y="1174320"/>
                <a:ext cx="27360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28000" y="615240"/>
                <a:ext cx="16776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4413240" y="833760"/>
                <a:ext cx="70200" cy="38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520" bIns="-100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413600" y="1187640"/>
                <a:ext cx="181800" cy="62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880" bIns="-75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4378680" y="1187640"/>
                <a:ext cx="50040" cy="39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360" bIns="-990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4247280" y="1568520"/>
                <a:ext cx="13608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294440" y="962280"/>
                <a:ext cx="11880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68960" y="615240"/>
                <a:ext cx="295200" cy="21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5320" bIns="-116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27400" y="1004040"/>
              <a:ext cx="748440" cy="475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907920" bIns="-90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20240" y="526680"/>
              <a:ext cx="484920" cy="1198440"/>
              <a:chOff x="2820240" y="526680"/>
              <a:chExt cx="484920" cy="119844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2856240" y="79884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68120" y="1086840"/>
                <a:ext cx="274680" cy="232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02040" y="527040"/>
                <a:ext cx="168120" cy="233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960" bIns="-1218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2987280" y="74556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987640" y="1099440"/>
                <a:ext cx="182520" cy="62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160" bIns="-75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2952720" y="1099440"/>
                <a:ext cx="50040" cy="39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89640" bIns="-989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820240" y="1480680"/>
                <a:ext cx="136440" cy="23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868120" y="87444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2931480" y="552240"/>
                <a:ext cx="30924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55320" bIns="-125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3057840" y="745560"/>
                <a:ext cx="247320" cy="6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319760" bIns="-1319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3227760" y="526680"/>
                <a:ext cx="60480" cy="25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26440" bIns="-112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3459600" y="329040"/>
              <a:ext cx="33120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28720" bIns="-828720" anchor="t">
              <a:noAutofit/>
            </a:bodyPr>
            <a:p>
              <a:pPr>
                <a:tabLst>
                  <a:tab algn="l" pos="0"/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r>
                <a:rPr b="1" lang="de-DE" sz="47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5314680" y="591120"/>
              <a:ext cx="638640" cy="1198080"/>
              <a:chOff x="5314680" y="591120"/>
              <a:chExt cx="638640" cy="119808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5350320" y="8625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62200" y="11505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96120" y="5911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5481720" y="809640"/>
                <a:ext cx="70560" cy="38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0800" bIns="-100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481720" y="1163520"/>
                <a:ext cx="182880" cy="62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160" bIns="-75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5446800" y="1163520"/>
                <a:ext cx="50040" cy="39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89640" bIns="-989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5314680" y="15451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362200" y="9381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5425920" y="615960"/>
                <a:ext cx="30888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55320" bIns="-125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552280" y="874080"/>
                <a:ext cx="401040" cy="5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326240" bIns="-1326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5954040" y="380520"/>
              <a:ext cx="27252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28000" bIns="-828000" anchor="t">
              <a:noAutofit/>
            </a:bodyPr>
            <a:p>
              <a:pPr>
                <a:tabLst>
                  <a:tab algn="l" pos="0"/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r>
                <a:rPr b="1" lang="de-DE" sz="47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11440" y="849240"/>
              <a:ext cx="936720" cy="900720"/>
            </a:xfrm>
            <a:prstGeom prst="ellipse">
              <a:avLst/>
            </a:pr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746640" bIns="-74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88760" y="809640"/>
              <a:ext cx="993600" cy="979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690480" bIns="-690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00640" y="991440"/>
              <a:ext cx="383760" cy="6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768600" bIns="-768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r>
                <a:rPr b="1" lang="en-US" sz="5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600200" y="3124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133720" y="1295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81680" y="27432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7400" y="12952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7560" y="16732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7920" y="25876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1905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1905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2819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485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3543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133720" y="3543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55240" y="33526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ap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3265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952520" y="326556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23320" y="308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05320" y="32655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514600" y="3265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85040" y="308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14600" y="1905120"/>
            <a:ext cx="129528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1905120"/>
            <a:ext cx="129564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2817720"/>
            <a:ext cx="4494240" cy="30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09:30:19Z</dcterms:created>
  <dc:creator>d025762</dc:creator>
  <dc:description/>
  <dc:language>en-US</dc:language>
  <cp:lastModifiedBy>d025762</cp:lastModifiedBy>
  <dcterms:modified xsi:type="dcterms:W3CDTF">2004-09-13T09:07:00Z</dcterms:modified>
  <cp:revision>22</cp:revision>
  <dc:subject/>
  <dc:title>PowerPoint-Präsentation</dc:title>
</cp:coreProperties>
</file>