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CCB25-035A-4054-8793-AF630EF2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Look at a Higher Speed 802.11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20760" y="5794200"/>
            <a:ext cx="526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Vancouver, BC, Nov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08040" y="142920"/>
            <a:ext cx="739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NII/Supernet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50Mhz-wide band (5150-5350MHz and 5.725-5875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7040" y="123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the Future Work Meeting 11/11/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8000" y="1450800"/>
            <a:ext cx="8958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other standard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new PAR meets the 5 criteria for PA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requirements for the highe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165480" y="184320"/>
            <a:ext cx="583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9560" y="1452600"/>
            <a:ext cx="314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1120" y="4708440"/>
            <a:ext cx="358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T GLOMO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50840" y="2290680"/>
            <a:ext cx="7908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Boeing requirements for wireless 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about the vendor position for customers such as Boeing-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ustomers are there like Boeing.  Shouldn’t they be targ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or small company customers rather than the Boe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the Boeing intent on three dimensional C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nswer was that three dimensional CAD will be everyw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in the warehouses and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22400" y="5462640"/>
            <a:ext cx="7477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T attended the session with interest in delivery of informa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people using high bandwidth wireless LAN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60" y="1662120"/>
            <a:ext cx="90075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 Hayes gave a report on 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6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3080" y="1365120"/>
            <a:ext cx="85201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band  -  should we consider higher speeds in the 2.4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about 150MHZ band near the NII and Hiperla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336840" y="155520"/>
            <a:ext cx="518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5000" y="2281320"/>
            <a:ext cx="833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important to specify the band but a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150MHZ near NII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10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24 or 25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olution of Mobile Computing 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60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0" y="18525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51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1160" y="2522520"/>
            <a:ext cx="2016360" cy="2179800"/>
            <a:chOff x="1181160" y="2522520"/>
            <a:chExt cx="2016360" cy="2179800"/>
          </a:xfrm>
        </p:grpSpPr>
        <p:sp>
          <p:nvSpPr>
            <p:cNvPr id="107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6224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441520" y="3341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74760" y="268920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71612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7040" y="282420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3852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820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81440" y="259560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9440" y="136692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295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Look at a Higher Speed 802.11 PHY</dc:title>
</cp:coreProperties>
</file>