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06B9D6-AE8B-4929-87D3-C3FDAB905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4920" y="6545160"/>
            <a:ext cx="3591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Nov 199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6/1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Nov ‘96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00400" y="211140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9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7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4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, 6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6, #1 - encryption vs bcast and mcast frames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k with comm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not complete to reflect this - will complete if adopted by end of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would impact several open coments in other clauses - they are left open in R4, we will update comment tables when text delivered by Mike F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9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0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few additional comments processed for R4, all min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No technica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,4,7,10,11,13,23,31-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6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nprocessed tech no vote: C#12 (state mach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decsions made for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7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7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accepted for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4,5,6,7,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evious MAC minutes ap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3, 0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3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2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now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 Wed eve accepted for R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5, 56, 57, 58, 59, 60, 61, 62, 64, 76, 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accepted Thurs mor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63, 88, 96, 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88,  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17 not accepted - author withdr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work needed in C11 due to C10 changes - this may take a lot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4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8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3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7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new R4 deci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9 #120 impacts A4.5 - referred to PH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ppears that PHY has already handled the comment, hence the C9 file should have this # updated to match PHY re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 is some text editing to do to make annex A match clause 11 sec reo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ics needs to be updated to match this week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1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1 handled in plena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2 re # of “shalls” vs 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resp decline and comment author be asked to identify which shalls he thinks are supurflo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5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us for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got close but there are some comments we did not have time to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rest of the report represents how far we got during this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comments made in 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s 0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0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few additional comments processed for R4, all minor or with reviewer con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No technica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 y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4,26,32,41,47,48,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David Bagby</cp:lastModifiedBy>
  <cp:revision>0</cp:revision>
  <dc:subject/>
  <dc:title>November '94 MAC group agenda</dc:title>
</cp:coreProperties>
</file>