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D6380F-C1B9-4A30-BA8D-5E2F4240B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906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2n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 (PH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tember 8-12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don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8, 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Attend common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09480"/>
            <a:ext cx="80010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ntroduction of IEEE P802.11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chedule for new PHY  in 5 GHz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Long term goals for IEEE/ETSI collaboration in 5.2 GHz wireless standard development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Common PHY, different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Allow 802.11 MAC devic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echnical Requirement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Data rates and types of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Multipath and interference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Connection vs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Packet drop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echnical proposal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Modulati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Introduction of ETSI Project BRAN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Schedules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echnical Requirements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 Data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 Mobility level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 ATM service classe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 Fixed ATM access requirements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Technical proposals seminar (6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Channel models, modulation &amp; coding issues and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MAC issues &amp;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officers / ETSI project BRAN Project Managemen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 for the meeting with the PMC (10 minu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 positions on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 ground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0-14 - Queen Elizabeth, Montreal, PQ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9-13 - Hyatt Regency Irvine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6-10 - Hyatt Regency La Jolla, San Diego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8-12 - Hyatt Regency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5-9 - Queen Elizabeth Hotel, Montreal, PQ, Plenary (contract not signed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8-12 - Hyatt Regency Kauai, Koloa, HI, plenary (contract not yet sig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art the work of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cooperation between IEEE P802.11 and ETSI project B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a strong liaison between TG a and ETSI project BRAN WG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schedule of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of TG a and TG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Organisation of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Adjourn for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Prepare for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/ Finaliz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TG b agenda</dc:title>
</cp:coreProperties>
</file>