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2952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lear Channe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Preamble Detec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38080" y="4800600"/>
            <a:ext cx="739152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 as noncoherent combi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tandard radar-detection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samples per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FM side bands -1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543120" y="2085840"/>
            <a:ext cx="1733400" cy="20750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3124080" y="28195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124080" y="3657600"/>
            <a:ext cx="304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124080" y="220968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343400" y="4191120"/>
            <a:ext cx="304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876920" y="41911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733920" y="41911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962520" y="441972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SNR (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97520" y="44067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013360" y="350532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708440" y="2743200"/>
            <a:ext cx="244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403880" y="2506680"/>
            <a:ext cx="320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175280" y="2506680"/>
            <a:ext cx="320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56000" y="3664080"/>
            <a:ext cx="1080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44067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46483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851440" y="4389480"/>
            <a:ext cx="476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42160" y="4923000"/>
            <a:ext cx="853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Carrier Level for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733920" y="1828800"/>
            <a:ext cx="1447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276640" y="3019320"/>
            <a:ext cx="147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De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66680" y="2133720"/>
            <a:ext cx="44197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66680" y="2590920"/>
            <a:ext cx="44197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66680" y="3048120"/>
            <a:ext cx="44197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C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066680" y="3505320"/>
            <a:ext cx="44197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/2-Mbps DSSS C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66680" y="3962520"/>
            <a:ext cx="441972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/2-Mbps FHSS CCA              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Mbp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bp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486400" y="213372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553080" y="2133720"/>
            <a:ext cx="13716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553080" y="2590920"/>
            <a:ext cx="13716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553080" y="3048120"/>
            <a:ext cx="13716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553080" y="3505320"/>
            <a:ext cx="13716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53080" y="3962520"/>
            <a:ext cx="13716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2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486400" y="259092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486400" y="304812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486400" y="350532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486400" y="396252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486400" y="441972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553080" y="4419720"/>
            <a:ext cx="13716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486400" y="487692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553080" y="4876920"/>
            <a:ext cx="13716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5909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SSS with 1-/2-Mbps DSS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458040" y="2152800"/>
            <a:ext cx="1695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/2-Mbps 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f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.4+2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990720" y="2286000"/>
            <a:ext cx="16192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=12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43240" y="2638440"/>
            <a:ext cx="2803680" cy="284796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82920" y="2638440"/>
            <a:ext cx="2803680" cy="28479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82920" y="3044880"/>
            <a:ext cx="86364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4920" y="3021120"/>
            <a:ext cx="0" cy="2082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108240" y="5767560"/>
            <a:ext cx="298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ame Cent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03600" y="391788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438800" y="339084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40400" y="392112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18160" y="461340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343240" y="2638440"/>
            <a:ext cx="2803680" cy="284796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8080" y="48006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38080" y="4952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8080" y="5105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080" y="5257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38080" y="54100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38080" y="5562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38080" y="5715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38080" y="5867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6019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99072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14300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29528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44792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60020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75248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90512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05740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20968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46280" y="6172200"/>
            <a:ext cx="184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93640" y="6095880"/>
            <a:ext cx="184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508040" y="6172200"/>
            <a:ext cx="184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270160" y="6172200"/>
            <a:ext cx="184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93640" y="5334120"/>
            <a:ext cx="184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3520" y="4572000"/>
            <a:ext cx="304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4648320"/>
            <a:ext cx="1524240" cy="152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38080" y="4648320"/>
            <a:ext cx="1523880" cy="152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SSS with 1-/2-Mbps DSS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e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282920" y="3044880"/>
            <a:ext cx="86364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5040" y="6370560"/>
            <a:ext cx="2454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of 2-Mbps B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1306440" y="4911840"/>
            <a:ext cx="334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Throughput for 10-Mbps STA in Overlap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540400" y="392112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97120" y="393048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35560" y="338760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21080" y="422604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108240" y="5767560"/>
            <a:ext cx="298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ame Cent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87640" y="312120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3365640"/>
            <a:ext cx="20952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82920" y="2638440"/>
            <a:ext cx="2803680" cy="28479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3240" y="2638440"/>
            <a:ext cx="2803680" cy="284796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SSS with 1-/2-Mbps FHS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343240" y="2638440"/>
            <a:ext cx="2803680" cy="284796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82920" y="2638440"/>
            <a:ext cx="2803680" cy="28479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282920" y="3044880"/>
            <a:ext cx="86364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14920" y="3021120"/>
            <a:ext cx="0" cy="2082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90720" y="2286000"/>
            <a:ext cx="16192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=12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70160" y="5691240"/>
            <a:ext cx="4826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ame Portion of Band with 25%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82920" y="2638440"/>
            <a:ext cx="2803680" cy="2847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43240" y="2638440"/>
            <a:ext cx="2803680" cy="284796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40400" y="392112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97120" y="393048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21080" y="369252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16440" y="369252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35560" y="338760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702320" y="460692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60800" y="3743280"/>
            <a:ext cx="143280" cy="182880"/>
          </a:xfrm>
          <a:custGeom>
            <a:avLst/>
            <a:gdLst/>
            <a:ahLst/>
            <a:rect l="0" t="0" r="r" b="b"/>
            <a:pathLst>
              <a:path w="398" h="508">
                <a:moveTo>
                  <a:pt x="0" y="508"/>
                </a:moveTo>
                <a:lnTo>
                  <a:pt x="398" y="508"/>
                </a:lnTo>
                <a:lnTo>
                  <a:pt x="199" y="0"/>
                </a:lnTo>
                <a:lnTo>
                  <a:pt x="0" y="5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22880" y="3743280"/>
            <a:ext cx="143280" cy="182880"/>
          </a:xfrm>
          <a:custGeom>
            <a:avLst/>
            <a:gdLst/>
            <a:ahLst/>
            <a:rect l="0" t="0" r="r" b="b"/>
            <a:pathLst>
              <a:path w="398" h="508">
                <a:moveTo>
                  <a:pt x="398" y="508"/>
                </a:moveTo>
                <a:lnTo>
                  <a:pt x="0" y="508"/>
                </a:lnTo>
                <a:lnTo>
                  <a:pt x="199" y="0"/>
                </a:lnTo>
                <a:lnTo>
                  <a:pt x="398" y="5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781680" y="2343240"/>
            <a:ext cx="1822320" cy="11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/2-Mbps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f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3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gnore difference in required SN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356000" y="3755880"/>
            <a:ext cx="117720" cy="82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352760" y="3838680"/>
            <a:ext cx="120960" cy="73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SSS with 1-/2-Mbps FHS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e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343240" y="2638440"/>
            <a:ext cx="2803680" cy="284796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282920" y="2638440"/>
            <a:ext cx="2803680" cy="28479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282920" y="3044880"/>
            <a:ext cx="86364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270160" y="5691240"/>
            <a:ext cx="4826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ame Portion of Band with 25%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282920" y="2638440"/>
            <a:ext cx="2803680" cy="2847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43240" y="2638440"/>
            <a:ext cx="2803680" cy="284796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540400" y="392112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597120" y="393048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321080" y="369252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16440" y="369252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35560" y="3387600"/>
            <a:ext cx="282600" cy="2793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02320" y="4606920"/>
            <a:ext cx="282600" cy="279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60800" y="3743280"/>
            <a:ext cx="143280" cy="182880"/>
          </a:xfrm>
          <a:custGeom>
            <a:avLst/>
            <a:gdLst/>
            <a:ahLst/>
            <a:rect l="0" t="0" r="r" b="b"/>
            <a:pathLst>
              <a:path w="398" h="508">
                <a:moveTo>
                  <a:pt x="0" y="508"/>
                </a:moveTo>
                <a:lnTo>
                  <a:pt x="398" y="508"/>
                </a:lnTo>
                <a:lnTo>
                  <a:pt x="199" y="0"/>
                </a:lnTo>
                <a:lnTo>
                  <a:pt x="0" y="5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92520" y="3438360"/>
            <a:ext cx="143280" cy="182880"/>
          </a:xfrm>
          <a:custGeom>
            <a:avLst/>
            <a:gdLst/>
            <a:ahLst/>
            <a:rect l="0" t="0" r="r" b="b"/>
            <a:pathLst>
              <a:path w="398" h="508">
                <a:moveTo>
                  <a:pt x="0" y="508"/>
                </a:moveTo>
                <a:lnTo>
                  <a:pt x="398" y="508"/>
                </a:lnTo>
                <a:lnTo>
                  <a:pt x="199" y="0"/>
                </a:lnTo>
                <a:lnTo>
                  <a:pt x="0" y="5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14920" y="3021120"/>
            <a:ext cx="0" cy="2082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“Coexistence” is Required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-Signal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s Excessiv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s 10-Mbps Transmissions Defer to 1-/2-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S and F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es Negligib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Not Burdensome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n Be Shut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esult of London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ty Wanted by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Seems Important to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New CCA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etection For Low Slo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HY Detection for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4267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44197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Detec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&amp; CCA M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8280" y="2349360"/>
            <a:ext cx="701640" cy="392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8280" y="2816280"/>
            <a:ext cx="701640" cy="392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59080" y="2349360"/>
            <a:ext cx="930240" cy="91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rot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j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30481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909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79440" y="2284560"/>
            <a:ext cx="78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03480" y="2741760"/>
            <a:ext cx="866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124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645000" y="2349360"/>
            <a:ext cx="1920960" cy="941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K) Search Correlator for 10 Mbps D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30481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081240"/>
            <a:ext cx="0" cy="11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219320" y="259092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819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616800" y="2500200"/>
            <a:ext cx="200664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SSS 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7339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4114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00200" y="4572000"/>
            <a:ext cx="24382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chip Matched Filter  Summation for 10-Mbps DS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00200" y="5334120"/>
            <a:ext cx="4724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chip Matched Filter Summation for 1-/2-Mbps DS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362320" y="3503520"/>
            <a:ext cx="3124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sample I&amp;Q delay line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zation bits TB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876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4876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40480" y="4557600"/>
            <a:ext cx="215892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SSS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616800" y="5167440"/>
            <a:ext cx="208296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/2-Mbps DSSS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5791320"/>
            <a:ext cx="25909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ased Detection Processor   for 1-/2-Mbps FH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0958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616800" y="5776920"/>
            <a:ext cx="215892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/2-Mbps FHSS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267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553080" y="3200400"/>
            <a:ext cx="129528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7240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07732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335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relator: 10Mbps DSSS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49400" y="1920960"/>
            <a:ext cx="930240" cy="91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rot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j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90520" y="26193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90520" y="2162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67040" y="2162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67040" y="2695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35320" y="1920960"/>
            <a:ext cx="1920960" cy="941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K) Search Correlator for 10 Mbps D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53040" y="23907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5240" y="4334040"/>
            <a:ext cx="304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00440" y="2898720"/>
            <a:ext cx="330120" cy="27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454640" y="5514840"/>
            <a:ext cx="399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95440" y="3657600"/>
            <a:ext cx="1714680" cy="2131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143000" y="388620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43000" y="449568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43000" y="5334120"/>
            <a:ext cx="304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09680" y="5791320"/>
            <a:ext cx="304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743200" y="57913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00200" y="57913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828800" y="601992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SNR (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940120" y="60069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77960" y="3962520"/>
            <a:ext cx="1080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8120" y="6288120"/>
            <a:ext cx="3809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Point for 10-Mbps DSSS Fram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52480" y="3429000"/>
            <a:ext cx="1447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, P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955960" y="464832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79640" y="373392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651040" y="373392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908600" y="2971800"/>
            <a:ext cx="3476520" cy="2903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295200" y="4619520"/>
            <a:ext cx="147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De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138480" y="4183200"/>
            <a:ext cx="2495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Packet Demodulation 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952960" y="5896080"/>
            <a:ext cx="304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048440" y="588636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207200" y="6083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80040" y="3581280"/>
            <a:ext cx="320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86680" y="4432320"/>
            <a:ext cx="1080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537240" y="419112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42160" y="335268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3400" y="4438800"/>
            <a:ext cx="1080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4486320"/>
            <a:ext cx="3504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253200" y="4224240"/>
            <a:ext cx="81000" cy="20016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377040" y="4533840"/>
            <a:ext cx="109440" cy="30024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05520" y="4133880"/>
            <a:ext cx="85680" cy="30492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34040" y="4548240"/>
            <a:ext cx="90720" cy="30960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609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Filter: 10Mbps DSSS 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9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8608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3836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064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4328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9556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4784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048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276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504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5768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0996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224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1488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6716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19440" y="213372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8608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3836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9064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4328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9556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4784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0048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504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5768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0996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6224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1488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19440" y="25146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28880" y="2286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333440" y="2971800"/>
            <a:ext cx="24382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chip Matched Filter  Summation for 10-Mbps DS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6204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1468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6696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1924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7188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2416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7644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2908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8136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3364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8628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3856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9084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4348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5760" y="2819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72080" y="326376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3886200"/>
            <a:ext cx="601992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sample-per-chip op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doubling A/D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in circuitry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4-dB worst-case straddling los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-dB average straddling los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e-symbol (2-of-2 or 3-of-3)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6172200"/>
            <a:ext cx="685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E.J. Kelly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d-Data Receiver Design and Performance for BPSK and MSK Spreading Modul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incoln Laboratory Technical Report 550, 19 January 1981 (public release, distribution unlim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28880" y="2666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2209680"/>
            <a:ext cx="762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s/s complex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067440" y="1905120"/>
            <a:ext cx="1714680" cy="2131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5715000" y="2133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5000" y="274320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715000" y="3581280"/>
            <a:ext cx="304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905360" y="2857680"/>
            <a:ext cx="147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De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781680" y="4038480"/>
            <a:ext cx="304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315200" y="403848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2200" y="403848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400800" y="426708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SNR (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512120" y="4254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69040" y="2657520"/>
            <a:ext cx="1080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0920" y="3067200"/>
            <a:ext cx="1080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324480" y="1676520"/>
            <a:ext cx="1447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, P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527960" y="289548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451640" y="198108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223040" y="198108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62120" y="268596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480" y="6094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Filter: 1-/2-Mbps DSSS 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339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5288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215280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623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146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718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0552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533680"/>
            <a:ext cx="152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2228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3753000"/>
            <a:ext cx="4724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chip Matched Filter Summation for 1-/2-Mbps DS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65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625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197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34120" y="2838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905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160" y="2184480"/>
            <a:ext cx="762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s/s complex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2685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33520" y="4572000"/>
            <a:ext cx="739152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samples-per-chip op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 between 33-Ms/s and 32-Ms/s 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traddling loss at worst-cas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ip error (filtered P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B loss (don’t pre-filter down to bandwidth) relative to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e-symbol (2-of-2)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962680" y="1809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962680" y="241920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962680" y="3257640"/>
            <a:ext cx="304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029360" y="3714840"/>
            <a:ext cx="304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562880" y="371484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19880" y="371484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648480" y="394344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SNR (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296040" y="1647720"/>
            <a:ext cx="1714680" cy="2027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6477120" y="1447920"/>
            <a:ext cx="1447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chips, P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99200" y="2749680"/>
            <a:ext cx="1080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308720" y="175248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451640" y="198108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527960" y="2895480"/>
            <a:ext cx="184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169040" y="41972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172120" y="2562120"/>
            <a:ext cx="147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De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Detection for C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724280" y="2133720"/>
            <a:ext cx="762120" cy="792000"/>
            <a:chOff x="4724280" y="2133720"/>
            <a:chExt cx="762120" cy="792000"/>
          </a:xfrm>
        </p:grpSpPr>
        <p:sp>
          <p:nvSpPr>
            <p:cNvPr id="377" name="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81480" y="2209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029200" y="21337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4724280" y="2286000"/>
              <a:ext cx="76212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2-Ms/s complex samp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851440" y="1981080"/>
            <a:ext cx="2368440" cy="1150920"/>
            <a:chOff x="5851440" y="1981080"/>
            <a:chExt cx="2368440" cy="1150920"/>
          </a:xfrm>
        </p:grpSpPr>
        <p:sp>
          <p:nvSpPr>
            <p:cNvPr id="382" name=""/>
            <p:cNvSpPr/>
            <p:nvPr/>
          </p:nvSpPr>
          <p:spPr>
            <a:xfrm>
              <a:off x="5943600" y="28954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5851440" y="288756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7908840" y="2887560"/>
              <a:ext cx="311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2133720"/>
              <a:ext cx="1638720" cy="762480"/>
            </a:xfrm>
            <a:custGeom>
              <a:avLst/>
              <a:gdLst/>
              <a:ahLst/>
              <a:rect l="0" t="0" r="r" b="b"/>
              <a:pathLst>
                <a:path fill="none" w="4552" h="2118">
                  <a:moveTo>
                    <a:pt x="4552" y="2118"/>
                  </a:moveTo>
                  <a:lnTo>
                    <a:pt x="4552" y="2118"/>
                  </a:lnTo>
                  <a:lnTo>
                    <a:pt x="4552" y="2118"/>
                  </a:lnTo>
                  <a:cubicBezTo>
                    <a:pt x="4552" y="1746"/>
                    <a:pt x="4342" y="1381"/>
                    <a:pt x="3942" y="1059"/>
                  </a:cubicBezTo>
                  <a:cubicBezTo>
                    <a:pt x="3543" y="737"/>
                    <a:pt x="2968" y="470"/>
                    <a:pt x="2276" y="284"/>
                  </a:cubicBezTo>
                  <a:cubicBezTo>
                    <a:pt x="1584" y="98"/>
                    <a:pt x="799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00800" y="2133720"/>
              <a:ext cx="1638720" cy="762480"/>
            </a:xfrm>
            <a:custGeom>
              <a:avLst/>
              <a:gdLst/>
              <a:ahLst/>
              <a:rect l="0" t="0" r="r" b="b"/>
              <a:pathLst>
                <a:path fill="none" w="4552" h="2118">
                  <a:moveTo>
                    <a:pt x="4552" y="0"/>
                  </a:moveTo>
                  <a:lnTo>
                    <a:pt x="4552" y="0"/>
                  </a:lnTo>
                  <a:cubicBezTo>
                    <a:pt x="3753" y="0"/>
                    <a:pt x="2968" y="98"/>
                    <a:pt x="2276" y="284"/>
                  </a:cubicBezTo>
                  <a:cubicBezTo>
                    <a:pt x="1584" y="470"/>
                    <a:pt x="1009" y="737"/>
                    <a:pt x="610" y="1059"/>
                  </a:cubicBezTo>
                  <a:cubicBezTo>
                    <a:pt x="210" y="1381"/>
                    <a:pt x="0" y="1746"/>
                    <a:pt x="0" y="2118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3600" y="19810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77320" y="19810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20120" y="2362320"/>
              <a:ext cx="0" cy="457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1680" y="2362320"/>
              <a:ext cx="0" cy="5331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 txBox="1"/>
          <p:nvPr/>
        </p:nvSpPr>
        <p:spPr>
          <a:xfrm>
            <a:off x="1143000" y="5019840"/>
            <a:ext cx="4572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22560" y="4403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4648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4648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518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228600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3828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6200" y="4267080"/>
            <a:ext cx="44956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{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(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s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cos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16)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(-1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+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(8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in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8)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295280" y="5638680"/>
            <a:ext cx="6095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aliased frequency discriminator which will capture an FH carrier which falls in the pass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886120" y="4334040"/>
            <a:ext cx="771480" cy="61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464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828800" y="5019840"/>
            <a:ext cx="2286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7400" y="518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8600" y="1905120"/>
            <a:ext cx="4267080" cy="1158840"/>
            <a:chOff x="228600" y="1905120"/>
            <a:chExt cx="4267080" cy="1158840"/>
          </a:xfrm>
        </p:grpSpPr>
        <p:sp>
          <p:nvSpPr>
            <p:cNvPr id="407" name=""/>
            <p:cNvSpPr/>
            <p:nvPr/>
          </p:nvSpPr>
          <p:spPr>
            <a:xfrm>
              <a:off x="2362320" y="1905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62320" y="2819520"/>
              <a:ext cx="213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441360" y="2789280"/>
              <a:ext cx="512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8600" y="281952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85800" y="2057400"/>
              <a:ext cx="3277080" cy="762480"/>
              <a:chOff x="685800" y="2057400"/>
              <a:chExt cx="3277080" cy="762480"/>
            </a:xfrm>
          </p:grpSpPr>
          <p:sp>
            <p:nvSpPr>
              <p:cNvPr id="412" name=""/>
              <p:cNvSpPr/>
              <p:nvPr/>
            </p:nvSpPr>
            <p:spPr>
              <a:xfrm>
                <a:off x="2324160" y="2057400"/>
                <a:ext cx="1638720" cy="762480"/>
              </a:xfrm>
              <a:custGeom>
                <a:avLst/>
                <a:gdLst/>
                <a:ahLst/>
                <a:rect l="0" t="0" r="r" b="b"/>
                <a:pathLst>
                  <a:path fill="none" w="4552" h="2118">
                    <a:moveTo>
                      <a:pt x="4552" y="2118"/>
                    </a:moveTo>
                    <a:lnTo>
                      <a:pt x="4552" y="2118"/>
                    </a:lnTo>
                    <a:lnTo>
                      <a:pt x="4552" y="2118"/>
                    </a:lnTo>
                    <a:cubicBezTo>
                      <a:pt x="4552" y="1746"/>
                      <a:pt x="4342" y="1381"/>
                      <a:pt x="3942" y="1059"/>
                    </a:cubicBezTo>
                    <a:cubicBezTo>
                      <a:pt x="3543" y="737"/>
                      <a:pt x="2968" y="470"/>
                      <a:pt x="2276" y="284"/>
                    </a:cubicBezTo>
                    <a:cubicBezTo>
                      <a:pt x="1584" y="98"/>
                      <a:pt x="799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5800" y="2057400"/>
                <a:ext cx="1638720" cy="762480"/>
              </a:xfrm>
              <a:custGeom>
                <a:avLst/>
                <a:gdLst/>
                <a:ahLst/>
                <a:rect l="0" t="0" r="r" b="b"/>
                <a:pathLst>
                  <a:path fill="none" w="4552" h="2118">
                    <a:moveTo>
                      <a:pt x="4552" y="0"/>
                    </a:moveTo>
                    <a:lnTo>
                      <a:pt x="4552" y="0"/>
                    </a:lnTo>
                    <a:cubicBezTo>
                      <a:pt x="3753" y="0"/>
                      <a:pt x="2968" y="98"/>
                      <a:pt x="2276" y="284"/>
                    </a:cubicBezTo>
                    <a:cubicBezTo>
                      <a:pt x="1584" y="470"/>
                      <a:pt x="1009" y="737"/>
                      <a:pt x="610" y="1059"/>
                    </a:cubicBezTo>
                    <a:cubicBezTo>
                      <a:pt x="210" y="1381"/>
                      <a:pt x="0" y="1746"/>
                      <a:pt x="0" y="211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1905120" y="2286000"/>
              <a:ext cx="0" cy="5335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00400" y="2286000"/>
              <a:ext cx="0" cy="53352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3565440" y="2103480"/>
              <a:ext cx="743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3718080" y="2811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 txBox="1"/>
          <p:nvPr/>
        </p:nvSpPr>
        <p:spPr>
          <a:xfrm>
            <a:off x="380880" y="3276720"/>
            <a:ext cx="3962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 +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cos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w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)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      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=2400+k   k={2,3,....8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952880" y="3276720"/>
            <a:ext cx="3657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m/16 +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cos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w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          m={0,1,....3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680" y="3703680"/>
            <a:ext cx="2800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with FM signal and unknown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 Data M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62120" y="2438280"/>
            <a:ext cx="716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-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 (-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85800" y="1905120"/>
            <a:ext cx="2438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iminator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762120" y="3200400"/>
            <a:ext cx="662940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nd m index the sample and symbol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{2,3......80} is the F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FM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ymbol (baud)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FM modulation pulse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baseband symbol value for the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-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prea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±1} for 1-Mbp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±1/3, ±1} for 2-Mbp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Detection 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38080" y="2657520"/>
            <a:ext cx="4572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213372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817640" y="20415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22860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2819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98108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2286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81200" y="1971720"/>
            <a:ext cx="771480" cy="61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Hz L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523880" y="2657520"/>
            <a:ext cx="2286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52800" y="1971720"/>
            <a:ext cx="771480" cy="61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5-MHz B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24280" y="2286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62520" y="2886120"/>
            <a:ext cx="106668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5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238800" y="2733840"/>
            <a:ext cx="771480" cy="61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MHz B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05320" y="2286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0532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62720" y="2895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551560" y="28036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867280" y="3048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0532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36576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7150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918480" y="3146400"/>
            <a:ext cx="1844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DATA portion of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241960" y="1851120"/>
            <a:ext cx="2149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PREAMBLE portion of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791320" y="4394160"/>
            <a:ext cx="2438280" cy="762120"/>
            <a:chOff x="5791320" y="4394160"/>
            <a:chExt cx="2438280" cy="762120"/>
          </a:xfrm>
        </p:grpSpPr>
        <p:grpSp>
          <p:nvGrpSpPr>
            <p:cNvPr id="456" name=""/>
            <p:cNvGrpSpPr/>
            <p:nvPr/>
          </p:nvGrpSpPr>
          <p:grpSpPr>
            <a:xfrm>
              <a:off x="5959440" y="4394160"/>
              <a:ext cx="229320" cy="356040"/>
              <a:chOff x="5959440" y="4394160"/>
              <a:chExt cx="229320" cy="356040"/>
            </a:xfrm>
          </p:grpSpPr>
          <p:sp>
            <p:nvSpPr>
              <p:cNvPr id="457" name=""/>
              <p:cNvSpPr/>
              <p:nvPr/>
            </p:nvSpPr>
            <p:spPr>
              <a:xfrm>
                <a:off x="5959440" y="4394160"/>
                <a:ext cx="114840" cy="356040"/>
              </a:xfrm>
              <a:custGeom>
                <a:avLst/>
                <a:gdLst/>
                <a:ahLst/>
                <a:rect l="0" t="0" r="r" b="b"/>
                <a:pathLst>
                  <a:path fill="none" w="319" h="989">
                    <a:moveTo>
                      <a:pt x="319" y="0"/>
                    </a:moveTo>
                    <a:lnTo>
                      <a:pt x="319" y="0"/>
                    </a:lnTo>
                    <a:cubicBezTo>
                      <a:pt x="263" y="0"/>
                      <a:pt x="208" y="46"/>
                      <a:pt x="159" y="133"/>
                    </a:cubicBezTo>
                    <a:cubicBezTo>
                      <a:pt x="111" y="219"/>
                      <a:pt x="71" y="344"/>
                      <a:pt x="43" y="495"/>
                    </a:cubicBezTo>
                    <a:cubicBezTo>
                      <a:pt x="15" y="645"/>
                      <a:pt x="0" y="815"/>
                      <a:pt x="0" y="989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73920" y="4394160"/>
                <a:ext cx="114840" cy="356040"/>
              </a:xfrm>
              <a:custGeom>
                <a:avLst/>
                <a:gdLst/>
                <a:ahLst/>
                <a:rect l="0" t="0" r="r" b="b"/>
                <a:pathLst>
                  <a:path fill="none" w="319" h="989">
                    <a:moveTo>
                      <a:pt x="319" y="989"/>
                    </a:moveTo>
                    <a:lnTo>
                      <a:pt x="319" y="989"/>
                    </a:lnTo>
                    <a:lnTo>
                      <a:pt x="319" y="989"/>
                    </a:lnTo>
                    <a:cubicBezTo>
                      <a:pt x="319" y="815"/>
                      <a:pt x="304" y="645"/>
                      <a:pt x="276" y="494"/>
                    </a:cubicBezTo>
                    <a:cubicBezTo>
                      <a:pt x="248" y="344"/>
                      <a:pt x="208" y="219"/>
                      <a:pt x="159" y="133"/>
                    </a:cubicBezTo>
                    <a:cubicBezTo>
                      <a:pt x="111" y="46"/>
                      <a:pt x="56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496200" y="4394160"/>
              <a:ext cx="228960" cy="356040"/>
              <a:chOff x="6496200" y="4394160"/>
              <a:chExt cx="228960" cy="356040"/>
            </a:xfrm>
          </p:grpSpPr>
          <p:sp>
            <p:nvSpPr>
              <p:cNvPr id="460" name=""/>
              <p:cNvSpPr/>
              <p:nvPr/>
            </p:nvSpPr>
            <p:spPr>
              <a:xfrm>
                <a:off x="6496200" y="4394160"/>
                <a:ext cx="114840" cy="356040"/>
              </a:xfrm>
              <a:custGeom>
                <a:avLst/>
                <a:gdLst/>
                <a:ahLst/>
                <a:rect l="0" t="0" r="r" b="b"/>
                <a:pathLst>
                  <a:path fill="none" w="319" h="989">
                    <a:moveTo>
                      <a:pt x="319" y="0"/>
                    </a:moveTo>
                    <a:lnTo>
                      <a:pt x="319" y="0"/>
                    </a:lnTo>
                    <a:cubicBezTo>
                      <a:pt x="263" y="0"/>
                      <a:pt x="208" y="46"/>
                      <a:pt x="159" y="133"/>
                    </a:cubicBezTo>
                    <a:cubicBezTo>
                      <a:pt x="111" y="219"/>
                      <a:pt x="71" y="344"/>
                      <a:pt x="43" y="495"/>
                    </a:cubicBezTo>
                    <a:cubicBezTo>
                      <a:pt x="15" y="645"/>
                      <a:pt x="0" y="815"/>
                      <a:pt x="0" y="989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610320" y="4394160"/>
                <a:ext cx="114840" cy="356040"/>
              </a:xfrm>
              <a:custGeom>
                <a:avLst/>
                <a:gdLst/>
                <a:ahLst/>
                <a:rect l="0" t="0" r="r" b="b"/>
                <a:pathLst>
                  <a:path fill="none" w="319" h="989">
                    <a:moveTo>
                      <a:pt x="319" y="989"/>
                    </a:moveTo>
                    <a:lnTo>
                      <a:pt x="319" y="989"/>
                    </a:lnTo>
                    <a:lnTo>
                      <a:pt x="319" y="989"/>
                    </a:lnTo>
                    <a:cubicBezTo>
                      <a:pt x="319" y="815"/>
                      <a:pt x="304" y="645"/>
                      <a:pt x="276" y="494"/>
                    </a:cubicBezTo>
                    <a:cubicBezTo>
                      <a:pt x="248" y="344"/>
                      <a:pt x="208" y="219"/>
                      <a:pt x="159" y="133"/>
                    </a:cubicBezTo>
                    <a:cubicBezTo>
                      <a:pt x="111" y="46"/>
                      <a:pt x="56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045200" y="4394160"/>
              <a:ext cx="229320" cy="356040"/>
              <a:chOff x="7045200" y="4394160"/>
              <a:chExt cx="229320" cy="356040"/>
            </a:xfrm>
          </p:grpSpPr>
          <p:sp>
            <p:nvSpPr>
              <p:cNvPr id="463" name=""/>
              <p:cNvSpPr/>
              <p:nvPr/>
            </p:nvSpPr>
            <p:spPr>
              <a:xfrm>
                <a:off x="7045200" y="4394160"/>
                <a:ext cx="114840" cy="356040"/>
              </a:xfrm>
              <a:custGeom>
                <a:avLst/>
                <a:gdLst/>
                <a:ahLst/>
                <a:rect l="0" t="0" r="r" b="b"/>
                <a:pathLst>
                  <a:path fill="none" w="319" h="989">
                    <a:moveTo>
                      <a:pt x="319" y="0"/>
                    </a:moveTo>
                    <a:lnTo>
                      <a:pt x="319" y="0"/>
                    </a:lnTo>
                    <a:cubicBezTo>
                      <a:pt x="263" y="0"/>
                      <a:pt x="208" y="46"/>
                      <a:pt x="159" y="133"/>
                    </a:cubicBezTo>
                    <a:cubicBezTo>
                      <a:pt x="111" y="219"/>
                      <a:pt x="71" y="344"/>
                      <a:pt x="43" y="495"/>
                    </a:cubicBezTo>
                    <a:cubicBezTo>
                      <a:pt x="15" y="645"/>
                      <a:pt x="0" y="815"/>
                      <a:pt x="0" y="989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59680" y="4394160"/>
                <a:ext cx="114840" cy="356040"/>
              </a:xfrm>
              <a:custGeom>
                <a:avLst/>
                <a:gdLst/>
                <a:ahLst/>
                <a:rect l="0" t="0" r="r" b="b"/>
                <a:pathLst>
                  <a:path fill="none" w="319" h="989">
                    <a:moveTo>
                      <a:pt x="319" y="989"/>
                    </a:moveTo>
                    <a:lnTo>
                      <a:pt x="319" y="989"/>
                    </a:lnTo>
                    <a:lnTo>
                      <a:pt x="319" y="989"/>
                    </a:lnTo>
                    <a:cubicBezTo>
                      <a:pt x="319" y="815"/>
                      <a:pt x="304" y="645"/>
                      <a:pt x="276" y="494"/>
                    </a:cubicBezTo>
                    <a:cubicBezTo>
                      <a:pt x="248" y="344"/>
                      <a:pt x="208" y="219"/>
                      <a:pt x="159" y="133"/>
                    </a:cubicBezTo>
                    <a:cubicBezTo>
                      <a:pt x="111" y="46"/>
                      <a:pt x="56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7578720" y="4394160"/>
              <a:ext cx="229320" cy="356040"/>
              <a:chOff x="7578720" y="4394160"/>
              <a:chExt cx="229320" cy="356040"/>
            </a:xfrm>
          </p:grpSpPr>
          <p:sp>
            <p:nvSpPr>
              <p:cNvPr id="466" name=""/>
              <p:cNvSpPr/>
              <p:nvPr/>
            </p:nvSpPr>
            <p:spPr>
              <a:xfrm>
                <a:off x="7578720" y="4394160"/>
                <a:ext cx="114840" cy="356040"/>
              </a:xfrm>
              <a:custGeom>
                <a:avLst/>
                <a:gdLst/>
                <a:ahLst/>
                <a:rect l="0" t="0" r="r" b="b"/>
                <a:pathLst>
                  <a:path fill="none" w="319" h="989">
                    <a:moveTo>
                      <a:pt x="319" y="0"/>
                    </a:moveTo>
                    <a:lnTo>
                      <a:pt x="319" y="0"/>
                    </a:lnTo>
                    <a:cubicBezTo>
                      <a:pt x="263" y="0"/>
                      <a:pt x="208" y="46"/>
                      <a:pt x="159" y="133"/>
                    </a:cubicBezTo>
                    <a:cubicBezTo>
                      <a:pt x="111" y="219"/>
                      <a:pt x="71" y="344"/>
                      <a:pt x="43" y="495"/>
                    </a:cubicBezTo>
                    <a:cubicBezTo>
                      <a:pt x="15" y="645"/>
                      <a:pt x="0" y="815"/>
                      <a:pt x="0" y="989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693200" y="4394160"/>
                <a:ext cx="114840" cy="356040"/>
              </a:xfrm>
              <a:custGeom>
                <a:avLst/>
                <a:gdLst/>
                <a:ahLst/>
                <a:rect l="0" t="0" r="r" b="b"/>
                <a:pathLst>
                  <a:path fill="none" w="319" h="989">
                    <a:moveTo>
                      <a:pt x="319" y="989"/>
                    </a:moveTo>
                    <a:lnTo>
                      <a:pt x="319" y="989"/>
                    </a:lnTo>
                    <a:lnTo>
                      <a:pt x="319" y="989"/>
                    </a:lnTo>
                    <a:cubicBezTo>
                      <a:pt x="319" y="815"/>
                      <a:pt x="304" y="645"/>
                      <a:pt x="276" y="494"/>
                    </a:cubicBezTo>
                    <a:cubicBezTo>
                      <a:pt x="248" y="344"/>
                      <a:pt x="208" y="219"/>
                      <a:pt x="159" y="133"/>
                    </a:cubicBezTo>
                    <a:cubicBezTo>
                      <a:pt x="111" y="46"/>
                      <a:pt x="56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6769080" y="4394160"/>
              <a:ext cx="228600" cy="762120"/>
            </a:xfrm>
            <a:prstGeom prst="ellipse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4394160"/>
              <a:ext cx="228600" cy="762120"/>
            </a:xfrm>
            <a:prstGeom prst="ellipse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26200" y="4394160"/>
              <a:ext cx="228600" cy="762120"/>
            </a:xfrm>
            <a:prstGeom prst="ellipse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1320" y="47782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905120" y="3809880"/>
            <a:ext cx="3047760" cy="915120"/>
            <a:chOff x="1905120" y="3809880"/>
            <a:chExt cx="3047760" cy="915120"/>
          </a:xfrm>
        </p:grpSpPr>
        <p:grpSp>
          <p:nvGrpSpPr>
            <p:cNvPr id="473" name=""/>
            <p:cNvGrpSpPr/>
            <p:nvPr/>
          </p:nvGrpSpPr>
          <p:grpSpPr>
            <a:xfrm>
              <a:off x="2438280" y="3809880"/>
              <a:ext cx="457560" cy="305280"/>
              <a:chOff x="2438280" y="3809880"/>
              <a:chExt cx="457560" cy="305280"/>
            </a:xfrm>
          </p:grpSpPr>
          <p:sp>
            <p:nvSpPr>
              <p:cNvPr id="474" name=""/>
              <p:cNvSpPr/>
              <p:nvPr/>
            </p:nvSpPr>
            <p:spPr>
              <a:xfrm>
                <a:off x="2438280" y="3809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0"/>
                    </a:moveTo>
                    <a:lnTo>
                      <a:pt x="636" y="0"/>
                    </a:lnTo>
                    <a:cubicBezTo>
                      <a:pt x="524" y="0"/>
                      <a:pt x="415" y="39"/>
                      <a:pt x="318" y="114"/>
                    </a:cubicBezTo>
                    <a:cubicBezTo>
                      <a:pt x="221" y="188"/>
                      <a:pt x="141" y="295"/>
                      <a:pt x="85" y="424"/>
                    </a:cubicBezTo>
                    <a:cubicBezTo>
                      <a:pt x="29" y="553"/>
                      <a:pt x="0" y="699"/>
                      <a:pt x="0" y="84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66880" y="3809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848"/>
                    </a:moveTo>
                    <a:lnTo>
                      <a:pt x="636" y="848"/>
                    </a:lnTo>
                    <a:lnTo>
                      <a:pt x="636" y="848"/>
                    </a:lnTo>
                    <a:cubicBezTo>
                      <a:pt x="636" y="699"/>
                      <a:pt x="607" y="553"/>
                      <a:pt x="551" y="424"/>
                    </a:cubicBezTo>
                    <a:cubicBezTo>
                      <a:pt x="495" y="295"/>
                      <a:pt x="415" y="188"/>
                      <a:pt x="318" y="114"/>
                    </a:cubicBezTo>
                    <a:cubicBezTo>
                      <a:pt x="221" y="39"/>
                      <a:pt x="112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1905120" y="426708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04560" y="4064040"/>
              <a:ext cx="108000" cy="77040"/>
            </a:xfrm>
            <a:custGeom>
              <a:avLst/>
              <a:gdLst/>
              <a:ahLst/>
              <a:rect l="0" t="0" r="r" b="b"/>
              <a:pathLst>
                <a:path fill="none" w="300" h="214">
                  <a:moveTo>
                    <a:pt x="153" y="0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0" y="149"/>
                  </a:lnTo>
                  <a:cubicBezTo>
                    <a:pt x="26" y="176"/>
                    <a:pt x="58" y="195"/>
                    <a:pt x="94" y="205"/>
                  </a:cubicBezTo>
                  <a:cubicBezTo>
                    <a:pt x="130" y="216"/>
                    <a:pt x="168" y="216"/>
                    <a:pt x="204" y="207"/>
                  </a:cubicBezTo>
                  <a:cubicBezTo>
                    <a:pt x="240" y="198"/>
                    <a:pt x="273" y="180"/>
                    <a:pt x="300" y="154"/>
                  </a:cubicBezTo>
                  <a:lnTo>
                    <a:pt x="300" y="1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79640" y="4025880"/>
              <a:ext cx="101520" cy="466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409920" y="4038480"/>
              <a:ext cx="108000" cy="47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971800" y="4419720"/>
              <a:ext cx="457560" cy="305280"/>
              <a:chOff x="2971800" y="4419720"/>
              <a:chExt cx="457560" cy="305280"/>
            </a:xfrm>
          </p:grpSpPr>
          <p:sp>
            <p:nvSpPr>
              <p:cNvPr id="481" name=""/>
              <p:cNvSpPr/>
              <p:nvPr/>
            </p:nvSpPr>
            <p:spPr>
              <a:xfrm>
                <a:off x="2971800" y="441972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49"/>
                      <a:pt x="29" y="295"/>
                      <a:pt x="85" y="424"/>
                    </a:cubicBezTo>
                    <a:cubicBezTo>
                      <a:pt x="141" y="553"/>
                      <a:pt x="221" y="660"/>
                      <a:pt x="318" y="734"/>
                    </a:cubicBezTo>
                    <a:cubicBezTo>
                      <a:pt x="415" y="809"/>
                      <a:pt x="524" y="848"/>
                      <a:pt x="636" y="84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200400" y="441972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0" y="848"/>
                    </a:moveTo>
                    <a:lnTo>
                      <a:pt x="0" y="848"/>
                    </a:lnTo>
                    <a:cubicBezTo>
                      <a:pt x="112" y="848"/>
                      <a:pt x="221" y="809"/>
                      <a:pt x="318" y="734"/>
                    </a:cubicBezTo>
                    <a:cubicBezTo>
                      <a:pt x="415" y="660"/>
                      <a:pt x="495" y="553"/>
                      <a:pt x="551" y="424"/>
                    </a:cubicBezTo>
                    <a:cubicBezTo>
                      <a:pt x="607" y="295"/>
                      <a:pt x="636" y="149"/>
                      <a:pt x="636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505320" y="3809880"/>
              <a:ext cx="457560" cy="305280"/>
              <a:chOff x="3505320" y="3809880"/>
              <a:chExt cx="457560" cy="305280"/>
            </a:xfrm>
          </p:grpSpPr>
          <p:sp>
            <p:nvSpPr>
              <p:cNvPr id="484" name=""/>
              <p:cNvSpPr/>
              <p:nvPr/>
            </p:nvSpPr>
            <p:spPr>
              <a:xfrm>
                <a:off x="3505320" y="3809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0"/>
                    </a:moveTo>
                    <a:lnTo>
                      <a:pt x="636" y="0"/>
                    </a:lnTo>
                    <a:cubicBezTo>
                      <a:pt x="524" y="0"/>
                      <a:pt x="415" y="39"/>
                      <a:pt x="318" y="114"/>
                    </a:cubicBezTo>
                    <a:cubicBezTo>
                      <a:pt x="221" y="188"/>
                      <a:pt x="141" y="295"/>
                      <a:pt x="85" y="424"/>
                    </a:cubicBezTo>
                    <a:cubicBezTo>
                      <a:pt x="29" y="553"/>
                      <a:pt x="0" y="699"/>
                      <a:pt x="0" y="84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33920" y="3809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848"/>
                    </a:moveTo>
                    <a:lnTo>
                      <a:pt x="636" y="848"/>
                    </a:lnTo>
                    <a:lnTo>
                      <a:pt x="636" y="848"/>
                    </a:lnTo>
                    <a:cubicBezTo>
                      <a:pt x="636" y="699"/>
                      <a:pt x="607" y="553"/>
                      <a:pt x="551" y="424"/>
                    </a:cubicBezTo>
                    <a:cubicBezTo>
                      <a:pt x="495" y="295"/>
                      <a:pt x="415" y="188"/>
                      <a:pt x="318" y="114"/>
                    </a:cubicBezTo>
                    <a:cubicBezTo>
                      <a:pt x="221" y="39"/>
                      <a:pt x="112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038480" y="3809880"/>
              <a:ext cx="457560" cy="305280"/>
              <a:chOff x="4038480" y="3809880"/>
              <a:chExt cx="457560" cy="305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038480" y="3809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0"/>
                    </a:moveTo>
                    <a:lnTo>
                      <a:pt x="636" y="0"/>
                    </a:lnTo>
                    <a:cubicBezTo>
                      <a:pt x="524" y="0"/>
                      <a:pt x="415" y="39"/>
                      <a:pt x="318" y="114"/>
                    </a:cubicBezTo>
                    <a:cubicBezTo>
                      <a:pt x="221" y="188"/>
                      <a:pt x="141" y="295"/>
                      <a:pt x="85" y="424"/>
                    </a:cubicBezTo>
                    <a:cubicBezTo>
                      <a:pt x="29" y="553"/>
                      <a:pt x="0" y="699"/>
                      <a:pt x="0" y="84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67080" y="3809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848"/>
                    </a:moveTo>
                    <a:lnTo>
                      <a:pt x="636" y="848"/>
                    </a:lnTo>
                    <a:lnTo>
                      <a:pt x="636" y="848"/>
                    </a:lnTo>
                    <a:cubicBezTo>
                      <a:pt x="636" y="699"/>
                      <a:pt x="607" y="553"/>
                      <a:pt x="551" y="424"/>
                    </a:cubicBezTo>
                    <a:cubicBezTo>
                      <a:pt x="495" y="295"/>
                      <a:pt x="415" y="188"/>
                      <a:pt x="318" y="114"/>
                    </a:cubicBezTo>
                    <a:cubicBezTo>
                      <a:pt x="221" y="39"/>
                      <a:pt x="112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2813400" y="4017240"/>
              <a:ext cx="95040" cy="195480"/>
            </a:xfrm>
            <a:custGeom>
              <a:avLst/>
              <a:gdLst/>
              <a:ahLst/>
              <a:rect l="0" t="0" r="r" b="b"/>
              <a:pathLst>
                <a:path w="264" h="543">
                  <a:moveTo>
                    <a:pt x="0" y="33"/>
                  </a:moveTo>
                  <a:lnTo>
                    <a:pt x="108" y="543"/>
                  </a:lnTo>
                  <a:lnTo>
                    <a:pt x="264" y="510"/>
                  </a:lnTo>
                  <a:lnTo>
                    <a:pt x="1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48400" y="4312440"/>
              <a:ext cx="101160" cy="195840"/>
            </a:xfrm>
            <a:custGeom>
              <a:avLst/>
              <a:gdLst/>
              <a:ahLst/>
              <a:rect l="0" t="0" r="r" b="b"/>
              <a:pathLst>
                <a:path w="281" h="544">
                  <a:moveTo>
                    <a:pt x="0" y="38"/>
                  </a:moveTo>
                  <a:lnTo>
                    <a:pt x="126" y="544"/>
                  </a:lnTo>
                  <a:lnTo>
                    <a:pt x="281" y="505"/>
                  </a:lnTo>
                  <a:lnTo>
                    <a:pt x="15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46560" y="4322160"/>
              <a:ext cx="95040" cy="195480"/>
            </a:xfrm>
            <a:custGeom>
              <a:avLst/>
              <a:gdLst/>
              <a:ahLst/>
              <a:rect l="0" t="0" r="r" b="b"/>
              <a:pathLst>
                <a:path w="264" h="543">
                  <a:moveTo>
                    <a:pt x="108" y="0"/>
                  </a:moveTo>
                  <a:lnTo>
                    <a:pt x="0" y="510"/>
                  </a:lnTo>
                  <a:lnTo>
                    <a:pt x="156" y="543"/>
                  </a:lnTo>
                  <a:lnTo>
                    <a:pt x="264" y="3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92720" y="4004280"/>
              <a:ext cx="98280" cy="195840"/>
            </a:xfrm>
            <a:custGeom>
              <a:avLst/>
              <a:gdLst/>
              <a:ahLst/>
              <a:rect l="0" t="0" r="r" b="b"/>
              <a:pathLst>
                <a:path w="273" h="544">
                  <a:moveTo>
                    <a:pt x="118" y="0"/>
                  </a:moveTo>
                  <a:lnTo>
                    <a:pt x="0" y="509"/>
                  </a:lnTo>
                  <a:lnTo>
                    <a:pt x="155" y="544"/>
                  </a:lnTo>
                  <a:lnTo>
                    <a:pt x="273" y="35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97440" y="3998160"/>
              <a:ext cx="152640" cy="147600"/>
            </a:xfrm>
            <a:custGeom>
              <a:avLst/>
              <a:gdLst/>
              <a:ahLst/>
              <a:rect l="0" t="0" r="r" b="b"/>
              <a:pathLst>
                <a:path w="424" h="410">
                  <a:moveTo>
                    <a:pt x="271" y="0"/>
                  </a:moveTo>
                  <a:lnTo>
                    <a:pt x="0" y="227"/>
                  </a:lnTo>
                  <a:lnTo>
                    <a:pt x="153" y="410"/>
                  </a:lnTo>
                  <a:lnTo>
                    <a:pt x="424" y="182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55960" y="4003200"/>
              <a:ext cx="152640" cy="147600"/>
            </a:xfrm>
            <a:custGeom>
              <a:avLst/>
              <a:gdLst/>
              <a:ahLst/>
              <a:rect l="0" t="0" r="r" b="b"/>
              <a:pathLst>
                <a:path w="424" h="410">
                  <a:moveTo>
                    <a:pt x="0" y="182"/>
                  </a:moveTo>
                  <a:lnTo>
                    <a:pt x="271" y="410"/>
                  </a:lnTo>
                  <a:lnTo>
                    <a:pt x="424" y="227"/>
                  </a:lnTo>
                  <a:lnTo>
                    <a:pt x="153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171880" y="4952880"/>
            <a:ext cx="3047760" cy="915120"/>
            <a:chOff x="2171880" y="4952880"/>
            <a:chExt cx="3047760" cy="915120"/>
          </a:xfrm>
        </p:grpSpPr>
        <p:grpSp>
          <p:nvGrpSpPr>
            <p:cNvPr id="496" name=""/>
            <p:cNvGrpSpPr/>
            <p:nvPr/>
          </p:nvGrpSpPr>
          <p:grpSpPr>
            <a:xfrm>
              <a:off x="2705040" y="4952880"/>
              <a:ext cx="457560" cy="305280"/>
              <a:chOff x="2705040" y="4952880"/>
              <a:chExt cx="457560" cy="305280"/>
            </a:xfrm>
          </p:grpSpPr>
          <p:sp>
            <p:nvSpPr>
              <p:cNvPr id="497" name=""/>
              <p:cNvSpPr/>
              <p:nvPr/>
            </p:nvSpPr>
            <p:spPr>
              <a:xfrm>
                <a:off x="2705040" y="4952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0"/>
                    </a:moveTo>
                    <a:lnTo>
                      <a:pt x="636" y="0"/>
                    </a:lnTo>
                    <a:cubicBezTo>
                      <a:pt x="524" y="0"/>
                      <a:pt x="415" y="39"/>
                      <a:pt x="318" y="114"/>
                    </a:cubicBezTo>
                    <a:cubicBezTo>
                      <a:pt x="221" y="188"/>
                      <a:pt x="141" y="295"/>
                      <a:pt x="85" y="424"/>
                    </a:cubicBezTo>
                    <a:cubicBezTo>
                      <a:pt x="29" y="553"/>
                      <a:pt x="0" y="699"/>
                      <a:pt x="0" y="84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933640" y="4952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848"/>
                    </a:moveTo>
                    <a:lnTo>
                      <a:pt x="636" y="848"/>
                    </a:lnTo>
                    <a:lnTo>
                      <a:pt x="636" y="848"/>
                    </a:lnTo>
                    <a:cubicBezTo>
                      <a:pt x="636" y="699"/>
                      <a:pt x="607" y="553"/>
                      <a:pt x="551" y="424"/>
                    </a:cubicBezTo>
                    <a:cubicBezTo>
                      <a:pt x="495" y="295"/>
                      <a:pt x="415" y="188"/>
                      <a:pt x="318" y="114"/>
                    </a:cubicBezTo>
                    <a:cubicBezTo>
                      <a:pt x="221" y="39"/>
                      <a:pt x="112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2171880" y="541008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70960" y="5207040"/>
              <a:ext cx="108000" cy="77040"/>
            </a:xfrm>
            <a:custGeom>
              <a:avLst/>
              <a:gdLst/>
              <a:ahLst/>
              <a:rect l="0" t="0" r="r" b="b"/>
              <a:pathLst>
                <a:path fill="none" w="300" h="214">
                  <a:moveTo>
                    <a:pt x="153" y="0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0" y="149"/>
                  </a:lnTo>
                  <a:cubicBezTo>
                    <a:pt x="26" y="176"/>
                    <a:pt x="58" y="195"/>
                    <a:pt x="94" y="205"/>
                  </a:cubicBezTo>
                  <a:cubicBezTo>
                    <a:pt x="130" y="216"/>
                    <a:pt x="168" y="216"/>
                    <a:pt x="204" y="207"/>
                  </a:cubicBezTo>
                  <a:cubicBezTo>
                    <a:pt x="240" y="198"/>
                    <a:pt x="273" y="180"/>
                    <a:pt x="300" y="154"/>
                  </a:cubicBezTo>
                  <a:lnTo>
                    <a:pt x="300" y="1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6400" y="5168880"/>
              <a:ext cx="101520" cy="466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676680" y="5181480"/>
              <a:ext cx="108000" cy="47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238560" y="5562720"/>
              <a:ext cx="457560" cy="305280"/>
              <a:chOff x="3238560" y="5562720"/>
              <a:chExt cx="457560" cy="305280"/>
            </a:xfrm>
          </p:grpSpPr>
          <p:sp>
            <p:nvSpPr>
              <p:cNvPr id="504" name=""/>
              <p:cNvSpPr/>
              <p:nvPr/>
            </p:nvSpPr>
            <p:spPr>
              <a:xfrm>
                <a:off x="3238560" y="556272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49"/>
                      <a:pt x="29" y="295"/>
                      <a:pt x="85" y="424"/>
                    </a:cubicBezTo>
                    <a:cubicBezTo>
                      <a:pt x="141" y="553"/>
                      <a:pt x="221" y="660"/>
                      <a:pt x="318" y="734"/>
                    </a:cubicBezTo>
                    <a:cubicBezTo>
                      <a:pt x="415" y="809"/>
                      <a:pt x="524" y="848"/>
                      <a:pt x="636" y="84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467160" y="556272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0" y="848"/>
                    </a:moveTo>
                    <a:lnTo>
                      <a:pt x="0" y="848"/>
                    </a:lnTo>
                    <a:cubicBezTo>
                      <a:pt x="112" y="848"/>
                      <a:pt x="221" y="809"/>
                      <a:pt x="318" y="734"/>
                    </a:cubicBezTo>
                    <a:cubicBezTo>
                      <a:pt x="415" y="660"/>
                      <a:pt x="495" y="553"/>
                      <a:pt x="551" y="424"/>
                    </a:cubicBezTo>
                    <a:cubicBezTo>
                      <a:pt x="607" y="295"/>
                      <a:pt x="636" y="149"/>
                      <a:pt x="636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771720" y="4952880"/>
              <a:ext cx="457920" cy="305280"/>
              <a:chOff x="3771720" y="4952880"/>
              <a:chExt cx="457920" cy="305280"/>
            </a:xfrm>
          </p:grpSpPr>
          <p:sp>
            <p:nvSpPr>
              <p:cNvPr id="507" name=""/>
              <p:cNvSpPr/>
              <p:nvPr/>
            </p:nvSpPr>
            <p:spPr>
              <a:xfrm>
                <a:off x="3771720" y="4952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0"/>
                    </a:moveTo>
                    <a:lnTo>
                      <a:pt x="636" y="0"/>
                    </a:lnTo>
                    <a:cubicBezTo>
                      <a:pt x="524" y="0"/>
                      <a:pt x="415" y="39"/>
                      <a:pt x="318" y="114"/>
                    </a:cubicBezTo>
                    <a:cubicBezTo>
                      <a:pt x="221" y="188"/>
                      <a:pt x="141" y="295"/>
                      <a:pt x="85" y="424"/>
                    </a:cubicBezTo>
                    <a:cubicBezTo>
                      <a:pt x="29" y="553"/>
                      <a:pt x="0" y="699"/>
                      <a:pt x="0" y="84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00680" y="4952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848"/>
                    </a:moveTo>
                    <a:lnTo>
                      <a:pt x="636" y="848"/>
                    </a:lnTo>
                    <a:lnTo>
                      <a:pt x="636" y="848"/>
                    </a:lnTo>
                    <a:cubicBezTo>
                      <a:pt x="636" y="699"/>
                      <a:pt x="607" y="553"/>
                      <a:pt x="551" y="424"/>
                    </a:cubicBezTo>
                    <a:cubicBezTo>
                      <a:pt x="495" y="295"/>
                      <a:pt x="415" y="188"/>
                      <a:pt x="318" y="114"/>
                    </a:cubicBezTo>
                    <a:cubicBezTo>
                      <a:pt x="221" y="39"/>
                      <a:pt x="112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4305240" y="4952880"/>
              <a:ext cx="457560" cy="305280"/>
              <a:chOff x="4305240" y="4952880"/>
              <a:chExt cx="457560" cy="305280"/>
            </a:xfrm>
          </p:grpSpPr>
          <p:sp>
            <p:nvSpPr>
              <p:cNvPr id="510" name=""/>
              <p:cNvSpPr/>
              <p:nvPr/>
            </p:nvSpPr>
            <p:spPr>
              <a:xfrm>
                <a:off x="4305240" y="4952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0"/>
                    </a:moveTo>
                    <a:lnTo>
                      <a:pt x="636" y="0"/>
                    </a:lnTo>
                    <a:cubicBezTo>
                      <a:pt x="524" y="0"/>
                      <a:pt x="415" y="39"/>
                      <a:pt x="318" y="114"/>
                    </a:cubicBezTo>
                    <a:cubicBezTo>
                      <a:pt x="221" y="188"/>
                      <a:pt x="141" y="295"/>
                      <a:pt x="85" y="424"/>
                    </a:cubicBezTo>
                    <a:cubicBezTo>
                      <a:pt x="29" y="553"/>
                      <a:pt x="0" y="699"/>
                      <a:pt x="0" y="84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33840" y="4952880"/>
                <a:ext cx="228960" cy="305280"/>
              </a:xfrm>
              <a:custGeom>
                <a:avLst/>
                <a:gdLst/>
                <a:ahLst/>
                <a:rect l="0" t="0" r="r" b="b"/>
                <a:pathLst>
                  <a:path fill="none" w="636" h="848">
                    <a:moveTo>
                      <a:pt x="636" y="848"/>
                    </a:moveTo>
                    <a:lnTo>
                      <a:pt x="636" y="848"/>
                    </a:lnTo>
                    <a:lnTo>
                      <a:pt x="636" y="848"/>
                    </a:lnTo>
                    <a:cubicBezTo>
                      <a:pt x="636" y="699"/>
                      <a:pt x="607" y="553"/>
                      <a:pt x="551" y="424"/>
                    </a:cubicBezTo>
                    <a:cubicBezTo>
                      <a:pt x="495" y="295"/>
                      <a:pt x="415" y="188"/>
                      <a:pt x="318" y="114"/>
                    </a:cubicBezTo>
                    <a:cubicBezTo>
                      <a:pt x="221" y="39"/>
                      <a:pt x="112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3759480" y="5147280"/>
              <a:ext cx="98280" cy="195840"/>
            </a:xfrm>
            <a:custGeom>
              <a:avLst/>
              <a:gdLst/>
              <a:ahLst/>
              <a:rect l="0" t="0" r="r" b="b"/>
              <a:pathLst>
                <a:path w="273" h="544">
                  <a:moveTo>
                    <a:pt x="118" y="0"/>
                  </a:moveTo>
                  <a:lnTo>
                    <a:pt x="0" y="509"/>
                  </a:lnTo>
                  <a:lnTo>
                    <a:pt x="155" y="544"/>
                  </a:lnTo>
                  <a:lnTo>
                    <a:pt x="273" y="35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13320" y="5446080"/>
              <a:ext cx="95040" cy="195480"/>
            </a:xfrm>
            <a:custGeom>
              <a:avLst/>
              <a:gdLst/>
              <a:ahLst/>
              <a:rect l="0" t="0" r="r" b="b"/>
              <a:pathLst>
                <a:path w="264" h="543">
                  <a:moveTo>
                    <a:pt x="108" y="0"/>
                  </a:moveTo>
                  <a:lnTo>
                    <a:pt x="0" y="510"/>
                  </a:lnTo>
                  <a:lnTo>
                    <a:pt x="156" y="543"/>
                  </a:lnTo>
                  <a:lnTo>
                    <a:pt x="264" y="3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15160" y="5448960"/>
              <a:ext cx="101160" cy="195840"/>
            </a:xfrm>
            <a:custGeom>
              <a:avLst/>
              <a:gdLst/>
              <a:ahLst/>
              <a:rect l="0" t="0" r="r" b="b"/>
              <a:pathLst>
                <a:path w="281" h="544">
                  <a:moveTo>
                    <a:pt x="0" y="38"/>
                  </a:moveTo>
                  <a:lnTo>
                    <a:pt x="126" y="544"/>
                  </a:lnTo>
                  <a:lnTo>
                    <a:pt x="281" y="505"/>
                  </a:lnTo>
                  <a:lnTo>
                    <a:pt x="15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76920" y="5166720"/>
              <a:ext cx="95040" cy="195480"/>
            </a:xfrm>
            <a:custGeom>
              <a:avLst/>
              <a:gdLst/>
              <a:ahLst/>
              <a:rect l="0" t="0" r="r" b="b"/>
              <a:pathLst>
                <a:path w="264" h="543">
                  <a:moveTo>
                    <a:pt x="0" y="33"/>
                  </a:moveTo>
                  <a:lnTo>
                    <a:pt x="108" y="543"/>
                  </a:lnTo>
                  <a:lnTo>
                    <a:pt x="264" y="510"/>
                  </a:lnTo>
                  <a:lnTo>
                    <a:pt x="1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48000" y="5154120"/>
              <a:ext cx="152640" cy="147600"/>
            </a:xfrm>
            <a:custGeom>
              <a:avLst/>
              <a:gdLst/>
              <a:ahLst/>
              <a:rect l="0" t="0" r="r" b="b"/>
              <a:pathLst>
                <a:path w="424" h="410">
                  <a:moveTo>
                    <a:pt x="271" y="0"/>
                  </a:moveTo>
                  <a:lnTo>
                    <a:pt x="0" y="227"/>
                  </a:lnTo>
                  <a:lnTo>
                    <a:pt x="153" y="410"/>
                  </a:lnTo>
                  <a:lnTo>
                    <a:pt x="424" y="182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19480" y="5142960"/>
              <a:ext cx="152640" cy="147600"/>
            </a:xfrm>
            <a:custGeom>
              <a:avLst/>
              <a:gdLst/>
              <a:ahLst/>
              <a:rect l="0" t="0" r="r" b="b"/>
              <a:pathLst>
                <a:path w="424" h="410">
                  <a:moveTo>
                    <a:pt x="0" y="182"/>
                  </a:moveTo>
                  <a:lnTo>
                    <a:pt x="271" y="410"/>
                  </a:lnTo>
                  <a:lnTo>
                    <a:pt x="424" y="227"/>
                  </a:lnTo>
                  <a:lnTo>
                    <a:pt x="153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 txBox="1"/>
          <p:nvPr/>
        </p:nvSpPr>
        <p:spPr>
          <a:xfrm>
            <a:off x="3317760" y="1849320"/>
            <a:ext cx="654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mate by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19480" y="3803760"/>
            <a:ext cx="222120" cy="20700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H. Cafarella</dc:creator>
  <dc:description/>
  <dc:language>en-US</dc:language>
  <cp:lastModifiedBy>John H. Cafarella</cp:lastModifiedBy>
  <cp:revision>0</cp:revision>
  <dc:subject/>
  <dc:title>Multi-Signal Clear Channel Assessment</dc:title>
</cp:coreProperties>
</file>