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2438280" y="6095880"/>
            <a:ext cx="762480" cy="610200"/>
            <a:chOff x="2438280" y="6095880"/>
            <a:chExt cx="762480" cy="610200"/>
          </a:xfrm>
        </p:grpSpPr>
        <p:sp>
          <p:nvSpPr>
            <p:cNvPr id="2" name=""/>
            <p:cNvSpPr/>
            <p:nvPr/>
          </p:nvSpPr>
          <p:spPr>
            <a:xfrm>
              <a:off x="2438280" y="6307200"/>
              <a:ext cx="381240" cy="398880"/>
            </a:xfrm>
            <a:custGeom>
              <a:avLst/>
              <a:gdLst/>
              <a:ahLst/>
              <a:rect l="0" t="0" r="r" b="b"/>
              <a:pathLst>
                <a:path w="1059" h="1108">
                  <a:moveTo>
                    <a:pt x="1059" y="327"/>
                  </a:moveTo>
                  <a:lnTo>
                    <a:pt x="0" y="1108"/>
                  </a:lnTo>
                  <a:lnTo>
                    <a:pt x="1059" y="0"/>
                  </a:lnTo>
                  <a:lnTo>
                    <a:pt x="1059" y="327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819520" y="6095880"/>
              <a:ext cx="381240" cy="398880"/>
            </a:xfrm>
            <a:custGeom>
              <a:avLst/>
              <a:gdLst/>
              <a:ahLst/>
              <a:rect l="0" t="0" r="r" b="b"/>
              <a:pathLst>
                <a:path w="1059" h="1108">
                  <a:moveTo>
                    <a:pt x="0" y="781"/>
                  </a:moveTo>
                  <a:lnTo>
                    <a:pt x="1059" y="0"/>
                  </a:lnTo>
                  <a:lnTo>
                    <a:pt x="0" y="1108"/>
                  </a:lnTo>
                  <a:lnTo>
                    <a:pt x="0" y="781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"/>
          <p:cNvSpPr/>
          <p:nvPr/>
        </p:nvSpPr>
        <p:spPr>
          <a:xfrm>
            <a:off x="687240" y="533520"/>
            <a:ext cx="777096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 txBox="1"/>
          <p:nvPr/>
        </p:nvSpPr>
        <p:spPr>
          <a:xfrm>
            <a:off x="609480" y="228600"/>
            <a:ext cx="7897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vember 1997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Doc: IEEE P802.11-97/14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7140600" y="6276960"/>
            <a:ext cx="184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 txBox="1"/>
          <p:nvPr/>
        </p:nvSpPr>
        <p:spPr>
          <a:xfrm>
            <a:off x="6958080" y="6307200"/>
            <a:ext cx="1547640" cy="39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/12/97,  Page </a:t>
            </a:r>
            <a:fld id="{6BCF8281-5963-4682-BAE2-545D3FF6255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685800" y="2895480"/>
            <a:ext cx="7772400" cy="400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-Pulse Position Modulation</a:t>
            </a:r>
            <a:br>
              <a:rPr sz="18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L-PPM)</a:t>
            </a:r>
            <a:br>
              <a:rPr sz="1800"/>
            </a:b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osal for 5 GHz High-Speed PHY</a:t>
            </a:r>
            <a:br>
              <a:rPr sz="2400"/>
            </a:br>
            <a:br>
              <a:rPr sz="24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mitted to</a:t>
            </a:r>
            <a:br>
              <a:rPr sz="1800"/>
            </a:b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EEE 802.11</a:t>
            </a:r>
            <a:br>
              <a:rPr sz="1800"/>
            </a:br>
            <a:br>
              <a:rPr sz="18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</a:t>
            </a:r>
            <a:br>
              <a:rPr sz="1200"/>
            </a:br>
            <a:br>
              <a:rPr sz="12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za Ahy</a:t>
            </a:r>
            <a:br>
              <a:rPr sz="2000"/>
            </a:b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oLAN, In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-PPM Product Feasi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28195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oLAN Products:  10 Mb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rda Products:  4 Mb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EEE 802.11 IR-based produc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976320" y="1487520"/>
            <a:ext cx="7481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-PPM meets the modulation method criteria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 Mb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path-robust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-co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-pow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 effici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-PPM Radio LANs have been demonstrated as 10 Mbps produc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-PPM low-cost IR LANs have been demonstrated as 4 &amp; 16 Mbps produc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-PPM could potentially co-exist with IEEE 802.11 low-sp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378160" y="17524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GHz High-Speed PHY Go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-PPM Characteris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-PPM Symbol Detection Err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door Communication Chann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-PPM over Multipath, Dispersive Chann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 Mbps L-PPM Iss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CC &amp; L-PP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-PPM Product Feasi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lu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GHz High-Speed PHY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28195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 Mbps nominal 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Mbps fall-back 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bustness against multipa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-Cos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-Pow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ximize System Capac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-PPM Characteris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1800360" y="1752480"/>
            <a:ext cx="66578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-efficient RF transmi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Transmiters (compared to OFDM, QPSK &amp; oth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-efficient D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WGN moderate bandwidth effici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path-channel good bandwidth effici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 hardware complex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 c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2360" y="5048280"/>
            <a:ext cx="42372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590920" y="4878360"/>
            <a:ext cx="0" cy="169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86120" y="4878360"/>
            <a:ext cx="0" cy="169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43160" y="4878360"/>
            <a:ext cx="0" cy="169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38360" y="4878360"/>
            <a:ext cx="0" cy="169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695760" y="4878360"/>
            <a:ext cx="0" cy="169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990960" y="4878360"/>
            <a:ext cx="0" cy="169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248000" y="4878360"/>
            <a:ext cx="0" cy="169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43560" y="4878360"/>
            <a:ext cx="0" cy="169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848120" y="4878360"/>
            <a:ext cx="0" cy="169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143680" y="4878360"/>
            <a:ext cx="0" cy="169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400720" y="4878360"/>
            <a:ext cx="0" cy="169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695920" y="4878360"/>
            <a:ext cx="0" cy="169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981760" y="4878360"/>
            <a:ext cx="0" cy="169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276960" y="4878360"/>
            <a:ext cx="0" cy="169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534000" y="4878360"/>
            <a:ext cx="0" cy="169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829560" y="4878360"/>
            <a:ext cx="0" cy="169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887560" y="5315040"/>
            <a:ext cx="255600" cy="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2793960" y="5315040"/>
            <a:ext cx="5302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592360" y="5619600"/>
            <a:ext cx="1103400" cy="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2793960" y="5619600"/>
            <a:ext cx="471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o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592360" y="5924520"/>
            <a:ext cx="4237200" cy="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2793960" y="5924520"/>
            <a:ext cx="6094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lo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38640" y="4524480"/>
            <a:ext cx="1171440" cy="533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248000" y="5162400"/>
            <a:ext cx="12952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mbol X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-PPM Symbol Detection Err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28195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path-induced ISI err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asure err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lse-alarm err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ong-slot err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door Communication Chann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28195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path (Rayleigh envelo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persive (Delay sprea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equency selelctive F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me-vary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-PPM over Multipath, Dispersive Chann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28195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llen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C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path distor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path Fad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sib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s appro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tributed signal conditioning &amp; processing of the sig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Mbps systems feasible with very simple solu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 Mbps L-PPM 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2449440" y="1981080"/>
            <a:ext cx="5400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er-order L-PPM candidates (16-PP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asibility is NOT the question: Low-cost implmentation 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-optimal simple receivers are 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ximum-likelihood Estimation (MLSE) Recivers could be too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ip &amp; Frame Synchron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CC &amp; L-PP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2448000" y="1981080"/>
            <a:ext cx="5772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-PPM efficient power transmission is a plu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-PPM for ISM b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oLAN 10 Mbps, 5.8 GHz FCC-approved produ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ktop solutions: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cember 1996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ptop solutions: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ly 1997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-PPM for U-NII b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CC-approved RadioLAN U-NII product: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1997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taff</dc:creator>
  <dc:description/>
  <dc:language>en-US</dc:language>
  <cp:lastModifiedBy>Staff</cp:lastModifiedBy>
  <cp:revision>0</cp:revision>
  <dc:subject/>
  <dc:title>No Slide Title</dc:title>
</cp:coreProperties>
</file>