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2.4-GHz P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828800" y="1600200"/>
            <a:ext cx="129528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80880" y="114300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343400" y="1752480"/>
            <a:ext cx="1752480" cy="45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1752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088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828800" y="198108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479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24080" y="1828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705720" y="1752480"/>
            <a:ext cx="1752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0880" y="3657600"/>
            <a:ext cx="4572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s data bandwidth to equal spread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dB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3 dB more efficient than D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4962600" y="3000240"/>
            <a:ext cx="3624120" cy="257796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 txBox="1"/>
          <p:nvPr/>
        </p:nvSpPr>
        <p:spPr>
          <a:xfrm>
            <a:off x="7543800" y="4419720"/>
            <a:ext cx="60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nnon    li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181480" y="3124080"/>
            <a:ext cx="76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828800" y="1600200"/>
            <a:ext cx="129528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0880" y="114300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343400" y="1752480"/>
            <a:ext cx="1752480" cy="45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447920" y="1752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8088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828800" y="1938240"/>
            <a:ext cx="1295280" cy="3762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479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1828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705720" y="1752480"/>
            <a:ext cx="1752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880" y="3657600"/>
            <a:ext cx="480060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llows operation into power-amp sat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efficiency greatly 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generation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high chip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fine at PA 1-dB compress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106880" cy="29336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715000" y="2743200"/>
            <a:ext cx="0" cy="18288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156360" y="2593800"/>
            <a:ext cx="1155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operating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861080" y="2593800"/>
            <a:ext cx="1117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K operating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and Coexis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200400" y="152388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343400" y="15908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0880" y="152388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828800" y="20574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447920" y="2209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343400" y="1981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2209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705720" y="160020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 &amp; Coexistence with         1/2-Mbps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95880" y="1752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0880" y="2362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0880" y="3429000"/>
            <a:ext cx="746748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 described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-filter detection of 11-Mchip/s Barker code; preamble o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detection of 1-Msymbol FSK on 802.11 FH frequencies  in 10-Mbps pass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sensitivity for pream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sensitivity for 1- or 2-Mbps data (similar to 802.11 F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10-Mbps transmissions to defer to legacy 1-/2-Mbp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ere des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only operates slot time before 10-Mbps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mpact on power diss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666880" cy="10335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5715000" y="4546440"/>
            <a:ext cx="2743200" cy="1092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5724360" y="2895480"/>
            <a:ext cx="2733840" cy="9889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4"/>
          <a:stretch/>
        </p:blipFill>
        <p:spPr>
          <a:xfrm>
            <a:off x="3276720" y="2895480"/>
            <a:ext cx="2808360" cy="990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and Coexis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200400" y="152388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343400" y="15908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80880" y="152388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28800" y="20574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2209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343400" y="1981080"/>
            <a:ext cx="175248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124080" y="2209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6705720" y="160020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 &amp; Coexistence with         1/2-Mbps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95880" y="1752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80880" y="236232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0880" y="3276720"/>
            <a:ext cx="335268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enhances channe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10-Mbps (48-dB iso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0- &amp; a 2-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2-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if 16-Mchip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0- &amp; a 2- or 5-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otal 5- and/or 2-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022640" y="6087960"/>
            <a:ext cx="2178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8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MSK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800600" y="3200400"/>
            <a:ext cx="60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-dB Iso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286000" y="3581280"/>
            <a:ext cx="1295280" cy="2286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438280" y="5105520"/>
            <a:ext cx="914400" cy="15228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505320" y="455940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25920" y="285768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051600" y="289548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39000" y="461016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and Coexis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200400" y="152388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343400" y="1590840"/>
            <a:ext cx="1752480" cy="3142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880" y="1523880"/>
            <a:ext cx="1066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828800" y="20574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47920" y="2209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343400" y="1981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2209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705720" y="160020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 &amp; Coexistence with         1/2-Mbps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1752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209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0880" y="236232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80880" y="3124080"/>
            <a:ext cx="640080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 best 8 codes (of 2048) for demodulating data in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 best 8 codes for preamble search (and acquisition) in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rejection much better than “random” implied by processing 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strategies for code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 pairing of data/search codes gives 8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pairing of data/search codes gives 64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frame code changing greatly expands the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frequency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suffer frequency channel cross-talk (as with only one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689880" y="6316560"/>
            <a:ext cx="1866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7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data c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ossible Data M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2057400" y="22096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2057400" y="26668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Orthog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2057400" y="31240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Orthogonal                                   with (15,13)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057400" y="35812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x 4-ary BiOrthogona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2057400" y="40384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057400" y="44956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Orthog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057400" y="49528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Orthogonal                                   with (15,13)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867280" y="22096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5867280" y="26668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5867280" y="31240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7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867280" y="3581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/24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867280" y="4038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867280" y="44956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5867280" y="49528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/12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781680" y="22096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5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315200" y="-1295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781680" y="26668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2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781680" y="31240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4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781680" y="3581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6 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781680" y="4038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8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781680" y="44956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5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781680" y="49528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7 d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6781680" y="54100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9 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143000" y="2209680"/>
            <a:ext cx="914400" cy="1828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H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4876920" y="-1295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1143000" y="4038480"/>
            <a:ext cx="914400" cy="1828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MH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057400" y="54100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x 4-ary BiOrthog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2057400" y="1752480"/>
            <a:ext cx="3809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5867280" y="1752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781680" y="1752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1143000" y="1752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3000" y="22096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43000" y="40384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143000" y="58672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43000" y="17524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143000" y="175248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96080" y="175248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581280" y="24382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42670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943600" y="24382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0" y="24382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943600" y="42670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0" y="42670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410080" y="594360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30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-GHz PAR propos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352680" y="594360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use Japan/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143000" y="594360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use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495680"/>
            <a:ext cx="129528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512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429000"/>
            <a:ext cx="106668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19720" y="3809880"/>
            <a:ext cx="1752480" cy="304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19720" y="4648320"/>
            <a:ext cx="1752480" cy="457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1972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720" y="3581280"/>
            <a:ext cx="1752480" cy="1522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nsmission Secur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19720" y="51721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1972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666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523880" y="29718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4648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352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365760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95288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 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5120" y="48769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563868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5029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791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19720" y="556272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791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7680" y="150012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37040" y="150012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98760" y="15001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7080" y="1500120"/>
            <a:ext cx="844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05120" y="411480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19720" y="4181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2670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1055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9625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8168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781680" y="518148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SAs &amp; Coexistence with         1/2-Mbps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81680" y="3809880"/>
            <a:ext cx="17524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1972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438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781680" y="4648320"/>
            <a:ext cx="1752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876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962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343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314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857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41972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0574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057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19051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5791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199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419720" y="60865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324480" y="449568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2485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724280"/>
            <a:ext cx="0" cy="152424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172200" y="624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0481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0" cy="198144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400" y="4038480"/>
            <a:ext cx="83808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4340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81520" y="3733920"/>
            <a:ext cx="3693960" cy="2741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6858000" y="4038480"/>
            <a:ext cx="99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rea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4038480"/>
            <a:ext cx="41911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paths gives more independen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strength per path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obability that all f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s for diffuse R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better with specular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  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400" y="2247840"/>
            <a:ext cx="1752480" cy="385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4038480"/>
            <a:ext cx="419112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processing gain (PG) of 12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flaw of “computed” 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B increase in PG is signific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actor of two in area coverage (free-sp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would anyone take a 3-dB cut in pay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96160" y="3552840"/>
            <a:ext cx="156996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76920" y="5105520"/>
            <a:ext cx="137160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5334120"/>
            <a:ext cx="914400" cy="9144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91120" y="4267080"/>
            <a:ext cx="2666880" cy="30492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5257800"/>
            <a:ext cx="838080" cy="15228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553080" y="581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670800" y="55767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5720" y="5762520"/>
            <a:ext cx="5400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6343560"/>
            <a:ext cx="5400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70640" y="5904000"/>
            <a:ext cx="252360" cy="349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75320" y="5905440"/>
            <a:ext cx="139680" cy="270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608800" y="5842080"/>
            <a:ext cx="109440" cy="903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8640" y="6224760"/>
            <a:ext cx="139680" cy="266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80080" y="6222960"/>
            <a:ext cx="109440" cy="100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433840" y="4191120"/>
            <a:ext cx="105120" cy="152280"/>
            <a:chOff x="5433840" y="4191120"/>
            <a:chExt cx="105120" cy="152280"/>
          </a:xfrm>
        </p:grpSpPr>
        <p:sp>
          <p:nvSpPr>
            <p:cNvPr id="172" name=""/>
            <p:cNvSpPr/>
            <p:nvPr/>
          </p:nvSpPr>
          <p:spPr>
            <a:xfrm>
              <a:off x="5486400" y="4191120"/>
              <a:ext cx="5256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33840" y="4191120"/>
              <a:ext cx="5256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38760" y="3886200"/>
            <a:ext cx="104760" cy="228600"/>
            <a:chOff x="5738760" y="3886200"/>
            <a:chExt cx="104760" cy="228600"/>
          </a:xfrm>
        </p:grpSpPr>
        <p:sp>
          <p:nvSpPr>
            <p:cNvPr id="175" name=""/>
            <p:cNvSpPr/>
            <p:nvPr/>
          </p:nvSpPr>
          <p:spPr>
            <a:xfrm>
              <a:off x="5791320" y="3886200"/>
              <a:ext cx="522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38760" y="3886200"/>
              <a:ext cx="5256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34340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4038480"/>
            <a:ext cx="443880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with specular multipath, without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consid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rosscorre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de lo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preferred 16-bi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8 of 2048 co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s 8- and 16-bit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B better for 16-bi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dB “gap” as multipath v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3809880"/>
            <a:ext cx="380880" cy="762120"/>
            <a:chOff x="4876920" y="3809880"/>
            <a:chExt cx="380880" cy="762120"/>
          </a:xfrm>
        </p:grpSpPr>
        <p:sp>
          <p:nvSpPr>
            <p:cNvPr id="200" name=""/>
            <p:cNvSpPr/>
            <p:nvPr/>
          </p:nvSpPr>
          <p:spPr>
            <a:xfrm>
              <a:off x="4876920" y="38098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6920" y="385776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76920" y="39052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6920" y="395280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6920" y="40006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404820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6920" y="409572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76920" y="414324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419112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423864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6920" y="428616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433404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76920" y="438156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44290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76920" y="447660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920" y="4524480"/>
              <a:ext cx="380880" cy="4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 txBox="1"/>
          <p:nvPr/>
        </p:nvSpPr>
        <p:spPr>
          <a:xfrm>
            <a:off x="4632480" y="4586400"/>
            <a:ext cx="7779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 outpu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10360" y="4543560"/>
            <a:ext cx="2352600" cy="1865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7086600" y="4876920"/>
            <a:ext cx="380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924680" y="518148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33840" y="3809880"/>
            <a:ext cx="105120" cy="304920"/>
            <a:chOff x="5433840" y="3809880"/>
            <a:chExt cx="105120" cy="304920"/>
          </a:xfrm>
        </p:grpSpPr>
        <p:sp>
          <p:nvSpPr>
            <p:cNvPr id="221" name=""/>
            <p:cNvSpPr/>
            <p:nvPr/>
          </p:nvSpPr>
          <p:spPr>
            <a:xfrm>
              <a:off x="5486400" y="3809880"/>
              <a:ext cx="5256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33840" y="3809880"/>
              <a:ext cx="5256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334120" y="4114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43434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162920" y="4648320"/>
            <a:ext cx="1219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ide-lob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3840" y="4038480"/>
            <a:ext cx="105120" cy="76320"/>
            <a:chOff x="5433840" y="4038480"/>
            <a:chExt cx="105120" cy="76320"/>
          </a:xfrm>
        </p:grpSpPr>
        <p:sp>
          <p:nvSpPr>
            <p:cNvPr id="227" name=""/>
            <p:cNvSpPr/>
            <p:nvPr/>
          </p:nvSpPr>
          <p:spPr>
            <a:xfrm>
              <a:off x="5486400" y="4038480"/>
              <a:ext cx="52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433840" y="4038480"/>
              <a:ext cx="52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 txBox="1"/>
          <p:nvPr/>
        </p:nvSpPr>
        <p:spPr>
          <a:xfrm>
            <a:off x="6705720" y="39625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chan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05720" y="41911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chan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648320" y="5410080"/>
            <a:ext cx="1600200" cy="2286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905120"/>
            <a:ext cx="10666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Transmission 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828800" y="2286000"/>
            <a:ext cx="9144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2767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8120" y="2590920"/>
            <a:ext cx="838080" cy="4910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343400" y="2666880"/>
            <a:ext cx="1752480" cy="38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343400" y="3124080"/>
            <a:ext cx="175248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666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819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05720" y="1905120"/>
            <a:ext cx="17524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43400" y="227664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2438280"/>
            <a:ext cx="160020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33148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285768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343400" y="18954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057400"/>
            <a:ext cx="289548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057400"/>
            <a:ext cx="609840" cy="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4038480"/>
            <a:ext cx="518148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spreading code correlates with far-out multi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intersymbol interference (I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4 cosets cycl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rrelated ISI for fou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use 8 cosets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ally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to have 2 groups of 4 codes for spatial 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562720" y="4114800"/>
            <a:ext cx="1981080" cy="457200"/>
            <a:chOff x="5562720" y="4114800"/>
            <a:chExt cx="1981080" cy="457200"/>
          </a:xfrm>
        </p:grpSpPr>
        <p:sp>
          <p:nvSpPr>
            <p:cNvPr id="255" name=""/>
            <p:cNvSpPr/>
            <p:nvPr/>
          </p:nvSpPr>
          <p:spPr>
            <a:xfrm>
              <a:off x="5562720" y="45720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15000" y="4114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91320" y="4226040"/>
              <a:ext cx="0" cy="34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7280" y="4267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43600" y="44197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43308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72200" y="421956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4394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24480" y="43308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00800" y="442908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7120" y="44388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446724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5720" y="447984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81680" y="434016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8000" y="4495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0280" y="45115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62920" y="452448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38880" y="453708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5200" y="453060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562720" y="4876920"/>
            <a:ext cx="1981080" cy="457200"/>
            <a:chOff x="5562720" y="4876920"/>
            <a:chExt cx="1981080" cy="457200"/>
          </a:xfrm>
        </p:grpSpPr>
        <p:sp>
          <p:nvSpPr>
            <p:cNvPr id="276" name=""/>
            <p:cNvSpPr/>
            <p:nvPr/>
          </p:nvSpPr>
          <p:spPr>
            <a:xfrm>
              <a:off x="5562720" y="53341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1500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1320" y="4987800"/>
              <a:ext cx="0" cy="34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5181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9920" y="50925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2200" y="498168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51562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50925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00800" y="519120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7120" y="520056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9400" y="522936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5720" y="524196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81680" y="510228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0" y="52578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10280" y="52736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528624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38880" y="52992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152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562720" y="6095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5638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91320" y="574992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5943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58546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606420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606744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603576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00800" y="6058080"/>
            <a:ext cx="0" cy="37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603900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60768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6054840"/>
            <a:ext cx="0" cy="4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4572000"/>
            <a:ext cx="1447920" cy="4572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308640" y="412920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multip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5334120"/>
            <a:ext cx="1752480" cy="53316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 flipH="1">
            <a:off x="5803920" y="3925800"/>
            <a:ext cx="63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803920" y="40021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803920" y="407844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803920" y="4154400"/>
            <a:ext cx="633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160020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343400" y="1828800"/>
            <a:ext cx="175248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828800" y="21337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343400" y="22003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2362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1981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705720" y="1905120"/>
            <a:ext cx="17524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880" y="259092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343400" y="25812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2743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27432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666880" y="1600200"/>
            <a:ext cx="14479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 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1828800"/>
            <a:ext cx="0" cy="30492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124080" y="21337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33520" y="3352680"/>
            <a:ext cx="761760" cy="1447920"/>
            <a:chOff x="533520" y="3352680"/>
            <a:chExt cx="761760" cy="1447920"/>
          </a:xfrm>
        </p:grpSpPr>
        <p:sp>
          <p:nvSpPr>
            <p:cNvPr id="334" name=""/>
            <p:cNvSpPr/>
            <p:nvPr/>
          </p:nvSpPr>
          <p:spPr>
            <a:xfrm>
              <a:off x="533520" y="33526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520" y="34448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4400" y="3506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3520" y="35370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960" y="35989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" y="35370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04840" y="35989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20" y="372276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960" y="372276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4400" y="372276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04840" y="372276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8560" y="378468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9000" y="378468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09800" y="3784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00240" y="3784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520" y="4092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8560" y="4092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960" y="4092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000" y="40924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4400" y="4092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09800" y="4092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04840" y="4092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00240" y="40924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1040" y="4152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6440" y="4152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1480" y="4152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6880" y="4152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1247760" y="4152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152360" y="4152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057320" y="4152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961920" y="4152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104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856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44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96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48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900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6688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440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6192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0980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5732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484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36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0024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47760" y="40924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856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96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900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1440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980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0484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00240" y="3722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3960" y="35370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4400" y="35370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4840" y="35370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14400" y="34448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3520" y="36306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960" y="36910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4400" y="36910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4840" y="36306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960" y="363060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04840" y="363060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520" y="3814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960" y="3814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8768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04840" y="38768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560" y="38768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9000" y="38768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09800" y="3814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00240" y="3814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560" y="38149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3960" y="38149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9000" y="38149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09800" y="38149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04840" y="38149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00240" y="38149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067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960" y="39686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4400" y="390672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04840" y="39686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8560" y="39686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9000" y="390672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09800" y="39686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00240" y="39067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8560" y="39067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19000" y="39067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09800" y="39067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00240" y="39067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4000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3960" y="406080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14400" y="40608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04840" y="400068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8560" y="40608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9000" y="400068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09800" y="4000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00240" y="406080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8560" y="4000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9000" y="4000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4400" y="4000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09800" y="4000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00240" y="4000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3520" y="41846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8560" y="4184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960" y="41846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9000" y="4184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440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980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0484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0024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104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644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48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6880" y="4246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247760" y="41846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152360" y="4184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057320" y="41846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961920" y="4184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104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856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644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396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148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900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6688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6192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0980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0484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5236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0024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47760" y="41846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520" y="4276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8560" y="42768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3960" y="43387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9000" y="43387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4276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09800" y="4276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04840" y="43387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00240" y="43387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1040" y="43387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6440" y="43387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1480" y="4276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6880" y="4276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247760" y="4276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152360" y="42768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057320" y="43387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961920" y="43387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56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644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148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900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6688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6192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0980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5732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5236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0024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47760" y="4276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3520" y="436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8560" y="4368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3960" y="4430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9000" y="44308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14400" y="4430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09800" y="4430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04840" y="436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00240" y="436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1040" y="4430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6440" y="4430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1480" y="436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6880" y="436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247760" y="4430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152360" y="44308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057320" y="436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961920" y="4368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104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856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7644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148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1900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688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1440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6192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0980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5732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5236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0024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7760" y="4368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8560" y="45226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396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9000" y="45226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440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09800" y="4522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00240" y="4522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1040" y="4522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644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480" y="4522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688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24776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152360" y="45226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057320" y="446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961920" y="45226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104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644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148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688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192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5732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5236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47760" y="446256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520" y="45543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560" y="46162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3960" y="45543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9000" y="46162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14400" y="4616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09800" y="45543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04840" y="4616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00240" y="45543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1040" y="4616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6440" y="45543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1480" y="4616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66880" y="45543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247760" y="4616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152360" y="45543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057320" y="4616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961920" y="45543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104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644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148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6688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1440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6192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5236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47760" y="4554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3520" y="46465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560" y="47084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3960" y="4708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9000" y="46465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14400" y="46465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09800" y="4708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04840" y="4708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00240" y="46465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1040" y="4708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6440" y="46465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1480" y="46465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66880" y="4708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47760" y="47084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152360" y="46465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057320" y="46465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961920" y="47084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104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644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96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148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688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1440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6192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732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0484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5236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47760" y="464652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20" y="4738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8560" y="48006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3960" y="48006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19000" y="47386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14400" y="48006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09800" y="4738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04840" y="4738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00240" y="48006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1040" y="48006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6440" y="4738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480" y="4738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66880" y="48006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247760" y="47386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152360" y="48006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057320" y="48006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961920" y="47386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04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44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396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7148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688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6192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5732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0484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5236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47760" y="4738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1447920" y="38862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411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39625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14600" y="4114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14600" y="4038480"/>
            <a:ext cx="15228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33520" y="487692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Walsh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66960" y="4075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5909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743200" y="4114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895480" y="3733920"/>
            <a:ext cx="685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Tx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14600" y="3124080"/>
            <a:ext cx="609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ata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600200" y="3124080"/>
            <a:ext cx="6094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bits data select Walsh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909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209680" y="4890960"/>
            <a:ext cx="762120" cy="61920"/>
            <a:chOff x="2209680" y="4890960"/>
            <a:chExt cx="762120" cy="61920"/>
          </a:xfrm>
        </p:grpSpPr>
        <p:sp>
          <p:nvSpPr>
            <p:cNvPr id="640" name=""/>
            <p:cNvSpPr/>
            <p:nvPr/>
          </p:nvSpPr>
          <p:spPr>
            <a:xfrm>
              <a:off x="2209680" y="4890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05080" y="4952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95520" y="4890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90920" y="4952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85960" y="4890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81360" y="4890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6400" y="49528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57560" y="4952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9080" y="489096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43040" y="49528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924280" y="4890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2828880" y="4952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733840" y="49528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638440" y="4890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5756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5260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4304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3844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3384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8136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2888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24280" y="48909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>
            <a:off x="2209680" y="4952880"/>
            <a:ext cx="685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chip PN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692520" y="40226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I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701880" y="481968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Rx Q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867280" y="38862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867280" y="43434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867280" y="48006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867280" y="52578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48640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486400" y="3657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486400" y="3733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54864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3575160"/>
            <a:ext cx="0" cy="585720"/>
          </a:xfrm>
          <a:prstGeom prst="line">
            <a:avLst/>
          </a:prstGeom>
          <a:ln w="381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7150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715000" y="4038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715000" y="4114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715000" y="4191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629400" y="457200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4 Magn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267680" y="4216320"/>
            <a:ext cx="609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bits data orth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629400" y="4952880"/>
            <a:ext cx="6094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phase with prev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7270920" y="5159520"/>
            <a:ext cx="609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data DP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510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241880" y="5905440"/>
            <a:ext cx="1905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implementation of 16 complex corre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419720" y="3395520"/>
            <a:ext cx="1066680" cy="1989000"/>
            <a:chOff x="4419720" y="3395520"/>
            <a:chExt cx="1066680" cy="1989000"/>
          </a:xfrm>
        </p:grpSpPr>
        <p:sp>
          <p:nvSpPr>
            <p:cNvPr id="687" name=""/>
            <p:cNvSpPr/>
            <p:nvPr/>
          </p:nvSpPr>
          <p:spPr>
            <a:xfrm>
              <a:off x="4495680" y="340344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57800" y="34797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57800" y="37083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7800" y="39369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57800" y="41655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57800" y="43941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57800" y="46227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57800" y="48513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50799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29200" y="359424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29200" y="40543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29200" y="44895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29200" y="49561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7181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0600" y="38257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72000" y="4282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4419720" y="339552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660920" y="3801960"/>
            <a:ext cx="1067040" cy="1989000"/>
            <a:chOff x="4660920" y="3801960"/>
            <a:chExt cx="1067040" cy="1989000"/>
          </a:xfrm>
        </p:grpSpPr>
        <p:sp>
          <p:nvSpPr>
            <p:cNvPr id="705" name=""/>
            <p:cNvSpPr/>
            <p:nvPr/>
          </p:nvSpPr>
          <p:spPr>
            <a:xfrm>
              <a:off x="4737240" y="3809880"/>
              <a:ext cx="99072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99000" y="38862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99000" y="41148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99000" y="4343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99000" y="45720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99000" y="48006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99000" y="50292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99000" y="52578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99000" y="5486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70400" y="4000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70400" y="44607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70400" y="48960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70400" y="53625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41800" y="51246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41800" y="42321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13200" y="468936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4660920" y="380196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lsh correl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1911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80880" y="160020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343400" y="1828800"/>
            <a:ext cx="1752480" cy="304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828800" y="21337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343400" y="2158920"/>
            <a:ext cx="1752480" cy="39384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2362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47920" y="1981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705720" y="1905120"/>
            <a:ext cx="17524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0880" y="259092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343400" y="258120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95880" y="2743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27432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666880" y="1600200"/>
            <a:ext cx="1447920" cy="228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 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29000" y="1828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124080" y="21337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80880" y="4038480"/>
            <a:ext cx="487692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: no PLL, no settl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N codes: no equalizer, no adapta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on SFD &amp; SIGNAL: no CRC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Order-of-magnitude shorter than current DSSS 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971960" y="3800520"/>
            <a:ext cx="3608280" cy="2895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 txBox="1"/>
          <p:nvPr/>
        </p:nvSpPr>
        <p:spPr>
          <a:xfrm>
            <a:off x="5943600" y="3191040"/>
            <a:ext cx="2286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172200" y="3191040"/>
            <a:ext cx="6858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762120" y="3191040"/>
            <a:ext cx="518148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0" y="3191040"/>
            <a:ext cx="6858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108240" y="3527280"/>
            <a:ext cx="1638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  ~2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76920" y="36576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080040" y="2986200"/>
            <a:ext cx="64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70572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94360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62120" y="2986200"/>
            <a:ext cx="4419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 |                                     Search                                      |            Select largest path                 |   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62120" y="36576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867280" y="403848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162920" y="46483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Mbps + existing DSSS 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600200"/>
            <a:ext cx="1066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oherent 16-ary BiOrthogonal Sign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343400" y="1828800"/>
            <a:ext cx="1752480" cy="304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828800" y="2133720"/>
            <a:ext cx="1295280" cy="338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343400" y="2200320"/>
            <a:ext cx="1752480" cy="314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2362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47920" y="1981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705720" y="1905120"/>
            <a:ext cx="17524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958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0880" y="259092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343400" y="2581200"/>
            <a:ext cx="1752480" cy="3142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5880" y="2743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447920" y="27432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666880" y="1600200"/>
            <a:ext cx="1447920" cy="228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” PN Cod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1828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24080" y="21337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0880" y="3657600"/>
            <a:ext cx="617220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-filter detection of 10-Mbps pream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ample/chip; 3-of-3 symbols to boost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an iss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setting slot time (~ 3 symbols detec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 only operates slot time before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mpact on power diss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 performs normal (Rx mode)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 queues correlator (CCA mode) if CSMA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2.4-GHz PAR Proposal</dc:title>
</cp:coreProperties>
</file>