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246460-6FF8-414F-8040-600A1CD6C8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te the interim meeting Monday 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522180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 (802.11b, c and 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Maintenance Std 802.11-1997</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iaison to WINForu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Liaison to WINForum’s SRD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97/46, 97/80</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1 802.1 PAR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97/101</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2 802.11 maintenance PA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97/102</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3 Interpretation requests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