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B54B2796-6423-4DBF-92C7-10F2BFDAC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September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802.11 PHY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Meeting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76520"/>
            <a:ext cx="7772400" cy="42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ptember 8 - 12 interim meeting will be PH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H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follow up on proposal to have a joint meeting with ETSI BRAN in London at the Radio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r of BRAN (Jan Kruys) has a positive reaction and will work with the ETSI organization to attempt to make it hap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volunteer to set up hotel and meeting rooms near to the Radio Agency - Simon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U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hosted by Aironet on September 15 -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Interim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9:45:  Joint PHY coordina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, 1-3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15 - 6:15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- Joint IEEE/ETSI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ETSI/IEEE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join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goals for IEEE/ETSI collaboration in 5.2 GHz wireless standar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HY, different 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802.11 MAC devic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/BRAN positions on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Joint Meeting Agenda (cont,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nd types of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and interferenc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vs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rop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MAC/PHY Mod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5105520"/>
            <a:ext cx="2438280" cy="533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1960" y="516564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65320" y="41911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4320" y="4191120"/>
            <a:ext cx="198108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6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604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5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8484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5800" y="424332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54800" y="4243320"/>
            <a:ext cx="194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95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943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48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96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68600" y="3138480"/>
            <a:ext cx="19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859360" y="3138480"/>
            <a:ext cx="1971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9520" y="2316240"/>
            <a:ext cx="259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494320" y="2057400"/>
            <a:ext cx="2666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connectionless and connection orien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80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2960" y="42973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2960" y="3154320"/>
            <a:ext cx="85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