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6BB109-4A70-486D-A168-AEBAA2E0F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hat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s the parameters of connection or informs the nomad of loss of paramet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the nomad transfers from one communications system to another. This hand-off may occur within a network, between networks, or between different types of network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hat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s nomads and their applian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ncluded in this need is a requirement to track th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ity of capabilities and servi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quired by the nom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re is a need to uniquely address all appliances used by the nomad and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operating characteristics of these applian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ppliance characteristics, devices, and their services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9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if communications for a nomad needs to be deliver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mediately or if the communications can be spooled or deferred. Further, if the nomad is to receive the communication, the mechanism needs to determine the appropriate destination device and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in which to send the com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provid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&amp; efficient rout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 that data can be routed effectively to the nom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ly identify nomads and their devi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cluding the need to allow anonymous identities.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Ids (anonymous provision), Device Ids (minimum identification requi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network service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track and support the current context of the nomad's activiti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cluding the nomad's default or dominant cont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and privacy needs should be supported in the nomadic environment, or the nomad must be informed if required protection mechanisms are not availab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t is important that the implementation of security features i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d to the capabilities of the network and the applian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.g., a low bandwidth network with a battery-powered applianc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allow the nomad or application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communications service most appropriate for the func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carried ou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for establishing, validating, and enforcing various persona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equired. This capability enables billing, quality of service, call filtering, etc., to be determined based on perso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 contingencies for the unavailability or non-validity of servi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quired by the nomad's persona, application, or servic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for a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-to-logical network mapp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nomad and the NII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320" y="640080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9"/>
              </a:spcBef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ed by American National Standards Inst. (ANS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5680" y="76320"/>
            <a:ext cx="433404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600200" y="266688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- Identifying GII Standards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 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914400"/>
            <a:ext cx="861048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ck Hayden - Director, Information Infrastructur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 212-642-4920 or Email: chayden@ansi.or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B. Lefkin -Program Manager, Information Infrastructu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 212-642-4979 or Email: plefkin@ans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 National Standards Institute (AN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West 42nd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York, NY  100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: 212-642-4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212-398-0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ansi.org/iis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5724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SP 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7621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and accelerate the cross-industry coordination of national and global voluntary standards for the deployment of the information infrastru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is a coordinating and facilitating function to bring all players to the table to identify GII standards requirements or needs ("gaps" in existing standar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was established by ANSI in mid-1994 to ensure the rapid deployment of the NII/G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sector initiative - Support and involvement of gover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SP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066680"/>
            <a:ext cx="86868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and Non-ANSI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Developers, Industry Associations, Consortia, Architecture Groups, Companies, and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-Industry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, Telecommunications, Software, Cable, Cellular, Satellite, Broadcast, and Entertainment industries are all represented in II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 fund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ees from the participating organ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704880"/>
            <a:ext cx="7772400" cy="10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Participants</a:t>
            </a:r>
            <a:br>
              <a:rPr sz="44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66680" y="1295280"/>
            <a:ext cx="3886200" cy="51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tech Corp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 Incorpor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 Computer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&amp;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e Television Lab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q Computer Corp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search Associate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Equipment Corp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csson Corpo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ance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wlett-Packard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ton Associ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ectual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57800" y="1219320"/>
            <a:ext cx="32004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aton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I Communications Cor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orola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t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mens A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s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erox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320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7632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Participants</a:t>
            </a:r>
            <a:br>
              <a:rPr sz="44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143000"/>
            <a:ext cx="3352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HI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 X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C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I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SS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Clearance Ctr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I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05320" y="114300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WOS                              T1 - Telecommun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FES                                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SG                               TSA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Americ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Code Counc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D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I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W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T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/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U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e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U - Applied Research Labora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Participants</a:t>
            </a:r>
            <a:br>
              <a:rPr sz="44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overnmen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43000" y="1371600"/>
            <a:ext cx="73152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 - Defense Information Systems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A - Environmental Protection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- Federal Communications Com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S - National Communications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T - National Inst. of Stds. &amp;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 Lewis Research Cen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A - National Security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 Army CECOM Res. Dev. and Eng. Ct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Department of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143000" y="461880"/>
            <a:ext cx="6419880" cy="630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Standards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to Application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to Device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Computer (User)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to Device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to Network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(Industry)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ic Publis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igent Transpor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adi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320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adicity Standards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86 - Nomadicity: Hand-Off Mechan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87 - Nomadicity: Person / Device 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88 - Nomadicity: Device Coord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89 - Nomadicity: Communications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0 - Nomadicity: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1 - Nomadicity: Unique and Anonymous 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2 - Nomadicity: Context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3 - Nomadicity: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4 - Nomadicity: Dynamic Service Al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5 - Nomadicity: Persona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6 - Nomadicity: Exception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7 - Nomadicity: Logical Network / Infrastructure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320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7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997 IISP Cale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66680" y="14479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30-31, 1997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Key Bridge Marriot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tel - Arlington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5 - 26, 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mbassy Suites Hotel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ria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18 - 19, 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mbassy Suites Hotel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ria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 20 - 21, 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mbassy Suites Hotel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ria, 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5 - 6, 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mbassy Suites Hotel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ria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rge Fishel</dc:creator>
  <dc:description/>
  <dc:language>en-US</dc:language>
  <cp:lastModifiedBy>George Fishel</cp:lastModifiedBy>
  <cp:revision>0</cp:revision>
  <dc:subject/>
  <dc:title>IISP - Identifying GII Standards Requirements</dc:title>
</cp:coreProperties>
</file>