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403200"/>
            <a:ext cx="793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                                                                                                                        Doc: IEEE P802.11/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324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828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10-Mbps: MOD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3886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kefield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57360" y="3048120"/>
            <a:ext cx="74304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O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76520" y="3048120"/>
            <a:ext cx="15228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3200400"/>
            <a:ext cx="1522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0574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600200" y="39625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S/S-P shift 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097000" y="3259080"/>
            <a:ext cx="316440" cy="274680"/>
            <a:chOff x="2097000" y="3259080"/>
            <a:chExt cx="316440" cy="274680"/>
          </a:xfrm>
        </p:grpSpPr>
        <p:sp>
          <p:nvSpPr>
            <p:cNvPr id="463" name=""/>
            <p:cNvSpPr txBox="1"/>
            <p:nvPr/>
          </p:nvSpPr>
          <p:spPr>
            <a:xfrm>
              <a:off x="2097000" y="325908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22560" y="3279600"/>
              <a:ext cx="290880" cy="228960"/>
            </a:xfrm>
            <a:custGeom>
              <a:avLst/>
              <a:gdLst/>
              <a:ahLst/>
              <a:rect l="0" t="0" r="r" b="b"/>
              <a:pathLst>
                <a:path fill="none" w="808" h="636">
                  <a:moveTo>
                    <a:pt x="0" y="127"/>
                  </a:moveTo>
                  <a:lnTo>
                    <a:pt x="0" y="508"/>
                  </a:lnTo>
                  <a:lnTo>
                    <a:pt x="565" y="508"/>
                  </a:lnTo>
                  <a:lnTo>
                    <a:pt x="565" y="636"/>
                  </a:lnTo>
                  <a:lnTo>
                    <a:pt x="808" y="317"/>
                  </a:lnTo>
                  <a:lnTo>
                    <a:pt x="565" y="0"/>
                  </a:lnTo>
                  <a:lnTo>
                    <a:pt x="565" y="127"/>
                  </a:lnTo>
                  <a:lnTo>
                    <a:pt x="0" y="1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366920" y="3176640"/>
            <a:ext cx="316080" cy="274680"/>
            <a:chOff x="1366920" y="3176640"/>
            <a:chExt cx="316080" cy="274680"/>
          </a:xfrm>
        </p:grpSpPr>
        <p:sp>
          <p:nvSpPr>
            <p:cNvPr id="466" name=""/>
            <p:cNvSpPr/>
            <p:nvPr/>
          </p:nvSpPr>
          <p:spPr>
            <a:xfrm>
              <a:off x="1392120" y="3197160"/>
              <a:ext cx="290880" cy="228960"/>
            </a:xfrm>
            <a:custGeom>
              <a:avLst/>
              <a:gdLst/>
              <a:ahLst/>
              <a:rect l="0" t="0" r="r" b="b"/>
              <a:pathLst>
                <a:path fill="none" w="808" h="636">
                  <a:moveTo>
                    <a:pt x="0" y="127"/>
                  </a:moveTo>
                  <a:lnTo>
                    <a:pt x="0" y="508"/>
                  </a:lnTo>
                  <a:lnTo>
                    <a:pt x="565" y="508"/>
                  </a:lnTo>
                  <a:lnTo>
                    <a:pt x="565" y="636"/>
                  </a:lnTo>
                  <a:lnTo>
                    <a:pt x="808" y="317"/>
                  </a:lnTo>
                  <a:lnTo>
                    <a:pt x="565" y="0"/>
                  </a:lnTo>
                  <a:lnTo>
                    <a:pt x="565" y="127"/>
                  </a:lnTo>
                  <a:lnTo>
                    <a:pt x="0" y="1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366920" y="317664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 txBox="1"/>
          <p:nvPr/>
        </p:nvSpPr>
        <p:spPr>
          <a:xfrm>
            <a:off x="2409840" y="3048120"/>
            <a:ext cx="942840" cy="6858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 Sub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282840" y="3176640"/>
            <a:ext cx="970200" cy="371520"/>
            <a:chOff x="3282840" y="3176640"/>
            <a:chExt cx="970200" cy="371520"/>
          </a:xfrm>
        </p:grpSpPr>
        <p:sp>
          <p:nvSpPr>
            <p:cNvPr id="470" name=""/>
            <p:cNvSpPr txBox="1"/>
            <p:nvPr/>
          </p:nvSpPr>
          <p:spPr>
            <a:xfrm>
              <a:off x="3282840" y="325908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911760" y="327348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343320" y="3305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43320" y="33051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43320" y="3476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486240" y="3181320"/>
              <a:ext cx="352440" cy="12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533760" y="3176640"/>
              <a:ext cx="318960" cy="162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40240" y="3338640"/>
              <a:ext cx="56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4105440" y="3306600"/>
              <a:ext cx="14760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100400" y="3405240"/>
              <a:ext cx="14760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5440" y="330192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100400" y="34783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 txBox="1"/>
          <p:nvPr/>
        </p:nvSpPr>
        <p:spPr>
          <a:xfrm>
            <a:off x="4314960" y="2743200"/>
            <a:ext cx="6382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238640" y="3200400"/>
            <a:ext cx="79056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fn. 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809880" y="28954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029200" y="4267080"/>
            <a:ext cx="99072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410080" y="3276720"/>
            <a:ext cx="304920" cy="304920"/>
            <a:chOff x="5410080" y="3276720"/>
            <a:chExt cx="304920" cy="304920"/>
          </a:xfrm>
        </p:grpSpPr>
        <p:sp>
          <p:nvSpPr>
            <p:cNvPr id="487" name=""/>
            <p:cNvSpPr/>
            <p:nvPr/>
          </p:nvSpPr>
          <p:spPr>
            <a:xfrm>
              <a:off x="5410080" y="327672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86400" y="33526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8640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27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0292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562720" y="3581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895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429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72200" y="2590920"/>
            <a:ext cx="10666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Transmit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438280" y="37339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(15,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933720" y="4191120"/>
            <a:ext cx="6382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800600" y="365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Walsh Corre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638680" y="19717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638680" y="24289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638680" y="28861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638680" y="33433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638680" y="38005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638680" y="42577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638680" y="47149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638680" y="51721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0" y="22003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0" y="31147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0" y="40291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0" y="49435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438280" y="35719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505320" y="26575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505320" y="4486320"/>
            <a:ext cx="314280" cy="46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181480" y="2133720"/>
            <a:ext cx="457200" cy="75960"/>
            <a:chOff x="5181480" y="2133720"/>
            <a:chExt cx="457200" cy="75960"/>
          </a:xfrm>
        </p:grpSpPr>
        <p:sp>
          <p:nvSpPr>
            <p:cNvPr id="518" name=""/>
            <p:cNvSpPr/>
            <p:nvPr/>
          </p:nvSpPr>
          <p:spPr>
            <a:xfrm>
              <a:off x="5181480" y="2209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86400" y="2209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5334120" y="21337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181480" y="2590920"/>
            <a:ext cx="457200" cy="75960"/>
            <a:chOff x="5181480" y="2590920"/>
            <a:chExt cx="457200" cy="75960"/>
          </a:xfrm>
        </p:grpSpPr>
        <p:sp>
          <p:nvSpPr>
            <p:cNvPr id="522" name=""/>
            <p:cNvSpPr/>
            <p:nvPr/>
          </p:nvSpPr>
          <p:spPr>
            <a:xfrm>
              <a:off x="5181480" y="2666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86400" y="2666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5334120" y="25909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181480" y="3048120"/>
            <a:ext cx="457200" cy="75960"/>
            <a:chOff x="5181480" y="3048120"/>
            <a:chExt cx="457200" cy="75960"/>
          </a:xfrm>
        </p:grpSpPr>
        <p:sp>
          <p:nvSpPr>
            <p:cNvPr id="526" name=""/>
            <p:cNvSpPr/>
            <p:nvPr/>
          </p:nvSpPr>
          <p:spPr>
            <a:xfrm>
              <a:off x="5181480" y="3124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86400" y="3124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5334120" y="30481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181480" y="3505320"/>
            <a:ext cx="457200" cy="75960"/>
            <a:chOff x="5181480" y="3505320"/>
            <a:chExt cx="457200" cy="75960"/>
          </a:xfrm>
        </p:grpSpPr>
        <p:sp>
          <p:nvSpPr>
            <p:cNvPr id="530" name=""/>
            <p:cNvSpPr/>
            <p:nvPr/>
          </p:nvSpPr>
          <p:spPr>
            <a:xfrm>
              <a:off x="5181480" y="35812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86400" y="358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5334120" y="35053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181480" y="3962520"/>
            <a:ext cx="457200" cy="75960"/>
            <a:chOff x="5181480" y="3962520"/>
            <a:chExt cx="457200" cy="75960"/>
          </a:xfrm>
        </p:grpSpPr>
        <p:sp>
          <p:nvSpPr>
            <p:cNvPr id="534" name=""/>
            <p:cNvSpPr/>
            <p:nvPr/>
          </p:nvSpPr>
          <p:spPr>
            <a:xfrm>
              <a:off x="5181480" y="40384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86400" y="4038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5334120" y="39625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181480" y="4419720"/>
            <a:ext cx="457200" cy="75960"/>
            <a:chOff x="5181480" y="4419720"/>
            <a:chExt cx="457200" cy="75960"/>
          </a:xfrm>
        </p:grpSpPr>
        <p:sp>
          <p:nvSpPr>
            <p:cNvPr id="538" name=""/>
            <p:cNvSpPr/>
            <p:nvPr/>
          </p:nvSpPr>
          <p:spPr>
            <a:xfrm>
              <a:off x="5181480" y="4495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495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5334120" y="44197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181480" y="4876920"/>
            <a:ext cx="457200" cy="75960"/>
            <a:chOff x="5181480" y="4876920"/>
            <a:chExt cx="457200" cy="75960"/>
          </a:xfrm>
        </p:grpSpPr>
        <p:sp>
          <p:nvSpPr>
            <p:cNvPr id="542" name=""/>
            <p:cNvSpPr/>
            <p:nvPr/>
          </p:nvSpPr>
          <p:spPr>
            <a:xfrm>
              <a:off x="5181480" y="4952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6400" y="4952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5334120" y="48769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181480" y="5334120"/>
            <a:ext cx="457200" cy="75960"/>
            <a:chOff x="5181480" y="5334120"/>
            <a:chExt cx="457200" cy="75960"/>
          </a:xfrm>
        </p:grpSpPr>
        <p:sp>
          <p:nvSpPr>
            <p:cNvPr id="546" name=""/>
            <p:cNvSpPr/>
            <p:nvPr/>
          </p:nvSpPr>
          <p:spPr>
            <a:xfrm>
              <a:off x="5181480" y="5410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86400" y="5410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5334120" y="53341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876920" y="2209680"/>
            <a:ext cx="304560" cy="457200"/>
            <a:chOff x="4876920" y="2209680"/>
            <a:chExt cx="304560" cy="457200"/>
          </a:xfrm>
        </p:grpSpPr>
        <p:sp>
          <p:nvSpPr>
            <p:cNvPr id="550" name=""/>
            <p:cNvSpPr/>
            <p:nvPr/>
          </p:nvSpPr>
          <p:spPr>
            <a:xfrm>
              <a:off x="5181480" y="22096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76920" y="22860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6920" y="2590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1480" y="25909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876920" y="3124080"/>
            <a:ext cx="304560" cy="457200"/>
            <a:chOff x="4876920" y="3124080"/>
            <a:chExt cx="304560" cy="457200"/>
          </a:xfrm>
        </p:grpSpPr>
        <p:sp>
          <p:nvSpPr>
            <p:cNvPr id="555" name=""/>
            <p:cNvSpPr/>
            <p:nvPr/>
          </p:nvSpPr>
          <p:spPr>
            <a:xfrm>
              <a:off x="5181480" y="3124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6920" y="32004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6920" y="35053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81480" y="35053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76920" y="4038480"/>
            <a:ext cx="304560" cy="457200"/>
            <a:chOff x="4876920" y="4038480"/>
            <a:chExt cx="304560" cy="457200"/>
          </a:xfrm>
        </p:grpSpPr>
        <p:sp>
          <p:nvSpPr>
            <p:cNvPr id="560" name=""/>
            <p:cNvSpPr/>
            <p:nvPr/>
          </p:nvSpPr>
          <p:spPr>
            <a:xfrm>
              <a:off x="5181480" y="4038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6920" y="4114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6920" y="44197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81480" y="44197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76920" y="4952880"/>
            <a:ext cx="304560" cy="457200"/>
            <a:chOff x="4876920" y="4952880"/>
            <a:chExt cx="304560" cy="457200"/>
          </a:xfrm>
        </p:grpSpPr>
        <p:sp>
          <p:nvSpPr>
            <p:cNvPr id="565" name=""/>
            <p:cNvSpPr/>
            <p:nvPr/>
          </p:nvSpPr>
          <p:spPr>
            <a:xfrm>
              <a:off x="5181480" y="49528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76920" y="5029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76920" y="53341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81480" y="53341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114800" y="2362320"/>
            <a:ext cx="457200" cy="75960"/>
            <a:chOff x="4114800" y="2362320"/>
            <a:chExt cx="457200" cy="75960"/>
          </a:xfrm>
        </p:grpSpPr>
        <p:sp>
          <p:nvSpPr>
            <p:cNvPr id="570" name=""/>
            <p:cNvSpPr/>
            <p:nvPr/>
          </p:nvSpPr>
          <p:spPr>
            <a:xfrm>
              <a:off x="4114800" y="2438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19720" y="2438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4267080" y="236232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114800" y="3276720"/>
            <a:ext cx="457200" cy="75960"/>
            <a:chOff x="4114800" y="3276720"/>
            <a:chExt cx="457200" cy="75960"/>
          </a:xfrm>
        </p:grpSpPr>
        <p:sp>
          <p:nvSpPr>
            <p:cNvPr id="574" name=""/>
            <p:cNvSpPr/>
            <p:nvPr/>
          </p:nvSpPr>
          <p:spPr>
            <a:xfrm>
              <a:off x="4114800" y="335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9720" y="335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4267080" y="327672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114800" y="4191120"/>
            <a:ext cx="457200" cy="75960"/>
            <a:chOff x="4114800" y="4191120"/>
            <a:chExt cx="457200" cy="75960"/>
          </a:xfrm>
        </p:grpSpPr>
        <p:sp>
          <p:nvSpPr>
            <p:cNvPr id="578" name=""/>
            <p:cNvSpPr/>
            <p:nvPr/>
          </p:nvSpPr>
          <p:spPr>
            <a:xfrm>
              <a:off x="4114800" y="4267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19720" y="4267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4267080" y="419112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114800" y="5105520"/>
            <a:ext cx="457200" cy="75960"/>
            <a:chOff x="4114800" y="5105520"/>
            <a:chExt cx="457200" cy="75960"/>
          </a:xfrm>
        </p:grpSpPr>
        <p:sp>
          <p:nvSpPr>
            <p:cNvPr id="582" name=""/>
            <p:cNvSpPr/>
            <p:nvPr/>
          </p:nvSpPr>
          <p:spPr>
            <a:xfrm>
              <a:off x="4114800" y="5181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19720" y="5181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4267080" y="510552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114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2743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988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4267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048120" y="2819520"/>
            <a:ext cx="457200" cy="75960"/>
            <a:chOff x="3048120" y="2819520"/>
            <a:chExt cx="457200" cy="75960"/>
          </a:xfrm>
        </p:grpSpPr>
        <p:sp>
          <p:nvSpPr>
            <p:cNvPr id="594" name=""/>
            <p:cNvSpPr/>
            <p:nvPr/>
          </p:nvSpPr>
          <p:spPr>
            <a:xfrm>
              <a:off x="304812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52680" y="28954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3200400" y="28195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048120" y="4648320"/>
            <a:ext cx="457200" cy="75960"/>
            <a:chOff x="3048120" y="4648320"/>
            <a:chExt cx="457200" cy="75960"/>
          </a:xfrm>
        </p:grpSpPr>
        <p:sp>
          <p:nvSpPr>
            <p:cNvPr id="598" name=""/>
            <p:cNvSpPr/>
            <p:nvPr/>
          </p:nvSpPr>
          <p:spPr>
            <a:xfrm>
              <a:off x="3048120" y="4724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52680" y="47242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3200400" y="46483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0481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43200" y="3657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4320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48120" y="3962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981080" y="3733920"/>
            <a:ext cx="457200" cy="75960"/>
            <a:chOff x="1981080" y="3733920"/>
            <a:chExt cx="457200" cy="75960"/>
          </a:xfrm>
        </p:grpSpPr>
        <p:sp>
          <p:nvSpPr>
            <p:cNvPr id="606" name=""/>
            <p:cNvSpPr/>
            <p:nvPr/>
          </p:nvSpPr>
          <p:spPr>
            <a:xfrm>
              <a:off x="1981080" y="3809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3809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2133720" y="37339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041560" y="3855960"/>
            <a:ext cx="279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3246480"/>
            <a:ext cx="1066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or Q Baseband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ample/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32280" y="4770360"/>
            <a:ext cx="398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098960" y="5227560"/>
            <a:ext cx="398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165640" y="5532480"/>
            <a:ext cx="398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43600" y="2057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94360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3600" y="2971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43600" y="3429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43600" y="3886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43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436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943600" y="23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360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4360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943600" y="41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4360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4360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94360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400800" y="3352680"/>
            <a:ext cx="16765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Walsh-Function Symbol Cor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Half the Power of 16 Independent Corre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86400" y="5867280"/>
            <a:ext cx="129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Accum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cked at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981080" y="5867280"/>
            <a:ext cx="129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ccum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t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cked at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2080" y="2865600"/>
            <a:ext cx="738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676520" y="3657600"/>
            <a:ext cx="304920" cy="304920"/>
            <a:chOff x="1676520" y="3657600"/>
            <a:chExt cx="304920" cy="304920"/>
          </a:xfrm>
        </p:grpSpPr>
        <p:sp>
          <p:nvSpPr>
            <p:cNvPr id="636" name=""/>
            <p:cNvSpPr/>
            <p:nvPr/>
          </p:nvSpPr>
          <p:spPr>
            <a:xfrm>
              <a:off x="1676520" y="36576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52480" y="37339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1752480" y="37339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219320" y="3733920"/>
            <a:ext cx="457200" cy="75960"/>
            <a:chOff x="1219320" y="3733920"/>
            <a:chExt cx="457200" cy="75960"/>
          </a:xfrm>
        </p:grpSpPr>
        <p:sp>
          <p:nvSpPr>
            <p:cNvPr id="640" name=""/>
            <p:cNvSpPr/>
            <p:nvPr/>
          </p:nvSpPr>
          <p:spPr>
            <a:xfrm>
              <a:off x="1219320" y="3809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23880" y="3809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1371600" y="373392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1355760" y="3855960"/>
            <a:ext cx="279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5548320" y="4031640"/>
            <a:ext cx="532440" cy="527760"/>
          </a:xfrm>
          <a:custGeom>
            <a:avLst/>
            <a:gdLst/>
            <a:ahLst/>
            <a:rect l="0" t="0" r="r" b="b"/>
            <a:pathLst>
              <a:path fill="none" w="1479" h="1466">
                <a:moveTo>
                  <a:pt x="1479" y="283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ubicBezTo>
                  <a:pt x="-22" y="208"/>
                  <a:pt x="5" y="425"/>
                  <a:pt x="99" y="629"/>
                </a:cubicBezTo>
                <a:cubicBezTo>
                  <a:pt x="192" y="834"/>
                  <a:pt x="347" y="1019"/>
                  <a:pt x="549" y="1166"/>
                </a:cubicBezTo>
                <a:cubicBezTo>
                  <a:pt x="751" y="1312"/>
                  <a:pt x="992" y="1416"/>
                  <a:pt x="1249" y="1466"/>
                </a:cubicBezTo>
                <a:lnTo>
                  <a:pt x="1250" y="146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62720" y="358128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emod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590840" y="1600200"/>
            <a:ext cx="933480" cy="22860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Walsh Symbol Corre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66760" y="2513160"/>
            <a:ext cx="979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28195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590840" y="4105440"/>
            <a:ext cx="933480" cy="22953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Walsh Symbol Corre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82600" y="4975200"/>
            <a:ext cx="9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66680" y="52578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114720" y="1600200"/>
            <a:ext cx="933480" cy="4800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 Channel-by-Channel Magnitu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termine larg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086360" y="4402080"/>
            <a:ext cx="6508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 of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232240" y="3098880"/>
            <a:ext cx="784080" cy="5079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086360" y="3335400"/>
            <a:ext cx="8668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Amplitude of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384880" y="2184480"/>
            <a:ext cx="555480" cy="3556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23623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638680" y="252720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686560" y="2496960"/>
            <a:ext cx="8668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Complex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276960" y="41734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048200" y="41878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42195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038480" y="439092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5981760" y="4095720"/>
            <a:ext cx="352440" cy="12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967360" y="4091040"/>
            <a:ext cx="319320" cy="16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038480" y="4253040"/>
            <a:ext cx="2241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49840" y="35924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6480000" y="4146480"/>
            <a:ext cx="14940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480000" y="4317840"/>
            <a:ext cx="147960" cy="157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477120" y="4140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477120" y="439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146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14600" y="1752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14600" y="1905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14600" y="2057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14600" y="2514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14600" y="2666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14600" y="2819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460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1460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14600" y="3429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3733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514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4267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1460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146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14600" y="4724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4876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14600" y="5029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14600" y="5181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14600" y="5486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51460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14600" y="5791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943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6095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51460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14600" y="6400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676920" y="3944880"/>
            <a:ext cx="11714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bit Demodulated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508800" y="3070080"/>
            <a:ext cx="857160" cy="7174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8088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s: 32K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us compli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t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Coset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8 C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Cosets Having Low Near-In Crosscorrelation Side L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619520" y="1938240"/>
            <a:ext cx="450216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622760" y="1940040"/>
            <a:ext cx="339840" cy="382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05400" y="5505480"/>
            <a:ext cx="638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713640" y="3284640"/>
            <a:ext cx="44604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057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162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53080" y="3276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553080" y="3581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48320" y="44197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6483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odulat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in Multipath and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dB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Match to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onal FEC + Good PN Codes (Multipa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vs. Multipath Inter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1752480"/>
            <a:ext cx="1752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mpuls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666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876920" y="16765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105520" y="2133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0120" y="1803240"/>
            <a:ext cx="982800" cy="853200"/>
          </a:xfrm>
          <a:custGeom>
            <a:avLst/>
            <a:gdLst/>
            <a:ahLst/>
            <a:rect l="0" t="0" r="r" b="b"/>
            <a:pathLst>
              <a:path fill="none" w="2730" h="2370">
                <a:moveTo>
                  <a:pt x="0" y="0"/>
                </a:moveTo>
                <a:lnTo>
                  <a:pt x="0" y="0"/>
                </a:lnTo>
                <a:cubicBezTo>
                  <a:pt x="49" y="350"/>
                  <a:pt x="166" y="687"/>
                  <a:pt x="343" y="993"/>
                </a:cubicBezTo>
                <a:cubicBezTo>
                  <a:pt x="584" y="1412"/>
                  <a:pt x="933" y="1759"/>
                  <a:pt x="1352" y="2001"/>
                </a:cubicBezTo>
                <a:cubicBezTo>
                  <a:pt x="1771" y="2243"/>
                  <a:pt x="2246" y="2370"/>
                  <a:pt x="2730" y="237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59360" y="1803240"/>
            <a:ext cx="2208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elope of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ponse vs.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486400" y="19810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57400" y="289548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waveform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505320"/>
            <a:ext cx="1295640" cy="228960"/>
          </a:xfrm>
          <a:custGeom>
            <a:avLst/>
            <a:gdLst/>
            <a:ahLst/>
            <a:rect l="0" t="0" r="r" b="b"/>
            <a:pathLst>
              <a:path w="3599" h="636">
                <a:moveTo>
                  <a:pt x="0" y="636"/>
                </a:moveTo>
                <a:lnTo>
                  <a:pt x="3599" y="636"/>
                </a:lnTo>
                <a:lnTo>
                  <a:pt x="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505320"/>
            <a:ext cx="1295640" cy="228960"/>
          </a:xfrm>
          <a:custGeom>
            <a:avLst/>
            <a:gdLst/>
            <a:ahLst/>
            <a:rect l="0" t="0" r="r" b="b"/>
            <a:pathLst>
              <a:path w="3599" h="636">
                <a:moveTo>
                  <a:pt x="0" y="636"/>
                </a:moveTo>
                <a:lnTo>
                  <a:pt x="3599" y="636"/>
                </a:lnTo>
                <a:lnTo>
                  <a:pt x="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330880" y="2895480"/>
            <a:ext cx="79200" cy="62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410080" y="2895480"/>
            <a:ext cx="77760" cy="62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95640" y="2870280"/>
            <a:ext cx="90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-l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69200" y="2870280"/>
            <a:ext cx="8366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-l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943600" y="30481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57400" y="4038480"/>
            <a:ext cx="205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 waveform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50532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7339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43400" y="3887640"/>
            <a:ext cx="2590920" cy="989640"/>
            <a:chOff x="4343400" y="3887640"/>
            <a:chExt cx="2590920" cy="989640"/>
          </a:xfrm>
        </p:grpSpPr>
        <p:sp>
          <p:nvSpPr>
            <p:cNvPr id="65" name=""/>
            <p:cNvSpPr/>
            <p:nvPr/>
          </p:nvSpPr>
          <p:spPr>
            <a:xfrm>
              <a:off x="5638680" y="4606920"/>
              <a:ext cx="1295640" cy="270360"/>
            </a:xfrm>
            <a:custGeom>
              <a:avLst/>
              <a:gdLst/>
              <a:ahLst/>
              <a:rect l="0" t="0" r="r" b="b"/>
              <a:pathLst>
                <a:path w="3599" h="751">
                  <a:moveTo>
                    <a:pt x="0" y="751"/>
                  </a:moveTo>
                  <a:lnTo>
                    <a:pt x="3599" y="751"/>
                  </a:lnTo>
                  <a:lnTo>
                    <a:pt x="0" y="0"/>
                  </a:lnTo>
                  <a:lnTo>
                    <a:pt x="0" y="7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3400" y="4606920"/>
              <a:ext cx="1295640" cy="270360"/>
            </a:xfrm>
            <a:custGeom>
              <a:avLst/>
              <a:gdLst/>
              <a:ahLst/>
              <a:rect l="0" t="0" r="r" b="b"/>
              <a:pathLst>
                <a:path w="3599" h="751">
                  <a:moveTo>
                    <a:pt x="0" y="751"/>
                  </a:moveTo>
                  <a:lnTo>
                    <a:pt x="3599" y="751"/>
                  </a:lnTo>
                  <a:lnTo>
                    <a:pt x="0" y="0"/>
                  </a:lnTo>
                  <a:lnTo>
                    <a:pt x="0" y="7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559480" y="3887640"/>
              <a:ext cx="79200" cy="74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638680" y="3887640"/>
              <a:ext cx="77760" cy="736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606920"/>
              <a:ext cx="15228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487692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867280" y="4730760"/>
            <a:ext cx="1295640" cy="146520"/>
          </a:xfrm>
          <a:custGeom>
            <a:avLst/>
            <a:gdLst/>
            <a:ahLst/>
            <a:rect l="0" t="0" r="r" b="b"/>
            <a:pathLst>
              <a:path w="3599" h="407">
                <a:moveTo>
                  <a:pt x="0" y="407"/>
                </a:moveTo>
                <a:lnTo>
                  <a:pt x="3599" y="407"/>
                </a:lnTo>
                <a:lnTo>
                  <a:pt x="0" y="0"/>
                </a:lnTo>
                <a:lnTo>
                  <a:pt x="0" y="407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730760"/>
            <a:ext cx="1295640" cy="146520"/>
          </a:xfrm>
          <a:custGeom>
            <a:avLst/>
            <a:gdLst/>
            <a:ahLst/>
            <a:rect l="0" t="0" r="r" b="b"/>
            <a:pathLst>
              <a:path w="3599" h="407">
                <a:moveTo>
                  <a:pt x="0" y="407"/>
                </a:moveTo>
                <a:lnTo>
                  <a:pt x="3599" y="407"/>
                </a:lnTo>
                <a:lnTo>
                  <a:pt x="0" y="0"/>
                </a:lnTo>
                <a:lnTo>
                  <a:pt x="0" y="407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88080" y="4341960"/>
            <a:ext cx="79200" cy="40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867280" y="4341960"/>
            <a:ext cx="77760" cy="39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8769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2560" y="5153040"/>
            <a:ext cx="7854840" cy="1092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symbol Interference Mitigation De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Processing Gain to Avoid High “Irreducible Error R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More Bits/Symbol for Required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985000" y="4013280"/>
            <a:ext cx="24732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-lobe of multipath signal interferes with main-lobe of direct-path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90920" y="1752480"/>
            <a:ext cx="358128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View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971800" y="2286000"/>
            <a:ext cx="457200" cy="1066680"/>
            <a:chOff x="2971800" y="2286000"/>
            <a:chExt cx="457200" cy="1066680"/>
          </a:xfrm>
        </p:grpSpPr>
        <p:sp>
          <p:nvSpPr>
            <p:cNvPr id="81" name=""/>
            <p:cNvSpPr/>
            <p:nvPr/>
          </p:nvSpPr>
          <p:spPr>
            <a:xfrm>
              <a:off x="2971800" y="2286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2743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048120" y="228600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10080" y="2286000"/>
            <a:ext cx="457200" cy="1066680"/>
            <a:chOff x="5410080" y="2286000"/>
            <a:chExt cx="457200" cy="1066680"/>
          </a:xfrm>
        </p:grpSpPr>
        <p:sp>
          <p:nvSpPr>
            <p:cNvPr id="85" name=""/>
            <p:cNvSpPr/>
            <p:nvPr/>
          </p:nvSpPr>
          <p:spPr>
            <a:xfrm>
              <a:off x="5410080" y="2286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8680" y="2743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5486400" y="228600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460440" y="1955880"/>
            <a:ext cx="1974960" cy="1055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04040" y="1955880"/>
            <a:ext cx="1974960" cy="1055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d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53040" y="2300400"/>
            <a:ext cx="35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514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70360" y="3375000"/>
            <a:ext cx="10778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noi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375000"/>
            <a:ext cx="90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13360" y="3375000"/>
            <a:ext cx="11318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sp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19520" y="41911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Spread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514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2760" y="4670280"/>
            <a:ext cx="2060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noise plus sp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and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480" y="5715000"/>
            <a:ext cx="3048120" cy="655560"/>
            <a:chOff x="609480" y="5715000"/>
            <a:chExt cx="3048120" cy="655560"/>
          </a:xfrm>
        </p:grpSpPr>
        <p:sp>
          <p:nvSpPr>
            <p:cNvPr id="103" name=""/>
            <p:cNvSpPr/>
            <p:nvPr/>
          </p:nvSpPr>
          <p:spPr>
            <a:xfrm>
              <a:off x="685800" y="60958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7400" y="5715000"/>
              <a:ext cx="1295640" cy="381240"/>
            </a:xfrm>
            <a:custGeom>
              <a:avLst/>
              <a:gdLst/>
              <a:ahLst/>
              <a:rect l="0" t="0" r="r" b="b"/>
              <a:pathLst>
                <a:path fill="none" w="3599" h="1059">
                  <a:moveTo>
                    <a:pt x="3599" y="1059"/>
                  </a:moveTo>
                  <a:lnTo>
                    <a:pt x="3599" y="1059"/>
                  </a:lnTo>
                  <a:lnTo>
                    <a:pt x="3599" y="1059"/>
                  </a:lnTo>
                  <a:cubicBezTo>
                    <a:pt x="3599" y="873"/>
                    <a:pt x="3433" y="690"/>
                    <a:pt x="3117" y="529"/>
                  </a:cubicBezTo>
                  <a:cubicBezTo>
                    <a:pt x="2801" y="369"/>
                    <a:pt x="2347" y="235"/>
                    <a:pt x="1799" y="142"/>
                  </a:cubicBezTo>
                  <a:cubicBezTo>
                    <a:pt x="1252" y="49"/>
                    <a:pt x="63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5715000"/>
              <a:ext cx="1295640" cy="381240"/>
            </a:xfrm>
            <a:custGeom>
              <a:avLst/>
              <a:gdLst/>
              <a:ahLst/>
              <a:rect l="0" t="0" r="r" b="b"/>
              <a:pathLst>
                <a:path fill="none" w="3599" h="1059">
                  <a:moveTo>
                    <a:pt x="3599" y="0"/>
                  </a:moveTo>
                  <a:lnTo>
                    <a:pt x="3599" y="0"/>
                  </a:lnTo>
                  <a:cubicBezTo>
                    <a:pt x="2967" y="0"/>
                    <a:pt x="2347" y="49"/>
                    <a:pt x="1799" y="142"/>
                  </a:cubicBezTo>
                  <a:cubicBezTo>
                    <a:pt x="1252" y="235"/>
                    <a:pt x="798" y="369"/>
                    <a:pt x="482" y="530"/>
                  </a:cubicBezTo>
                  <a:cubicBezTo>
                    <a:pt x="166" y="690"/>
                    <a:pt x="0" y="873"/>
                    <a:pt x="0" y="105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09480" y="6095880"/>
              <a:ext cx="533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124080" y="6095880"/>
              <a:ext cx="533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23880" y="518148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97280" y="4924440"/>
            <a:ext cx="4826160" cy="121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s white nois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bandwidth can be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ynchronous to spre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76720" y="1905120"/>
            <a:ext cx="2286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odulation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00440" y="2000160"/>
            <a:ext cx="596124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4495680"/>
            <a:ext cx="23623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Gain is chip rate divided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mbol r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o penalty for wider data-modulation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68280" y="2044800"/>
            <a:ext cx="2387520" cy="1943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-spectrum signaling allows the use of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er/Signal Ratio Compa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981080"/>
            <a:ext cx="2514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P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hips/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 = 6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B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/S= -4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562720" y="198108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6-ary Ortho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hips/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 = 12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dB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/S = -1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114800" y="5691240"/>
            <a:ext cx="44197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/S=PG-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Implementation Loss ign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chipping rate and data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rounded to nearest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95480" y="1981080"/>
            <a:ext cx="2514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QP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hips/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 = 9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B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/S= -6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Orthogonal Mod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s Another 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herent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One of M Waveforms: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Conveys Additional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on-coherent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One of M Waveforms: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Between Symbols Conveys Extra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Bi-Orthogonal Yields 5 Bit/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gonal Modulations with D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-Position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time gaps to accommodate multiple ti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nfused in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-Shift Ke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extra bandwidth (convolves DSSS &amp; M-FSK spect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c Code-Shift Keyi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JT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partial correlations unless time gaps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nfused in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-Function Orthogonal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natural for DSSS (Walsh-function sub-elements = DSSS c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191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11480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 Orthogonal Ove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emacher Functio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group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ly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-Code Co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304812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76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3429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3505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657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39625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4876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876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4876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5029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5029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6960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391520" y="5029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086600" y="5029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781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3962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33526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5812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809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0384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4952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37339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733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3733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832880" y="2941560"/>
            <a:ext cx="61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832880" y="3170160"/>
            <a:ext cx="61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32880" y="3398760"/>
            <a:ext cx="61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832880" y="3627360"/>
            <a:ext cx="812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832880" y="3855960"/>
            <a:ext cx="61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832880" y="408456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832880" y="431316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832880" y="454176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832880" y="4770360"/>
            <a:ext cx="617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832880" y="499896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832880" y="5227560"/>
            <a:ext cx="88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832880" y="5456160"/>
            <a:ext cx="88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832880" y="5684760"/>
            <a:ext cx="88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832880" y="5913360"/>
            <a:ext cx="88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832880" y="6141960"/>
            <a:ext cx="88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832880" y="6370560"/>
            <a:ext cx="88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391520" y="274320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Natural” Or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191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191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57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419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4956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4800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47242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5105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5105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5105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5105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2940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5257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257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7712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696080" y="5105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391520" y="5105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086600" y="5105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81680" y="5105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9608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51814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5334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5334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5486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5334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4320" y="5334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5486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486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5334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5334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696080" y="5334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91520" y="5334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866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81680" y="5486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2448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8660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5410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5562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715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244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5715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5715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5562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715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562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77120" y="5562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6960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391520" y="5715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086600" y="5562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7816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244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2940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343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960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10080" y="56386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100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5791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4480" y="5943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9400" y="5791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4380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5791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6960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39152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086600" y="5791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781680" y="5943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58672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6019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6172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19920" y="6019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4480" y="6172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6172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934320" y="6019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38880" y="6172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43800" y="6019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6172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6172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77120" y="6019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696080" y="6172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391520" y="6019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7086600" y="6172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781680" y="6019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7712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8168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8660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96080" y="6019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6095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24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6400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6400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624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624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6400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6400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624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6400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624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624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00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696080" y="6400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391520" y="624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086600" y="624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781680" y="6400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6272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7220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2940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9152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96080" y="6248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63244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6477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1500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24480" y="6477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2940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6477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38880" y="6477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4380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6477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6477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696080" y="6477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739152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7086600" y="6629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781680" y="6477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1992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8168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8660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3888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9152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96080" y="6477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6553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33520" y="19810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Combat “Irreducible Error R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ate R/S Code (Modif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Reduction of Data Rate (8.67 M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2-dB Coding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, Single-Error-Correcting Block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terative 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-Low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Hardwar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ROBUST 10-Mbps DATA COMMUNICATIONS</dc:title>
</cp:coreProperties>
</file>