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bmp" ContentType="image/bmp"/>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8265FA-A563-4693-8D60-FA626FCD4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tations announce changes in power management modes in acknowledged frame exchan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anning can be done while station is believed to be in power saving mode, without risk of losing messa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d to Nomadicity Need #89 - Communications Manageme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IB attributes control how many retries are attempted before giving 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cknowledgments remove dependence on long time-outs to detect frame lo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4 Dynamic Service Allocation and #96 Exception Handl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nk encryption provides “wired equivalent” priva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3 Secur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pen system authentication will always respond with a successful authentic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ared key authentication exchanges a challenge text encrypted with the (supposedly) shared key.  The text is encrypted using the normal link encryption mechanism.  If each side is able to decrypt the challenge text, the authentication is successfu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1 - Unique &amp; Anonymous Ids and #93 -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spcAft>
                <a:spcPts val="118587"/>
              </a:spcAft>
              <a:buNone/>
            </a:pPr>
            <a:r>
              <a:rPr b="0" lang="en-US" sz="1200" spc="-1" strike="noStrike">
                <a:solidFill>
                  <a:srgbClr val="000000"/>
                </a:solidFill>
                <a:latin typeface="Times New Roman"/>
                <a:ea typeface="Times New Roman"/>
              </a:rPr>
              <a:t>Information exchanged includes</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ste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urrent AP Addr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quest Frame Body</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and</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tatus Cod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sociation ID (A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sponse Frame Bod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86 - Handoff Mechanism, #88 - Device Coordination, and #90 - Rerou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buNone/>
            </a:pPr>
            <a:r>
              <a:rPr b="0" lang="en-US" sz="1200" spc="-1" strike="noStrike">
                <a:solidFill>
                  <a:srgbClr val="000000"/>
                </a:solidFill>
                <a:latin typeface="Times New Roman"/>
                <a:ea typeface="Times New Roman"/>
              </a:rPr>
              <a:t>Passive scanning conserves power (transmitter is not used) at the expense of slowing the scanning process.  Station goes to a channel and listens for Beacon or Probe Response frames for a period of time,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Active scanning completes the scanning process more quickly at the expense of greater power use.  Station goes to a channel, transmits a Probe Request frame and processes subsequent Probe Response frames,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The information in Probe Response and Beacon frames, includes </a:t>
            </a:r>
            <a:endParaRPr b="0" lang="en-US" sz="1200" spc="-1" strike="noStrike">
              <a:solidFill>
                <a:srgbClr val="000000"/>
              </a:solidFill>
              <a:latin typeface="Arial"/>
            </a:endParaRPr>
          </a:p>
          <a:p>
            <a:pPr indent="0" algn="ctr">
              <a:lnSpc>
                <a:spcPct val="75000"/>
              </a:lnSpc>
              <a:spcBef>
                <a:spcPts val="118587"/>
              </a:spcBef>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mestam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aco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H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F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S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Related to Nomadicity Needs #86 - Handoff Mechanism, #87 - Person - Device Location, and #90 - Rerout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assive loss” of association when moving out of range of current association is signaled by increasing frame error rates and frame failure rat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ctive loss” results from receipt of disassociat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uccess or failure of an attempted association is signal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ilure is time-out based or from fail code in associate respon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ccess is based on receipt of associate respons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s #94 - Dynamic Service Allocation, and #96 - Exception Hand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219240" y="1622520"/>
            <a:ext cx="8799480" cy="5043600"/>
            <a:chOff x="219240" y="1622520"/>
            <a:chExt cx="8799480" cy="5043600"/>
          </a:xfrm>
        </p:grpSpPr>
        <p:grpSp>
          <p:nvGrpSpPr>
            <p:cNvPr id="2" name=""/>
            <p:cNvGrpSpPr/>
            <p:nvPr/>
          </p:nvGrpSpPr>
          <p:grpSpPr>
            <a:xfrm>
              <a:off x="219240" y="1622520"/>
              <a:ext cx="8304480" cy="149400"/>
              <a:chOff x="219240" y="1622520"/>
              <a:chExt cx="8304480" cy="149400"/>
            </a:xfrm>
          </p:grpSpPr>
          <p:sp>
            <p:nvSpPr>
              <p:cNvPr id="3" name=""/>
              <p:cNvSpPr/>
              <p:nvPr/>
            </p:nvSpPr>
            <p:spPr>
              <a:xfrm>
                <a:off x="219240" y="16383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36520" y="16225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 name=""/>
            <p:cNvGrpSpPr/>
            <p:nvPr/>
          </p:nvGrpSpPr>
          <p:grpSpPr>
            <a:xfrm>
              <a:off x="8408880" y="5317200"/>
              <a:ext cx="609840" cy="1348920"/>
              <a:chOff x="8408880" y="5317200"/>
              <a:chExt cx="609840" cy="1348920"/>
            </a:xfrm>
          </p:grpSpPr>
          <p:grpSp>
            <p:nvGrpSpPr>
              <p:cNvPr id="6" name=""/>
              <p:cNvGrpSpPr/>
              <p:nvPr/>
            </p:nvGrpSpPr>
            <p:grpSpPr>
              <a:xfrm>
                <a:off x="8415360" y="5334480"/>
                <a:ext cx="603360" cy="1331640"/>
                <a:chOff x="8415360" y="5334480"/>
                <a:chExt cx="603360" cy="1331640"/>
              </a:xfrm>
            </p:grpSpPr>
            <p:sp>
              <p:nvSpPr>
                <p:cNvPr id="7" name=""/>
                <p:cNvSpPr/>
                <p:nvPr/>
              </p:nvSpPr>
              <p:spPr>
                <a:xfrm>
                  <a:off x="8415360" y="566244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8572680" y="5334480"/>
                  <a:ext cx="167400" cy="308520"/>
                </a:xfrm>
                <a:custGeom>
                  <a:avLst/>
                  <a:gdLst/>
                  <a:ahLst/>
                  <a:rect l="0" t="0" r="r" b="b"/>
                  <a:pathLst>
                    <a:path w="465" h="857">
                      <a:moveTo>
                        <a:pt x="16" y="383"/>
                      </a:moveTo>
                      <a:lnTo>
                        <a:pt x="16" y="383"/>
                      </a:lnTo>
                      <a:cubicBezTo>
                        <a:pt x="16" y="384"/>
                        <a:pt x="16" y="385"/>
                        <a:pt x="16" y="386"/>
                      </a:cubicBezTo>
                      <a:cubicBezTo>
                        <a:pt x="1" y="461"/>
                        <a:pt x="-3" y="536"/>
                        <a:pt x="3" y="605"/>
                      </a:cubicBezTo>
                      <a:cubicBezTo>
                        <a:pt x="10" y="673"/>
                        <a:pt x="27" y="732"/>
                        <a:pt x="52" y="776"/>
                      </a:cubicBezTo>
                      <a:cubicBezTo>
                        <a:pt x="78" y="820"/>
                        <a:pt x="112" y="847"/>
                        <a:pt x="150" y="854"/>
                      </a:cubicBezTo>
                      <a:cubicBezTo>
                        <a:pt x="188" y="862"/>
                        <a:pt x="230" y="849"/>
                        <a:pt x="270" y="818"/>
                      </a:cubicBezTo>
                      <a:cubicBezTo>
                        <a:pt x="310" y="787"/>
                        <a:pt x="348" y="739"/>
                        <a:pt x="380" y="678"/>
                      </a:cubicBezTo>
                      <a:cubicBezTo>
                        <a:pt x="411" y="617"/>
                        <a:pt x="435" y="547"/>
                        <a:pt x="450" y="473"/>
                      </a:cubicBezTo>
                      <a:lnTo>
                        <a:pt x="450" y="473"/>
                      </a:lnTo>
                      <a:cubicBezTo>
                        <a:pt x="450" y="472"/>
                        <a:pt x="450" y="471"/>
                        <a:pt x="450" y="470"/>
                      </a:cubicBezTo>
                      <a:cubicBezTo>
                        <a:pt x="465" y="395"/>
                        <a:pt x="469" y="320"/>
                        <a:pt x="463" y="251"/>
                      </a:cubicBezTo>
                      <a:cubicBezTo>
                        <a:pt x="456" y="183"/>
                        <a:pt x="439" y="124"/>
                        <a:pt x="414" y="80"/>
                      </a:cubicBezTo>
                      <a:cubicBezTo>
                        <a:pt x="388" y="36"/>
                        <a:pt x="354" y="9"/>
                        <a:pt x="316" y="2"/>
                      </a:cubicBezTo>
                      <a:cubicBezTo>
                        <a:pt x="278" y="-6"/>
                        <a:pt x="236" y="7"/>
                        <a:pt x="196" y="38"/>
                      </a:cubicBezTo>
                      <a:cubicBezTo>
                        <a:pt x="156" y="69"/>
                        <a:pt x="118" y="117"/>
                        <a:pt x="86" y="178"/>
                      </a:cubicBezTo>
                      <a:cubicBezTo>
                        <a:pt x="55" y="239"/>
                        <a:pt x="31" y="309"/>
                        <a:pt x="16" y="383"/>
                      </a:cubicBez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753400" y="544824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8829720" y="556560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8943840" y="578160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8888400" y="568332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3" name=""/>
              <p:cNvGrpSpPr/>
              <p:nvPr/>
            </p:nvGrpSpPr>
            <p:grpSpPr>
              <a:xfrm>
                <a:off x="8408880" y="5317200"/>
                <a:ext cx="603720" cy="1331640"/>
                <a:chOff x="8408880" y="5317200"/>
                <a:chExt cx="603720" cy="1331640"/>
              </a:xfrm>
            </p:grpSpPr>
            <p:sp>
              <p:nvSpPr>
                <p:cNvPr id="14" name=""/>
                <p:cNvSpPr/>
                <p:nvPr/>
              </p:nvSpPr>
              <p:spPr>
                <a:xfrm>
                  <a:off x="8408880" y="564516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8566200" y="5317200"/>
                  <a:ext cx="166680" cy="307800"/>
                </a:xfrm>
                <a:custGeom>
                  <a:avLst/>
                  <a:gdLst/>
                  <a:ahLst/>
                  <a:rect l="0" t="0" r="r" b="b"/>
                  <a:pathLst>
                    <a:path w="463" h="855">
                      <a:moveTo>
                        <a:pt x="16" y="382"/>
                      </a:moveTo>
                      <a:lnTo>
                        <a:pt x="16" y="382"/>
                      </a:lnTo>
                      <a:cubicBezTo>
                        <a:pt x="16" y="383"/>
                        <a:pt x="16" y="384"/>
                        <a:pt x="15" y="385"/>
                      </a:cubicBezTo>
                      <a:cubicBezTo>
                        <a:pt x="1" y="460"/>
                        <a:pt x="-3" y="535"/>
                        <a:pt x="3" y="603"/>
                      </a:cubicBezTo>
                      <a:cubicBezTo>
                        <a:pt x="10" y="672"/>
                        <a:pt x="26" y="731"/>
                        <a:pt x="52" y="774"/>
                      </a:cubicBezTo>
                      <a:cubicBezTo>
                        <a:pt x="78" y="818"/>
                        <a:pt x="111" y="845"/>
                        <a:pt x="149" y="852"/>
                      </a:cubicBezTo>
                      <a:cubicBezTo>
                        <a:pt x="187" y="860"/>
                        <a:pt x="229" y="847"/>
                        <a:pt x="269" y="816"/>
                      </a:cubicBezTo>
                      <a:cubicBezTo>
                        <a:pt x="309" y="785"/>
                        <a:pt x="347" y="737"/>
                        <a:pt x="378" y="676"/>
                      </a:cubicBezTo>
                      <a:cubicBezTo>
                        <a:pt x="409" y="616"/>
                        <a:pt x="433" y="546"/>
                        <a:pt x="448" y="472"/>
                      </a:cubicBezTo>
                      <a:lnTo>
                        <a:pt x="448" y="472"/>
                      </a:lnTo>
                      <a:cubicBezTo>
                        <a:pt x="448" y="471"/>
                        <a:pt x="448" y="470"/>
                        <a:pt x="449" y="469"/>
                      </a:cubicBezTo>
                      <a:cubicBezTo>
                        <a:pt x="463" y="394"/>
                        <a:pt x="467" y="319"/>
                        <a:pt x="461" y="251"/>
                      </a:cubicBezTo>
                      <a:cubicBezTo>
                        <a:pt x="454" y="182"/>
                        <a:pt x="438" y="123"/>
                        <a:pt x="412" y="80"/>
                      </a:cubicBezTo>
                      <a:cubicBezTo>
                        <a:pt x="386" y="36"/>
                        <a:pt x="353" y="9"/>
                        <a:pt x="315" y="2"/>
                      </a:cubicBezTo>
                      <a:cubicBezTo>
                        <a:pt x="277" y="-6"/>
                        <a:pt x="235" y="7"/>
                        <a:pt x="195" y="38"/>
                      </a:cubicBezTo>
                      <a:cubicBezTo>
                        <a:pt x="155" y="69"/>
                        <a:pt x="117" y="117"/>
                        <a:pt x="86" y="178"/>
                      </a:cubicBezTo>
                      <a:cubicBezTo>
                        <a:pt x="55" y="238"/>
                        <a:pt x="31" y="308"/>
                        <a:pt x="16" y="382"/>
                      </a:cubicBez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8747280" y="543096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8823240" y="554832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8937720" y="576432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8881920" y="566568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9" name=""/>
          <p:cNvGrpSpPr/>
          <p:nvPr/>
        </p:nvGrpSpPr>
        <p:grpSpPr>
          <a:xfrm>
            <a:off x="244440" y="3316320"/>
            <a:ext cx="8304840" cy="149400"/>
            <a:chOff x="244440" y="3316320"/>
            <a:chExt cx="8304840" cy="149400"/>
          </a:xfrm>
        </p:grpSpPr>
        <p:sp>
          <p:nvSpPr>
            <p:cNvPr id="60" name=""/>
            <p:cNvSpPr/>
            <p:nvPr/>
          </p:nvSpPr>
          <p:spPr>
            <a:xfrm>
              <a:off x="244440" y="33321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262080" y="33163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1371600"/>
            <a:ext cx="7772400" cy="2057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pport for Nomadicity</a:t>
            </a:r>
            <a:br>
              <a:rPr sz="4400"/>
            </a:br>
            <a:r>
              <a:rPr b="0" lang="en-US" sz="4400" spc="-1" strike="noStrike">
                <a:solidFill>
                  <a:srgbClr val="000000"/>
                </a:solidFill>
                <a:latin typeface="Times New Roman"/>
                <a:ea typeface="Times New Roman"/>
              </a:rPr>
              <a:t>with</a:t>
            </a:r>
            <a:br>
              <a:rPr sz="4400"/>
            </a:br>
            <a:r>
              <a:rPr b="0" lang="en-US" sz="4400" spc="-1" strike="noStrike">
                <a:solidFill>
                  <a:srgbClr val="000000"/>
                </a:solidFill>
                <a:latin typeface="Times New Roman"/>
                <a:ea typeface="Times New Roman"/>
              </a:rPr>
              <a:t>IEEE 802.11</a:t>
            </a:r>
            <a:endParaRPr b="0" lang="en-US" sz="4400" spc="-1" strike="noStrike">
              <a:solidFill>
                <a:srgbClr val="000000"/>
              </a:solidFill>
              <a:latin typeface="Arial"/>
            </a:endParaRPr>
          </a:p>
        </p:txBody>
      </p:sp>
      <p:sp>
        <p:nvSpPr>
          <p:cNvPr id="107" name=""/>
          <p:cNvSpPr txBox="1"/>
          <p:nvPr/>
        </p:nvSpPr>
        <p:spPr>
          <a:xfrm>
            <a:off x="1219320" y="3886200"/>
            <a:ext cx="6705720" cy="228600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George Fishel, AMP, Inc.</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and</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ob O’Hara, Informed Technology, In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Power management</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operate in either Active or Power Saving modes</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mode: receiver is always 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wer Saving mode: receiver may be turned off for arbitrary lengths of time</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buffer traffic for other stations in Power Saving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09480" y="457200"/>
            <a:ext cx="7772400" cy="1143000"/>
          </a:xfrm>
          <a:prstGeom prst="rect">
            <a:avLst/>
          </a:prstGeom>
          <a:noFill/>
          <a:ln w="0">
            <a:noFill/>
          </a:ln>
        </p:spPr>
        <p:txBody>
          <a:bodyPr lIns="0" rIns="0" tIns="0" bIns="0" anchor="t">
            <a:noAutofit/>
          </a:bodyPr>
          <a:p>
            <a:pPr>
              <a:lnSpc>
                <a:spcPct val="100000"/>
              </a:lnSpc>
            </a:pPr>
            <a:r>
              <a:rPr b="1" lang="en-US" sz="4000" spc="-1" strike="noStrike">
                <a:solidFill>
                  <a:srgbClr val="ff9933"/>
                </a:solidFill>
                <a:latin typeface="Times New Roman"/>
                <a:ea typeface="Times New Roman"/>
              </a:rPr>
              <a:t>Wireless LAN Standards</a:t>
            </a:r>
            <a:endParaRPr b="0" lang="en-US" sz="4000" spc="-1" strike="noStrike">
              <a:solidFill>
                <a:srgbClr val="000000"/>
              </a:solidFill>
              <a:latin typeface="Arial"/>
            </a:endParaRPr>
          </a:p>
        </p:txBody>
      </p:sp>
      <p:sp>
        <p:nvSpPr>
          <p:cNvPr id="109" name=""/>
          <p:cNvSpPr txBox="1"/>
          <p:nvPr/>
        </p:nvSpPr>
        <p:spPr>
          <a:xfrm>
            <a:off x="1370160" y="2133720"/>
            <a:ext cx="6859440" cy="4114800"/>
          </a:xfrm>
          <a:prstGeom prst="rect">
            <a:avLst/>
          </a:prstGeom>
          <a:noFill/>
          <a:ln w="0">
            <a:noFill/>
          </a:ln>
        </p:spPr>
        <p:txBody>
          <a:bodyPr lIns="0" rIns="0" tIns="0" bIns="0" anchor="t">
            <a:noAutofit/>
          </a:bodyPr>
          <a:p>
            <a:pPr marL="343080" indent="-34308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EEE 802.11 Standard is currently being developed will be released end 1997. Will work in conjunction with standard Ethernet.</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Direct Sequenc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Frequency Hopping</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nfrared</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19000" y="549360"/>
            <a:ext cx="6419880" cy="762120"/>
          </a:xfrm>
          <a:prstGeom prst="rect">
            <a:avLst/>
          </a:prstGeom>
          <a:noFill/>
          <a:ln w="0">
            <a:noFill/>
          </a:ln>
        </p:spPr>
        <p:txBody>
          <a:bodyPr lIns="0" rIns="0" tIns="0" bIns="0" anchor="t">
            <a:noAutofit/>
          </a:bodyPr>
          <a:p>
            <a:pPr>
              <a:lnSpc>
                <a:spcPct val="100000"/>
              </a:lnSpc>
            </a:pPr>
            <a:r>
              <a:rPr b="0" lang="en-US" sz="4400" spc="-1" strike="noStrike">
                <a:solidFill>
                  <a:srgbClr val="ff9933"/>
                </a:solidFill>
                <a:latin typeface="Times New Roman"/>
                <a:ea typeface="Times New Roman"/>
              </a:rPr>
              <a:t>Nomadicity IEEE 802.11</a:t>
            </a:r>
            <a:endParaRPr b="0" lang="en-US" sz="4400" spc="-1" strike="noStrike">
              <a:solidFill>
                <a:srgbClr val="000000"/>
              </a:solidFill>
              <a:latin typeface="Arial"/>
            </a:endParaRPr>
          </a:p>
        </p:txBody>
      </p:sp>
      <p:sp>
        <p:nvSpPr>
          <p:cNvPr id="111" name=""/>
          <p:cNvSpPr/>
          <p:nvPr/>
        </p:nvSpPr>
        <p:spPr>
          <a:xfrm>
            <a:off x="2990880" y="1495440"/>
            <a:ext cx="2895480" cy="45720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039000" y="301932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695600" y="309564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457360" y="3705120"/>
            <a:ext cx="0" cy="60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335320" y="430848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851520" y="362916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742080" y="423864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225520" y="319896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19" name=""/>
          <p:cNvSpPr txBox="1"/>
          <p:nvPr/>
        </p:nvSpPr>
        <p:spPr>
          <a:xfrm>
            <a:off x="6620040" y="313524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20" name=""/>
          <p:cNvSpPr txBox="1"/>
          <p:nvPr/>
        </p:nvSpPr>
        <p:spPr>
          <a:xfrm>
            <a:off x="3457440" y="1538280"/>
            <a:ext cx="1996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Ethernet Network</a:t>
            </a:r>
            <a:endParaRPr b="0" lang="en-US" sz="2000" spc="-1" strike="noStrike">
              <a:solidFill>
                <a:srgbClr val="000000"/>
              </a:solidFill>
              <a:latin typeface="Arial"/>
            </a:endParaRPr>
          </a:p>
        </p:txBody>
      </p:sp>
      <p:sp>
        <p:nvSpPr>
          <p:cNvPr id="121" name=""/>
          <p:cNvSpPr/>
          <p:nvPr/>
        </p:nvSpPr>
        <p:spPr>
          <a:xfrm flipH="1">
            <a:off x="2470320" y="1952640"/>
            <a:ext cx="1460160" cy="11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149800" y="1952640"/>
            <a:ext cx="1663920" cy="10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4135320" y="5008680"/>
            <a:ext cx="988920" cy="1228680"/>
          </a:xfrm>
          <a:prstGeom prst="rect">
            <a:avLst/>
          </a:prstGeom>
          <a:ln w="0">
            <a:noFill/>
          </a:ln>
        </p:spPr>
      </p:pic>
      <p:sp>
        <p:nvSpPr>
          <p:cNvPr id="124" name=""/>
          <p:cNvSpPr txBox="1"/>
          <p:nvPr/>
        </p:nvSpPr>
        <p:spPr>
          <a:xfrm>
            <a:off x="3693960" y="6299280"/>
            <a:ext cx="1658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madic User</a:t>
            </a:r>
            <a:endParaRPr b="0" lang="en-US" sz="2000" spc="-1" strike="noStrike">
              <a:solidFill>
                <a:srgbClr val="000000"/>
              </a:solidFill>
              <a:latin typeface="Arial"/>
            </a:endParaRPr>
          </a:p>
        </p:txBody>
      </p:sp>
      <p:sp>
        <p:nvSpPr>
          <p:cNvPr id="125" name=""/>
          <p:cNvSpPr txBox="1"/>
          <p:nvPr/>
        </p:nvSpPr>
        <p:spPr>
          <a:xfrm>
            <a:off x="693720" y="5396040"/>
            <a:ext cx="212256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Vmax &lt; 3m/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lt; 10 MPH)</a:t>
            </a:r>
            <a:endParaRPr b="0" lang="en-US" sz="2800" spc="-1" strike="noStrike">
              <a:solidFill>
                <a:srgbClr val="000000"/>
              </a:solidFill>
              <a:latin typeface="Arial"/>
            </a:endParaRPr>
          </a:p>
        </p:txBody>
      </p:sp>
      <p:grpSp>
        <p:nvGrpSpPr>
          <p:cNvPr id="126" name=""/>
          <p:cNvGrpSpPr/>
          <p:nvPr/>
        </p:nvGrpSpPr>
        <p:grpSpPr>
          <a:xfrm>
            <a:off x="2612880" y="4532040"/>
            <a:ext cx="1282320" cy="1467000"/>
            <a:chOff x="2612880" y="4532040"/>
            <a:chExt cx="1282320" cy="1467000"/>
          </a:xfrm>
        </p:grpSpPr>
        <p:sp>
          <p:nvSpPr>
            <p:cNvPr id="127" name=""/>
            <p:cNvSpPr/>
            <p:nvPr/>
          </p:nvSpPr>
          <p:spPr>
            <a:xfrm>
              <a:off x="2612880" y="4532040"/>
              <a:ext cx="357840" cy="509040"/>
            </a:xfrm>
            <a:custGeom>
              <a:avLst/>
              <a:gdLst/>
              <a:ahLst/>
              <a:rect l="0" t="0" r="r" b="b"/>
              <a:pathLst>
                <a:path fill="none" w="994" h="1414">
                  <a:moveTo>
                    <a:pt x="274" y="552"/>
                  </a:moveTo>
                  <a:lnTo>
                    <a:pt x="0" y="1414"/>
                  </a:lnTo>
                  <a:lnTo>
                    <a:pt x="0" y="1414"/>
                  </a:lnTo>
                  <a:cubicBezTo>
                    <a:pt x="113" y="1386"/>
                    <a:pt x="236" y="1321"/>
                    <a:pt x="358" y="1225"/>
                  </a:cubicBezTo>
                  <a:cubicBezTo>
                    <a:pt x="484" y="1126"/>
                    <a:pt x="603" y="998"/>
                    <a:pt x="705" y="853"/>
                  </a:cubicBezTo>
                  <a:cubicBezTo>
                    <a:pt x="806" y="708"/>
                    <a:pt x="886" y="552"/>
                    <a:pt x="936" y="401"/>
                  </a:cubicBezTo>
                  <a:cubicBezTo>
                    <a:pt x="984" y="254"/>
                    <a:pt x="1003" y="116"/>
                    <a:pt x="991"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818440" y="4682160"/>
              <a:ext cx="529200" cy="803160"/>
            </a:xfrm>
            <a:custGeom>
              <a:avLst/>
              <a:gdLst/>
              <a:ahLst/>
              <a:rect l="0" t="0" r="r" b="b"/>
              <a:pathLst>
                <a:path fill="none" w="1470" h="2231">
                  <a:moveTo>
                    <a:pt x="148" y="790"/>
                  </a:moveTo>
                  <a:lnTo>
                    <a:pt x="0" y="2231"/>
                  </a:lnTo>
                  <a:lnTo>
                    <a:pt x="0" y="2231"/>
                  </a:lnTo>
                  <a:cubicBezTo>
                    <a:pt x="176" y="2198"/>
                    <a:pt x="353" y="2126"/>
                    <a:pt x="523" y="2020"/>
                  </a:cubicBezTo>
                  <a:cubicBezTo>
                    <a:pt x="745" y="1882"/>
                    <a:pt x="947" y="1689"/>
                    <a:pt x="1107" y="1461"/>
                  </a:cubicBezTo>
                  <a:cubicBezTo>
                    <a:pt x="1266" y="1232"/>
                    <a:pt x="1379" y="977"/>
                    <a:pt x="1433" y="721"/>
                  </a:cubicBezTo>
                  <a:cubicBezTo>
                    <a:pt x="1488" y="465"/>
                    <a:pt x="1482" y="216"/>
                    <a:pt x="1416"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052800" y="4713480"/>
              <a:ext cx="842400" cy="1285560"/>
            </a:xfrm>
            <a:custGeom>
              <a:avLst/>
              <a:gdLst/>
              <a:ahLst/>
              <a:rect l="0" t="0" r="r" b="b"/>
              <a:pathLst>
                <a:path fill="none" w="2340" h="3571">
                  <a:moveTo>
                    <a:pt x="383" y="1356"/>
                  </a:moveTo>
                  <a:lnTo>
                    <a:pt x="0" y="3571"/>
                  </a:lnTo>
                  <a:lnTo>
                    <a:pt x="0" y="3571"/>
                  </a:lnTo>
                  <a:cubicBezTo>
                    <a:pt x="256" y="3499"/>
                    <a:pt x="519" y="3369"/>
                    <a:pt x="775" y="3188"/>
                  </a:cubicBezTo>
                  <a:cubicBezTo>
                    <a:pt x="1111" y="2950"/>
                    <a:pt x="1424" y="2631"/>
                    <a:pt x="1681" y="2264"/>
                  </a:cubicBezTo>
                  <a:cubicBezTo>
                    <a:pt x="1938" y="1897"/>
                    <a:pt x="2130" y="1495"/>
                    <a:pt x="2239" y="1097"/>
                  </a:cubicBezTo>
                  <a:cubicBezTo>
                    <a:pt x="2347" y="700"/>
                    <a:pt x="2369" y="321"/>
                    <a:pt x="230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 name=""/>
          <p:cNvGrpSpPr/>
          <p:nvPr/>
        </p:nvGrpSpPr>
        <p:grpSpPr>
          <a:xfrm>
            <a:off x="5420880" y="4481280"/>
            <a:ext cx="1281960" cy="1467000"/>
            <a:chOff x="5420880" y="4481280"/>
            <a:chExt cx="1281960" cy="1467000"/>
          </a:xfrm>
        </p:grpSpPr>
        <p:sp>
          <p:nvSpPr>
            <p:cNvPr id="131" name=""/>
            <p:cNvSpPr/>
            <p:nvPr/>
          </p:nvSpPr>
          <p:spPr>
            <a:xfrm>
              <a:off x="6345000" y="4481280"/>
              <a:ext cx="357840" cy="509040"/>
            </a:xfrm>
            <a:custGeom>
              <a:avLst/>
              <a:gdLst/>
              <a:ahLst/>
              <a:rect l="0" t="0" r="r" b="b"/>
              <a:pathLst>
                <a:path fill="none" w="994" h="1414">
                  <a:moveTo>
                    <a:pt x="720" y="552"/>
                  </a:moveTo>
                  <a:lnTo>
                    <a:pt x="3" y="0"/>
                  </a:lnTo>
                  <a:lnTo>
                    <a:pt x="3" y="0"/>
                  </a:lnTo>
                  <a:cubicBezTo>
                    <a:pt x="-9" y="116"/>
                    <a:pt x="10" y="254"/>
                    <a:pt x="58" y="401"/>
                  </a:cubicBezTo>
                  <a:cubicBezTo>
                    <a:pt x="108" y="552"/>
                    <a:pt x="188" y="708"/>
                    <a:pt x="289" y="853"/>
                  </a:cubicBezTo>
                  <a:cubicBezTo>
                    <a:pt x="391" y="998"/>
                    <a:pt x="510" y="1126"/>
                    <a:pt x="636" y="1225"/>
                  </a:cubicBezTo>
                  <a:cubicBezTo>
                    <a:pt x="758" y="1321"/>
                    <a:pt x="881" y="1386"/>
                    <a:pt x="994" y="1414"/>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5968440" y="4631400"/>
              <a:ext cx="529200" cy="803160"/>
            </a:xfrm>
            <a:custGeom>
              <a:avLst/>
              <a:gdLst/>
              <a:ahLst/>
              <a:rect l="0" t="0" r="r" b="b"/>
              <a:pathLst>
                <a:path fill="none" w="1470" h="2231">
                  <a:moveTo>
                    <a:pt x="1322" y="790"/>
                  </a:moveTo>
                  <a:lnTo>
                    <a:pt x="54" y="0"/>
                  </a:lnTo>
                  <a:lnTo>
                    <a:pt x="54" y="0"/>
                  </a:lnTo>
                  <a:cubicBezTo>
                    <a:pt x="-12" y="216"/>
                    <a:pt x="-18" y="465"/>
                    <a:pt x="37" y="721"/>
                  </a:cubicBezTo>
                  <a:cubicBezTo>
                    <a:pt x="91" y="977"/>
                    <a:pt x="204" y="1232"/>
                    <a:pt x="363" y="1461"/>
                  </a:cubicBezTo>
                  <a:cubicBezTo>
                    <a:pt x="523" y="1689"/>
                    <a:pt x="725" y="1882"/>
                    <a:pt x="947" y="2020"/>
                  </a:cubicBezTo>
                  <a:cubicBezTo>
                    <a:pt x="1117" y="2126"/>
                    <a:pt x="1294" y="2198"/>
                    <a:pt x="1470" y="223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420880" y="4662720"/>
              <a:ext cx="842400" cy="1285560"/>
            </a:xfrm>
            <a:custGeom>
              <a:avLst/>
              <a:gdLst/>
              <a:ahLst/>
              <a:rect l="0" t="0" r="r" b="b"/>
              <a:pathLst>
                <a:path fill="none" w="2340" h="3571">
                  <a:moveTo>
                    <a:pt x="1956" y="1356"/>
                  </a:moveTo>
                  <a:lnTo>
                    <a:pt x="39" y="0"/>
                  </a:lnTo>
                  <a:lnTo>
                    <a:pt x="39" y="0"/>
                  </a:lnTo>
                  <a:cubicBezTo>
                    <a:pt x="-29" y="321"/>
                    <a:pt x="-8" y="700"/>
                    <a:pt x="100" y="1097"/>
                  </a:cubicBezTo>
                  <a:cubicBezTo>
                    <a:pt x="209" y="1494"/>
                    <a:pt x="401" y="1897"/>
                    <a:pt x="658" y="2264"/>
                  </a:cubicBezTo>
                  <a:cubicBezTo>
                    <a:pt x="915" y="2631"/>
                    <a:pt x="1228" y="2950"/>
                    <a:pt x="1564" y="3188"/>
                  </a:cubicBezTo>
                  <a:cubicBezTo>
                    <a:pt x="1820" y="3369"/>
                    <a:pt x="2084" y="3499"/>
                    <a:pt x="2340" y="357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4" name=""/>
          <p:cNvSpPr txBox="1"/>
          <p:nvPr/>
        </p:nvSpPr>
        <p:spPr>
          <a:xfrm>
            <a:off x="3224160" y="3168720"/>
            <a:ext cx="284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0 to 200 meters appr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ervices of 802.11</a:t>
            </a:r>
            <a:endParaRPr b="0" lang="en-US" sz="4400" spc="-1" strike="noStrike">
              <a:solidFill>
                <a:srgbClr val="000000"/>
              </a:solidFill>
              <a:latin typeface="Arial"/>
            </a:endParaRPr>
          </a:p>
        </p:txBody>
      </p:sp>
      <p:sp>
        <p:nvSpPr>
          <p:cNvPr id="13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Data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rror contro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ink encryption</a:t>
            </a:r>
            <a:endParaRPr b="0" lang="en-US" sz="2800" spc="-1" strike="noStrike">
              <a:solidFill>
                <a:srgbClr val="000000"/>
              </a:solidFill>
              <a:latin typeface="Arial"/>
            </a:endParaRPr>
          </a:p>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Management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plicit authent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associ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discovery</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ange notif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Data Services</a:t>
            </a:r>
            <a:endParaRPr b="0" lang="en-US" sz="4400" spc="-1" strike="noStrike">
              <a:solidFill>
                <a:srgbClr val="000000"/>
              </a:solidFill>
              <a:latin typeface="Arial"/>
            </a:endParaRPr>
          </a:p>
        </p:txBody>
      </p:sp>
      <p:sp>
        <p:nvSpPr>
          <p:cNvPr id="13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rror control</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ry failed transmissions in the MAC</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rect acknowledgment of receipt</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plicate frame detection and removal</a:t>
            </a:r>
            <a:endParaRPr b="0" lang="en-US" sz="2800" spc="-1" strike="noStrike">
              <a:solidFill>
                <a:srgbClr val="000000"/>
              </a:solidFill>
              <a:latin typeface="Arial"/>
            </a:endParaRPr>
          </a:p>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Link encryp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C4 encryption algorithm with 40-bit key and 24-bit 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0"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xplicit authent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uthentication required prior to being able to access data services</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currently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pen System”, i.e., none</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hared Key”</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tendible to additional mech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2"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associ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station requests association</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ludes capability and rate information and location of last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4"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discovery</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ssive scanning</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scanning</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formation is acquired that allows other stations to be found in time-frequency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Change notif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rvice indications are provided when</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s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stablish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iling to establish and asso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b O'Hara</dc:creator>
  <dc:description/>
  <dc:language>en-US</dc:language>
  <cp:lastModifiedBy>Bob O'Hara</cp:lastModifiedBy>
  <cp:revision>0</cp:revision>
  <dc:subject/>
  <dc:title>Support for Nomadicity with IEEE 802.11</dc:title>
</cp:coreProperties>
</file>