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04920" y="304920"/>
            <a:ext cx="8534520" cy="624852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1" name=""/>
          <p:cNvSpPr txBox="1"/>
          <p:nvPr/>
        </p:nvSpPr>
        <p:spPr>
          <a:xfrm>
            <a:off x="666720" y="57240"/>
            <a:ext cx="5875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SI</a:t>
            </a:r>
            <a:endParaRPr b="0" lang="en-US" sz="2400" spc="-1" strike="noStrike">
              <a:solidFill>
                <a:srgbClr val="000000"/>
              </a:solidFill>
              <a:latin typeface="Arial"/>
            </a:endParaRPr>
          </a:p>
        </p:txBody>
      </p:sp>
      <p:sp>
        <p:nvSpPr>
          <p:cNvPr id="2" name=""/>
          <p:cNvSpPr txBox="1"/>
          <p:nvPr/>
        </p:nvSpPr>
        <p:spPr>
          <a:xfrm>
            <a:off x="666720" y="6595920"/>
            <a:ext cx="2776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Image System Inc, Redwood City, 1997</a:t>
            </a:r>
            <a:endParaRPr b="0" lang="en-US" sz="1200" spc="-1" strike="noStrike">
              <a:solidFill>
                <a:srgbClr val="000000"/>
              </a:solidFill>
              <a:latin typeface="Arial"/>
            </a:endParaRPr>
          </a:p>
        </p:txBody>
      </p:sp>
      <p:sp>
        <p:nvSpPr>
          <p:cNvPr id="3" name=""/>
          <p:cNvSpPr txBox="1"/>
          <p:nvPr/>
        </p:nvSpPr>
        <p:spPr>
          <a:xfrm>
            <a:off x="8437680" y="6550200"/>
            <a:ext cx="498600" cy="301680"/>
          </a:xfrm>
          <a:prstGeom prst="rect">
            <a:avLst/>
          </a:prstGeom>
          <a:noFill/>
          <a:ln w="0">
            <a:noFill/>
          </a:ln>
        </p:spPr>
        <p:txBody>
          <a:bodyPr lIns="0" rIns="0" tIns="0" bIns="0" anchor="t">
            <a:noAutofit/>
          </a:bodyPr>
          <a:p>
            <a:pPr>
              <a:lnSpc>
                <a:spcPct val="100000"/>
              </a:lnSpc>
            </a:pPr>
            <a:fld id="{298D9F90-97DD-4D08-B88D-D07021A8E6B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762120" y="1371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3" name=""/>
          <p:cNvSpPr txBox="1"/>
          <p:nvPr/>
        </p:nvSpPr>
        <p:spPr>
          <a:xfrm>
            <a:off x="1447920" y="2971800"/>
            <a:ext cx="6400800" cy="21502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Proposal for formation of a study group to evaluate hardening a subset of 802.11</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Presented at</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IEEE 802 Committee Meeting</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March 10-13,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Typical Output Graphs from Prior OPNET r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uggedized 802.11</a:t>
            </a:r>
            <a:endParaRPr b="0" lang="en-US" sz="40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study group to evaluate an extension to 802.11 with enhancements for operations in adverse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ear-Term 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 goal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fine Schedu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o will staff i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de examples of technical exten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PAR and presen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path Defenses: candidates</a:t>
            </a:r>
            <a:endParaRPr b="0" lang="en-US" sz="4000" spc="-1" strike="noStrike">
              <a:solidFill>
                <a:srgbClr val="000000"/>
              </a:solidFill>
              <a:latin typeface="Arial"/>
            </a:endParaRPr>
          </a:p>
        </p:txBody>
      </p:sp>
      <p:sp>
        <p:nvSpPr>
          <p:cNvPr id="63" name=""/>
          <p:cNvSpPr txBox="1"/>
          <p:nvPr/>
        </p:nvSpPr>
        <p:spPr>
          <a:xfrm>
            <a:off x="76212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crease the chip rate of the spreading co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each chip’s exposure to interfering reflected ra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ngthens DSSS resistance to Broadband CDMA interference and narrowband interfere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different spreading codes on consecutive data bi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nimizes intersymbol interference from reflected rays with delays &gt; 1 bit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daptive Power Management - Candidate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anage transmitters to use only enough power to maintain link S/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tigates cosite 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tends battery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ange extensions: candidates</a:t>
            </a:r>
            <a:endParaRPr b="0" lang="en-US" sz="4000" spc="-1" strike="noStrike">
              <a:solidFill>
                <a:srgbClr val="000000"/>
              </a:solidFill>
              <a:latin typeface="Arial"/>
            </a:endParaRPr>
          </a:p>
        </p:txBody>
      </p:sp>
      <p:sp>
        <p:nvSpPr>
          <p:cNvPr id="67" name=""/>
          <p:cNvSpPr txBox="1"/>
          <p:nvPr/>
        </p:nvSpPr>
        <p:spPr>
          <a:xfrm>
            <a:off x="838080" y="1066680"/>
            <a:ext cx="7772400" cy="4865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tocol encapsulation to support intranet relay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liminate the need for an all-connected n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 “hidden terminal” commun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roduce distributed routing tables as a MAC station service op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s intranet relay oper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ess vulnerable to single-point failure, vs. centralized rou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wer management, to reach “remote” memb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management, with redundant retransmit for longer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ransmission Security: Candidates</a:t>
            </a:r>
            <a:endParaRPr b="0" lang="en-US" sz="4000" spc="-1" strike="noStrike">
              <a:solidFill>
                <a:srgbClr val="000000"/>
              </a:solidFill>
              <a:latin typeface="Arial"/>
            </a:endParaRPr>
          </a:p>
        </p:txBody>
      </p:sp>
      <p:sp>
        <p:nvSpPr>
          <p:cNvPr id="69" name=""/>
          <p:cNvSpPr txBox="1"/>
          <p:nvPr/>
        </p:nvSpPr>
        <p:spPr>
          <a:xfrm>
            <a:off x="11430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wers probability of interce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liminates MAC addresses as a source of intelligence to a competitor or 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media Extension: candidate</a:t>
            </a:r>
            <a:endParaRPr b="0" lang="en-US" sz="40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y MAC protocol to ignore dropped packets during video transf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g., use MIB variables to set retrys at value zero for these fram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bandwidth utilization by not retransmitting “lost” video packe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ost” packets can be ignored during frame re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066680"/>
            <a:ext cx="7772400" cy="224964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hall We Authorize a Study Group for the Question of Extending the Capabilities of 802.11 for Robust Operation?</a:t>
            </a:r>
            <a:endParaRPr b="0" lang="en-US" sz="4000" spc="-1" strike="noStrike">
              <a:solidFill>
                <a:srgbClr val="000000"/>
              </a:solidFill>
              <a:latin typeface="Arial"/>
            </a:endParaRPr>
          </a:p>
        </p:txBody>
      </p:sp>
      <p:sp>
        <p:nvSpPr>
          <p:cNvPr id="73" name=""/>
          <p:cNvSpPr txBox="1"/>
          <p:nvPr/>
        </p:nvSpPr>
        <p:spPr>
          <a:xfrm>
            <a:off x="762120" y="2819520"/>
            <a:ext cx="7848720" cy="3276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antify 3-5 defined challenge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mmarize available RF data on such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ing OPNET, do network modeling of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rive candidate extensions and additions to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 network modeling of candidate extensions in the challenge scenario, to quantify effectivene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a PAR, if practicable and jus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nitial Study Group Members</a:t>
            </a:r>
            <a:endParaRPr b="0" lang="en-US" sz="4000" spc="-1" strike="noStrike">
              <a:solidFill>
                <a:srgbClr val="000000"/>
              </a:solidFill>
              <a:latin typeface="Arial"/>
            </a:endParaRPr>
          </a:p>
        </p:txBody>
      </p:sp>
      <p:sp>
        <p:nvSpPr>
          <p:cNvPr id="75" name=""/>
          <p:cNvSpPr txBox="1"/>
          <p:nvPr/>
        </p:nvSpPr>
        <p:spPr>
          <a:xfrm>
            <a:off x="685800" y="1981080"/>
            <a:ext cx="7086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liver Edwards, Image Systems In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obert Radkey, Syopte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rry Charbonneau,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ill Rogers,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n Clements, Innovation On Deman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thers, as care about adverse environments, and can pitch 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ilt on the completed work of 802.11</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tension of 802.11 for adverse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Synchrony manage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tion Fast Mo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ssion Secur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 drop-in, drop-out, signal shadow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 a Study Group pursuant to a PAR, to keep our development under the 802.11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WLAN Users: examples</a:t>
            </a:r>
            <a:endParaRPr b="0" lang="en-US" sz="4000" spc="-1" strike="noStrike">
              <a:solidFill>
                <a:srgbClr val="000000"/>
              </a:solidFill>
              <a:latin typeface="Arial"/>
            </a:endParaRPr>
          </a:p>
        </p:txBody>
      </p:sp>
      <p:sp>
        <p:nvSpPr>
          <p:cNvPr id="47" name=""/>
          <p:cNvSpPr txBox="1"/>
          <p:nvPr/>
        </p:nvSpPr>
        <p:spPr>
          <a:xfrm>
            <a:off x="11430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1: traditional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spital commun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ice build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2: industrial, mobile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ctory, foundry, refin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ban construction, highway constru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control (taxi, deliv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litary users of commercial equip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lice, fire,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eeting The Needs</a:t>
            </a:r>
            <a:endParaRPr b="0" lang="en-US" sz="40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802.11 addresses the needs of Class 1 users, very well.</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ur concern is with the second class of user.  After some effort to directly apply 802.11, we find several limitations and several candidate enhancements, and want to bring these to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blem environments and uses</a:t>
            </a:r>
            <a:endParaRPr b="0" lang="en-US" sz="40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posure to strong multipath interfere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bility at vehicular speed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ermittent connectivity as members pass through signal “shadow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mbers dispersed out to a kilometer or mo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ultimedia applications: voice, data,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 Proposed Investigation for 802.11</a:t>
            </a:r>
            <a:br>
              <a:rPr sz="4000"/>
            </a:br>
            <a:r>
              <a:rPr b="0" lang="en-US" sz="4000" spc="-1" strike="noStrike">
                <a:solidFill>
                  <a:srgbClr val="000000"/>
                </a:solidFill>
                <a:latin typeface="Times New Roman"/>
                <a:ea typeface="Times New Roman"/>
              </a:rPr>
              <a:t>“Class 2” Performance Predictions</a:t>
            </a:r>
            <a:endParaRPr b="0" lang="en-US" sz="4000" spc="-1" strike="noStrike">
              <a:solidFill>
                <a:srgbClr val="000000"/>
              </a:solidFill>
              <a:latin typeface="Arial"/>
            </a:endParaRPr>
          </a:p>
        </p:txBody>
      </p:sp>
      <p:sp>
        <p:nvSpPr>
          <p:cNvPr id="53" name=""/>
          <p:cNvSpPr txBox="1"/>
          <p:nvPr/>
        </p:nvSpPr>
        <p:spPr>
          <a:xfrm>
            <a:off x="914400" y="1752480"/>
            <a:ext cx="7772400" cy="41306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valuate network performance of 802.11 in      Class 2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broadly-accepted modeling tool (OPNET)    for sim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models using predefined 802.11 state machine descrip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imulate exemplar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eam dispersal within 1-km radiu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movement along a highw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 campus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802.11 Station Models</a:t>
            </a:r>
            <a:endParaRPr b="0" lang="en-US" sz="40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both AP and non-AP (“ad hoc”) station mode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n-AP station model looks like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n </a:t>
            </a:r>
            <a:r>
              <a:rPr b="0" i="1" lang="en-US" sz="4000" spc="-1" strike="noStrike">
                <a:solidFill>
                  <a:srgbClr val="000000"/>
                </a:solidFill>
                <a:latin typeface="Times New Roman"/>
                <a:ea typeface="Times New Roman"/>
              </a:rPr>
              <a:t>ad hoc  </a:t>
            </a:r>
            <a:r>
              <a:rPr b="0" lang="en-US" sz="4000" spc="-1" strike="noStrike">
                <a:solidFill>
                  <a:srgbClr val="000000"/>
                </a:solidFill>
                <a:latin typeface="Times New Roman"/>
                <a:ea typeface="Times New Roman"/>
              </a:rPr>
              <a:t>Station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imulation Objectives</a:t>
            </a:r>
            <a:endParaRPr b="0" lang="en-US" sz="4000" spc="-1" strike="noStrike">
              <a:solidFill>
                <a:srgbClr val="000000"/>
              </a:solidFill>
              <a:latin typeface="Arial"/>
            </a:endParaRPr>
          </a:p>
        </p:txBody>
      </p:sp>
      <p:sp>
        <p:nvSpPr>
          <p:cNvPr id="58" name=""/>
          <p:cNvSpPr txBox="1"/>
          <p:nvPr/>
        </p:nvSpPr>
        <p:spPr>
          <a:xfrm>
            <a:off x="76212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message output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ssage completion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1-way intranet delay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channel loading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bar Edwards</dc:creator>
  <dc:description/>
  <dc:language>en-US</dc:language>
  <cp:lastModifiedBy>Olibar Edwards</cp:lastModifiedBy>
  <cp:revision>0</cp:revision>
  <dc:subject/>
  <dc:title>teamlan to IEEE</dc:title>
</cp:coreProperties>
</file>