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0FAF2-BAB5-49C7-8077-4B2411F9E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38200" y="201600"/>
            <a:ext cx="8064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1997                                                                                                  doc: IEEE P802.11-97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88880" y="603900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: doc: Background for IEEE 802 Standard at 5.1GH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Richard Paine,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079960" y="625140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842449D-3FE6-45BD-8D29-D1B3FF1C8D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 for IEEE 80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479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994120" y="228600"/>
            <a:ext cx="5772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U-NII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00Mhz-wide band (5.15-5.35GHz and 5.725-5.825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2560" y="1662120"/>
            <a:ext cx="9007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4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4440" y="16200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2120" y="3036960"/>
            <a:ext cx="1835280" cy="2217600"/>
            <a:chOff x="4272120" y="3036960"/>
            <a:chExt cx="1835280" cy="2217600"/>
          </a:xfrm>
        </p:grpSpPr>
        <p:sp>
          <p:nvSpPr>
            <p:cNvPr id="529" name=""/>
            <p:cNvSpPr/>
            <p:nvPr/>
          </p:nvSpPr>
          <p:spPr>
            <a:xfrm>
              <a:off x="4467240" y="312732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272120" y="494172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59560" y="384336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668920" y="3854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2160" y="320184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78440" y="375300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7516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751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39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4202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39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751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000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12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00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516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12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00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12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00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12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516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00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24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171440" y="142884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709720" y="193824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97172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6800" y="602280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70640" y="182412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961320" y="356400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401840" y="351648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4241880" y="5513400"/>
            <a:ext cx="1992240" cy="773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299880" y="1303200"/>
            <a:ext cx="2405160" cy="166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440" y="1176480"/>
            <a:ext cx="243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/Intl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3080" y="1365120"/>
            <a:ext cx="84805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-NII - higher speeds in the 5.1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150MHZ covered by both U-NII and 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under U-NII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22800" y="212760"/>
            <a:ext cx="297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3840" y="2165400"/>
            <a:ext cx="84852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Ac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range including U-NII and HIPERLAN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roject for the 5.15GHz and 5.725 MAC and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 ATM compatibility with 802.2 MA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elationships with ETSI and ITU for 5.1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802.11 PHY operating up to 25Mbps per channel based on the U-NII rule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submit the PAR without addressing specific modulation types except only as it regards techn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93640" y="2017800"/>
            <a:ext cx="79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 recognition to WINForum (liais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for fair-share r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chronize timing with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aison with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ais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CC Release of 5.1GHz band for 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IEEE and ETS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ment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-NII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8720" y="160956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 9, 1997 FCC Released F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15-5.35GHz (2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75-5.85GHz (1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use on campuses and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vendors have 5.7 radios ou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8720" y="1609560"/>
            <a:ext cx="768672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work on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ETSI proposals for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0" y="0"/>
            <a:ext cx="9123480" cy="6689880"/>
            <a:chOff x="1440" y="0"/>
            <a:chExt cx="9123480" cy="6689880"/>
          </a:xfrm>
        </p:grpSpPr>
        <p:sp>
          <p:nvSpPr>
            <p:cNvPr id="153" name=""/>
            <p:cNvSpPr/>
            <p:nvPr/>
          </p:nvSpPr>
          <p:spPr>
            <a:xfrm>
              <a:off x="3390840" y="225756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457200"/>
              <a:ext cx="342900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066680"/>
              <a:ext cx="2819520" cy="175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2971800"/>
              <a:ext cx="2819520" cy="1371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2960" y="3619440"/>
              <a:ext cx="3733920" cy="19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98108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4724280"/>
              <a:ext cx="304920" cy="304920"/>
              <a:chOff x="228600" y="4724280"/>
              <a:chExt cx="30492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2280" y="5105520"/>
              <a:ext cx="457200" cy="457200"/>
              <a:chOff x="152280" y="5105520"/>
              <a:chExt cx="45720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280" y="5105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600" y="5715000"/>
              <a:ext cx="304920" cy="304920"/>
              <a:chOff x="228600" y="5715000"/>
              <a:chExt cx="304920" cy="30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52280" y="6172200"/>
              <a:ext cx="457200" cy="457200"/>
              <a:chOff x="152280" y="617220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62485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280" y="61722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400800" y="4876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8098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601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543800" y="4800600"/>
              <a:ext cx="304920" cy="304920"/>
              <a:chOff x="7543800" y="4800600"/>
              <a:chExt cx="3049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4800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20120" y="487692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377040" y="3867120"/>
              <a:ext cx="676800" cy="86040"/>
            </a:xfrm>
            <a:custGeom>
              <a:avLst/>
              <a:gdLst/>
              <a:ahLst/>
              <a:rect l="0" t="0" r="r" b="b"/>
              <a:pathLst>
                <a:path fill="none" w="1880" h="239">
                  <a:moveTo>
                    <a:pt x="0" y="239"/>
                  </a:moveTo>
                  <a:lnTo>
                    <a:pt x="1046" y="0"/>
                  </a:lnTo>
                  <a:lnTo>
                    <a:pt x="834" y="239"/>
                  </a:lnTo>
                  <a:lnTo>
                    <a:pt x="188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172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490536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01920" y="385128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715000" y="1371600"/>
              <a:ext cx="457200" cy="457200"/>
              <a:chOff x="5715000" y="1371600"/>
              <a:chExt cx="45720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5791320" y="1447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1371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257800" y="2209680"/>
              <a:ext cx="457200" cy="457200"/>
              <a:chOff x="5257800" y="2209680"/>
              <a:chExt cx="4572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53341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78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105520" y="3124080"/>
              <a:ext cx="457200" cy="457200"/>
              <a:chOff x="5105520" y="31240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5520" y="31240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09880" y="4800600"/>
              <a:ext cx="457200" cy="457200"/>
              <a:chOff x="3809880" y="4800600"/>
              <a:chExt cx="45720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4876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9880" y="4800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19720" y="4038480"/>
              <a:ext cx="457200" cy="457200"/>
              <a:chOff x="4419720" y="4038480"/>
              <a:chExt cx="45720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4038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86200" y="3352680"/>
              <a:ext cx="457200" cy="457200"/>
              <a:chOff x="3886200" y="3352680"/>
              <a:chExt cx="457200" cy="457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2520" y="3429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86200" y="3352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5880" y="2209680"/>
              <a:ext cx="457200" cy="457200"/>
              <a:chOff x="6095880" y="2209680"/>
              <a:chExt cx="4572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588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2590920"/>
              <a:ext cx="457200" cy="457200"/>
              <a:chOff x="3809880" y="259092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2590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5680" y="2286000"/>
              <a:ext cx="457200" cy="457200"/>
              <a:chOff x="4495680" y="2286000"/>
              <a:chExt cx="45720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0" y="23623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95680" y="22860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86000" y="2819520"/>
              <a:ext cx="457200" cy="457200"/>
              <a:chOff x="2286000" y="2819520"/>
              <a:chExt cx="45720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86000" y="2819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86000" y="2209680"/>
              <a:ext cx="457200" cy="457200"/>
              <a:chOff x="2286000" y="2209680"/>
              <a:chExt cx="45720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23623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2514600"/>
              <a:ext cx="457200" cy="457200"/>
              <a:chOff x="3048120" y="2514600"/>
              <a:chExt cx="45720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3124080" y="2590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514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86200" y="1905120"/>
              <a:ext cx="457200" cy="457200"/>
              <a:chOff x="3886200" y="1905120"/>
              <a:chExt cx="45720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962520" y="19810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1905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219320" y="2514600"/>
              <a:ext cx="304920" cy="304920"/>
              <a:chOff x="1219320" y="2514600"/>
              <a:chExt cx="304920" cy="304920"/>
            </a:xfrm>
          </p:grpSpPr>
          <p:sp>
            <p:nvSpPr>
              <p:cNvPr id="253" name=""/>
              <p:cNvSpPr/>
              <p:nvPr/>
            </p:nvSpPr>
            <p:spPr>
              <a:xfrm>
                <a:off x="1219320" y="25146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2000" y="1523880"/>
              <a:ext cx="304920" cy="304920"/>
              <a:chOff x="4572000" y="1523880"/>
              <a:chExt cx="304920" cy="304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514600" y="762120"/>
              <a:ext cx="304920" cy="304920"/>
              <a:chOff x="2514600" y="762120"/>
              <a:chExt cx="304920" cy="304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514600" y="7621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76720" y="1447920"/>
              <a:ext cx="304920" cy="304920"/>
              <a:chOff x="3276720" y="1447920"/>
              <a:chExt cx="304920" cy="304920"/>
            </a:xfrm>
          </p:grpSpPr>
          <p:sp>
            <p:nvSpPr>
              <p:cNvPr id="265" name=""/>
              <p:cNvSpPr/>
              <p:nvPr/>
            </p:nvSpPr>
            <p:spPr>
              <a:xfrm>
                <a:off x="3276720" y="14479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238880" y="327672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0280" y="12952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4343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6600" y="1523880"/>
              <a:ext cx="314640" cy="424080"/>
            </a:xfrm>
            <a:custGeom>
              <a:avLst/>
              <a:gdLst/>
              <a:ahLst/>
              <a:rect l="0" t="0" r="r" b="b"/>
              <a:pathLst>
                <a:path fill="none" w="874" h="1178">
                  <a:moveTo>
                    <a:pt x="0" y="0"/>
                  </a:moveTo>
                  <a:lnTo>
                    <a:pt x="658" y="622"/>
                  </a:lnTo>
                  <a:lnTo>
                    <a:pt x="216" y="555"/>
                  </a:lnTo>
                  <a:lnTo>
                    <a:pt x="874" y="11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82880" y="1006560"/>
              <a:ext cx="559080" cy="425880"/>
            </a:xfrm>
            <a:custGeom>
              <a:avLst/>
              <a:gdLst/>
              <a:ahLst/>
              <a:rect l="0" t="0" r="r" b="b"/>
              <a:pathLst>
                <a:path fill="none" w="1553" h="1183">
                  <a:moveTo>
                    <a:pt x="0" y="0"/>
                  </a:moveTo>
                  <a:lnTo>
                    <a:pt x="1006" y="534"/>
                  </a:lnTo>
                  <a:lnTo>
                    <a:pt x="546" y="649"/>
                  </a:lnTo>
                  <a:lnTo>
                    <a:pt x="1553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1447920"/>
              <a:ext cx="686160" cy="76680"/>
            </a:xfrm>
            <a:custGeom>
              <a:avLst/>
              <a:gdLst/>
              <a:ahLst/>
              <a:rect l="0" t="0" r="r" b="b"/>
              <a:pathLst>
                <a:path fill="none" w="1906" h="213">
                  <a:moveTo>
                    <a:pt x="0" y="213"/>
                  </a:moveTo>
                  <a:lnTo>
                    <a:pt x="1059" y="0"/>
                  </a:lnTo>
                  <a:lnTo>
                    <a:pt x="846" y="213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7400" y="3419640"/>
              <a:ext cx="565560" cy="340200"/>
            </a:xfrm>
            <a:custGeom>
              <a:avLst/>
              <a:gdLst/>
              <a:ahLst/>
              <a:rect l="0" t="0" r="r" b="b"/>
              <a:pathLst>
                <a:path fill="none" w="1571" h="945">
                  <a:moveTo>
                    <a:pt x="0" y="0"/>
                  </a:moveTo>
                  <a:lnTo>
                    <a:pt x="997" y="393"/>
                  </a:lnTo>
                  <a:lnTo>
                    <a:pt x="574" y="552"/>
                  </a:lnTo>
                  <a:lnTo>
                    <a:pt x="1571" y="9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3000" y="3287880"/>
              <a:ext cx="808560" cy="79560"/>
            </a:xfrm>
            <a:custGeom>
              <a:avLst/>
              <a:gdLst/>
              <a:ahLst/>
              <a:rect l="0" t="0" r="r" b="b"/>
              <a:pathLst>
                <a:path fill="none" w="2246" h="221">
                  <a:moveTo>
                    <a:pt x="0" y="221"/>
                  </a:moveTo>
                  <a:lnTo>
                    <a:pt x="1248" y="0"/>
                  </a:lnTo>
                  <a:lnTo>
                    <a:pt x="997" y="221"/>
                  </a:lnTo>
                  <a:lnTo>
                    <a:pt x="22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308640" y="13824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mission 16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5880" y="3733920"/>
              <a:ext cx="304920" cy="304920"/>
              <a:chOff x="6095880" y="3733920"/>
              <a:chExt cx="304920" cy="304920"/>
            </a:xfrm>
          </p:grpSpPr>
          <p:sp>
            <p:nvSpPr>
              <p:cNvPr id="278" name=""/>
              <p:cNvSpPr/>
              <p:nvPr/>
            </p:nvSpPr>
            <p:spPr>
              <a:xfrm>
                <a:off x="6095880" y="37339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38098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05720" y="3124080"/>
              <a:ext cx="304920" cy="304920"/>
              <a:chOff x="6705720" y="3124080"/>
              <a:chExt cx="304920" cy="304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3124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1680" y="320040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400800" y="3429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080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0481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83808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3400" y="882720"/>
              <a:ext cx="200520" cy="673560"/>
            </a:xfrm>
            <a:custGeom>
              <a:avLst/>
              <a:gdLst/>
              <a:ahLst/>
              <a:rect l="0" t="0" r="r" b="b"/>
              <a:pathLst>
                <a:path fill="none" w="557" h="1871">
                  <a:moveTo>
                    <a:pt x="0" y="1871"/>
                  </a:moveTo>
                  <a:lnTo>
                    <a:pt x="146" y="741"/>
                  </a:lnTo>
                  <a:lnTo>
                    <a:pt x="411" y="1129"/>
                  </a:lnTo>
                  <a:lnTo>
                    <a:pt x="5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8840" y="1122480"/>
              <a:ext cx="492480" cy="498960"/>
            </a:xfrm>
            <a:custGeom>
              <a:avLst/>
              <a:gdLst/>
              <a:ahLst/>
              <a:rect l="0" t="0" r="r" b="b"/>
              <a:pathLst>
                <a:path fill="none" w="1368" h="1386">
                  <a:moveTo>
                    <a:pt x="0" y="1386"/>
                  </a:moveTo>
                  <a:lnTo>
                    <a:pt x="657" y="459"/>
                  </a:lnTo>
                  <a:lnTo>
                    <a:pt x="710" y="927"/>
                  </a:lnTo>
                  <a:lnTo>
                    <a:pt x="136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12800" y="2703600"/>
              <a:ext cx="660600" cy="232200"/>
            </a:xfrm>
            <a:custGeom>
              <a:avLst/>
              <a:gdLst/>
              <a:ahLst/>
              <a:rect l="0" t="0" r="r" b="b"/>
              <a:pathLst>
                <a:path fill="none" w="1835" h="645">
                  <a:moveTo>
                    <a:pt x="0" y="0"/>
                  </a:moveTo>
                  <a:lnTo>
                    <a:pt x="1116" y="199"/>
                  </a:lnTo>
                  <a:lnTo>
                    <a:pt x="718" y="446"/>
                  </a:lnTo>
                  <a:lnTo>
                    <a:pt x="1835" y="6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43828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8195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274320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281952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267080" y="2514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14800" y="2362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952880" y="24382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438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486400" y="18288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518240" y="1328760"/>
              <a:ext cx="1606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32280" y="519120"/>
              <a:ext cx="5519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es w wireless 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9440" y="1300320"/>
              <a:ext cx="1606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-us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440" y="3632040"/>
              <a:ext cx="2268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004080" y="432756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 subn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14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838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410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57720" y="1533600"/>
              <a:ext cx="371880" cy="376560"/>
            </a:xfrm>
            <a:custGeom>
              <a:avLst/>
              <a:gdLst/>
              <a:ahLst/>
              <a:rect l="0" t="0" r="r" b="b"/>
              <a:pathLst>
                <a:path fill="none" w="1033" h="1046">
                  <a:moveTo>
                    <a:pt x="0" y="1046"/>
                  </a:moveTo>
                  <a:lnTo>
                    <a:pt x="494" y="343"/>
                  </a:lnTo>
                  <a:lnTo>
                    <a:pt x="538" y="702"/>
                  </a:lnTo>
                  <a:lnTo>
                    <a:pt x="10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689880" y="6156360"/>
              <a:ext cx="36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95440" y="4708440"/>
              <a:ext cx="189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440" y="5165640"/>
              <a:ext cx="301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ity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95440" y="5699160"/>
              <a:ext cx="31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95440" y="6232680"/>
              <a:ext cx="5672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mobility supporting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13360" y="4861080"/>
              <a:ext cx="1454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946680" y="539424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946680" y="592776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warding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680240" y="60040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137440" y="53942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7908840" y="4632480"/>
              <a:ext cx="1133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3320" y="440064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554200" y="491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2520" y="1676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819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82880" y="2824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982880" y="22906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8560" y="1676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49720" y="441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67440" y="1428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6458040" y="2266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3960" y="38671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1447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11880" y="3701880"/>
              <a:ext cx="633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5240" y="3701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375240" y="3701880"/>
              <a:ext cx="763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629400" y="3397320"/>
              <a:ext cx="69840" cy="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9240" y="3397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699240" y="3390840"/>
              <a:ext cx="6336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32640" y="3211560"/>
              <a:ext cx="44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257640"/>
              <a:ext cx="63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4160" y="3282840"/>
              <a:ext cx="1332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040" y="3308400"/>
              <a:ext cx="7632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1040" y="3333600"/>
              <a:ext cx="19692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2000" y="3216240"/>
              <a:ext cx="3816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171468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0920" y="2228760"/>
              <a:ext cx="257040" cy="257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4560" y="485784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4560" y="514368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938320" y="482292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909880" y="5108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18140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44672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05040" y="414648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576600" y="44323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73392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2280" y="4019400"/>
              <a:ext cx="71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2786040" y="369900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757600" y="395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5120" y="412416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86240" y="3629160"/>
              <a:ext cx="39996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800520"/>
              <a:ext cx="2858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86160" y="4486320"/>
              <a:ext cx="371520" cy="57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57600" y="5114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86160" y="4314960"/>
              <a:ext cx="14292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3280" y="3981600"/>
              <a:ext cx="6660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362640" y="4038480"/>
              <a:ext cx="572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7960" y="4052880"/>
              <a:ext cx="7128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19200" y="2419200"/>
              <a:ext cx="538560" cy="124200"/>
            </a:xfrm>
            <a:custGeom>
              <a:avLst/>
              <a:gdLst/>
              <a:ahLst/>
              <a:rect l="0" t="0" r="r" b="b"/>
              <a:pathLst>
                <a:path fill="none" w="1496" h="345">
                  <a:moveTo>
                    <a:pt x="0" y="345"/>
                  </a:moveTo>
                  <a:lnTo>
                    <a:pt x="830" y="0"/>
                  </a:lnTo>
                  <a:lnTo>
                    <a:pt x="666" y="345"/>
                  </a:lnTo>
                  <a:lnTo>
                    <a:pt x="149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7800" y="2448000"/>
              <a:ext cx="1440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52320" y="0"/>
              <a:ext cx="539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M Reference Mo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14880" y="1057320"/>
            <a:ext cx="5143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098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626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232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428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955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955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880" y="1843200"/>
            <a:ext cx="17938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8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4808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29240" y="1843200"/>
            <a:ext cx="19620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93720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8360" y="361332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0528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472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440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003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97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9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200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39000" y="4898880"/>
            <a:ext cx="164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55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8592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836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33920" y="4362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28640" y="1971720"/>
            <a:ext cx="7143840" cy="400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28640" y="3914640"/>
            <a:ext cx="714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8240" y="2452680"/>
            <a:ext cx="14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95120" y="4594320"/>
            <a:ext cx="1425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6880" y="138600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52840" y="1386000"/>
            <a:ext cx="103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2276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4832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35796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956720" y="12034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34316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7320" y="138096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76960" y="133344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1080" y="137160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3860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88136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512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13132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51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32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37240" y="248112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7847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844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69108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43360" y="251928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178760" y="120348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10360" y="135252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346880" y="251928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169040" y="465120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950240" y="251928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Proposal for a 5.1Ghz PHY for IEEE 802</dc:title>
</cp:coreProperties>
</file>