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FBAB6AC-C30A-4FA1-B97E-463634033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1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July 7-11,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Lahaina, Maui, Hawaii</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July 7,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7-11 - Hyatt Regency, Maui, Lahaina, HI ,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ember 8-11? - To be determined, Interim for PH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the documents for future work in the High Speed Study Group including submitting the 5 GHz PAR to SEC</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the maintenance PAR for 802.11</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tart work on the new PHY(s)</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a new draft 802.11 if needed</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et-up a maintenance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28472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Exec     |Res  !Study|Res  !Study |Res  !Study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Comm.   |new  !group|new  !group |new  !group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drft/!     |drft/!      |drft/!      |</a:t>
            </a:r>
            <a:r>
              <a:rPr b="1" lang="en-US" sz="1600" spc="-1" strike="noStrike">
                <a:solidFill>
                  <a:srgbClr val="969696"/>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aint!     |maint!      |maint!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802     |Res  !Study|Full 802.11 |Full 802.11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Plenary    |new  !group|............|   Repor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drft/!     |Res  !Study |   Outpu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maint!     |new  !group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drft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Social      |   Exec.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Event  |     Comm.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24</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nnyval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40</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4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Resolution/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Conformance Test Group if requir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ution/maintenance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