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8680" y="104760"/>
            <a:ext cx="2743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-97/78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1600200"/>
            <a:ext cx="71629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2b643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38280" y="128520"/>
            <a:ext cx="16066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3240" y="617220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838080" y="60976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alysis of 802.11 Multirate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bability of Coll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496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an Throughput in a B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630440"/>
            <a:ext cx="64962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urrent multirate mechanism in 802.11 fails to deliver the benefits of using higher rates at the physical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HY that does deliver the benefits of higher PHY rates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ion: design a PHY that delivers both compatibility AND efficiency by being mod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lone mode: highl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tibility mode: backward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ective Transmission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 single acknowledged fr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240" y="2481120"/>
            <a:ext cx="8867880" cy="79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55760" y="3743280"/>
            <a:ext cx="68468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ngle Frame - Compa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15920" y="1849320"/>
            <a:ext cx="71024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ngle Frame - Mod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ngle Frame -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ect of Con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98108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ing the time spent in backo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87680" y="2557440"/>
            <a:ext cx="3454560" cy="64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066680" y="3276720"/>
            <a:ext cx="7162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20000"/>
              </a:lnSpc>
              <a:spcBef>
                <a:spcPts val="720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lot 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20000"/>
              </a:lnSpc>
              <a:spcBef>
                <a:spcPts val="720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lli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bability of collision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20000"/>
              </a:lnSpc>
              <a:spcBef>
                <a:spcPts val="72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ean number of slots chosen i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back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44800" y="4476600"/>
            <a:ext cx="4525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ffect of Con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3124080" cy="3759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0360" y="2514600"/>
            <a:ext cx="3049560" cy="37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19920" y="1752480"/>
            <a:ext cx="31226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ring in the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group frame size distribution, from work done at 3Com, AMD and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58760" y="2522520"/>
            <a:ext cx="70405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otal Throughput in a B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the mean frame size from the workgroup distribution (607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bining equations for effective transmit rate and probability of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ing probability of collision based on number of competing stations in a B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02120" y="5032440"/>
            <a:ext cx="2301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No Slide Title</dc:title>
</cp:coreProperties>
</file>