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4AD6F2-516F-45AB-9802-DC60B6666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37160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Considerations for Implementation of Adaptive Data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5280" y="39625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. Hurne and D. Dr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en Bridg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51400" y="2754360"/>
            <a:ext cx="405000" cy="1351440"/>
          </a:xfrm>
          <a:custGeom>
            <a:avLst/>
            <a:gdLst/>
            <a:ahLst/>
            <a:rect l="0" t="0" r="r" b="b"/>
            <a:pathLst>
              <a:path w="1125" h="3754">
                <a:moveTo>
                  <a:pt x="0" y="3754"/>
                </a:moveTo>
                <a:lnTo>
                  <a:pt x="1125" y="3754"/>
                </a:lnTo>
                <a:lnTo>
                  <a:pt x="1125" y="0"/>
                </a:lnTo>
                <a:lnTo>
                  <a:pt x="0" y="0"/>
                </a:lnTo>
                <a:lnTo>
                  <a:pt x="0" y="37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65440" y="3322800"/>
            <a:ext cx="35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32320" y="3395520"/>
            <a:ext cx="412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EM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08400" y="3444840"/>
            <a:ext cx="2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8040" y="418608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25960" y="416736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91040" y="4238640"/>
            <a:ext cx="92880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8040" y="3444840"/>
            <a:ext cx="972000" cy="201960"/>
          </a:xfrm>
          <a:custGeom>
            <a:avLst/>
            <a:gdLst/>
            <a:ahLst/>
            <a:rect l="0" t="0" r="r" b="b"/>
            <a:pathLst>
              <a:path w="2700" h="561">
                <a:moveTo>
                  <a:pt x="0" y="561"/>
                </a:moveTo>
                <a:lnTo>
                  <a:pt x="2700" y="561"/>
                </a:lnTo>
                <a:lnTo>
                  <a:pt x="2700" y="0"/>
                </a:lnTo>
                <a:lnTo>
                  <a:pt x="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125960" y="342432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110120" y="349740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6040" y="28368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8040" y="297180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25960" y="295272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10120" y="302436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1720" y="283536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32320" y="286236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84800" y="2768760"/>
            <a:ext cx="324360" cy="1351440"/>
          </a:xfrm>
          <a:custGeom>
            <a:avLst/>
            <a:gdLst/>
            <a:ahLst/>
            <a:rect l="0" t="0" r="r" b="b"/>
            <a:pathLst>
              <a:path w="901" h="3754">
                <a:moveTo>
                  <a:pt x="0" y="3754"/>
                </a:moveTo>
                <a:lnTo>
                  <a:pt x="901" y="3754"/>
                </a:lnTo>
                <a:lnTo>
                  <a:pt x="901" y="0"/>
                </a:lnTo>
                <a:lnTo>
                  <a:pt x="0" y="0"/>
                </a:lnTo>
                <a:lnTo>
                  <a:pt x="0" y="37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62840" y="3193920"/>
            <a:ext cx="3254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SU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84600" y="383220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9"/>
                </a:moveTo>
                <a:lnTo>
                  <a:pt x="4" y="27"/>
                </a:lnTo>
                <a:lnTo>
                  <a:pt x="22" y="13"/>
                </a:lnTo>
                <a:lnTo>
                  <a:pt x="39" y="0"/>
                </a:lnTo>
                <a:lnTo>
                  <a:pt x="71" y="0"/>
                </a:lnTo>
                <a:lnTo>
                  <a:pt x="89" y="13"/>
                </a:lnTo>
                <a:lnTo>
                  <a:pt x="106" y="27"/>
                </a:lnTo>
                <a:lnTo>
                  <a:pt x="111" y="49"/>
                </a:lnTo>
                <a:lnTo>
                  <a:pt x="106" y="72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72"/>
                </a:lnTo>
                <a:lnTo>
                  <a:pt x="0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84600" y="377172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67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84600" y="390384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67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08800" y="329256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4524480"/>
            <a:ext cx="405000" cy="1349640"/>
          </a:xfrm>
          <a:custGeom>
            <a:avLst/>
            <a:gdLst/>
            <a:ahLst/>
            <a:rect l="0" t="0" r="r" b="b"/>
            <a:pathLst>
              <a:path w="1125" h="3749">
                <a:moveTo>
                  <a:pt x="0" y="3749"/>
                </a:moveTo>
                <a:lnTo>
                  <a:pt x="1125" y="3749"/>
                </a:lnTo>
                <a:lnTo>
                  <a:pt x="1125" y="0"/>
                </a:lnTo>
                <a:lnTo>
                  <a:pt x="0" y="0"/>
                </a:lnTo>
                <a:lnTo>
                  <a:pt x="0" y="37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5440" y="5078520"/>
            <a:ext cx="35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32320" y="5149800"/>
            <a:ext cx="412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EM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08400" y="5199120"/>
            <a:ext cx="2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6040" y="580536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040" y="594036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125960" y="592128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91040" y="5994360"/>
            <a:ext cx="92880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1720" y="580536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6040" y="506412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8040" y="5199120"/>
            <a:ext cx="972000" cy="201960"/>
          </a:xfrm>
          <a:custGeom>
            <a:avLst/>
            <a:gdLst/>
            <a:ahLst/>
            <a:rect l="0" t="0" r="r" b="b"/>
            <a:pathLst>
              <a:path w="2700" h="561">
                <a:moveTo>
                  <a:pt x="0" y="561"/>
                </a:moveTo>
                <a:lnTo>
                  <a:pt x="2700" y="561"/>
                </a:lnTo>
                <a:lnTo>
                  <a:pt x="2700" y="0"/>
                </a:lnTo>
                <a:lnTo>
                  <a:pt x="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25960" y="518004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10120" y="525132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1720" y="506268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6040" y="459108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8040" y="472608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25960" y="470700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10120" y="477828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1720" y="459108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84800" y="4524480"/>
            <a:ext cx="324360" cy="1349640"/>
          </a:xfrm>
          <a:custGeom>
            <a:avLst/>
            <a:gdLst/>
            <a:ahLst/>
            <a:rect l="0" t="0" r="r" b="b"/>
            <a:pathLst>
              <a:path w="901" h="3749">
                <a:moveTo>
                  <a:pt x="0" y="3749"/>
                </a:moveTo>
                <a:lnTo>
                  <a:pt x="901" y="3749"/>
                </a:lnTo>
                <a:lnTo>
                  <a:pt x="901" y="0"/>
                </a:lnTo>
                <a:lnTo>
                  <a:pt x="0" y="0"/>
                </a:lnTo>
                <a:lnTo>
                  <a:pt x="0" y="37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162840" y="5024520"/>
            <a:ext cx="3254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SU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4600" y="558792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2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2"/>
                </a:lnTo>
                <a:lnTo>
                  <a:pt x="111" y="45"/>
                </a:lnTo>
                <a:lnTo>
                  <a:pt x="106" y="67"/>
                </a:lnTo>
                <a:lnTo>
                  <a:pt x="89" y="81"/>
                </a:lnTo>
                <a:lnTo>
                  <a:pt x="71" y="94"/>
                </a:lnTo>
                <a:lnTo>
                  <a:pt x="39" y="94"/>
                </a:lnTo>
                <a:lnTo>
                  <a:pt x="22" y="81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84600" y="551988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67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84600" y="565452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72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72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08800" y="512280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03400" y="3309840"/>
            <a:ext cx="405000" cy="2024280"/>
          </a:xfrm>
          <a:custGeom>
            <a:avLst/>
            <a:gdLst/>
            <a:ahLst/>
            <a:rect l="0" t="0" r="r" b="b"/>
            <a:pathLst>
              <a:path w="1125" h="5623">
                <a:moveTo>
                  <a:pt x="0" y="5623"/>
                </a:moveTo>
                <a:lnTo>
                  <a:pt x="1125" y="5623"/>
                </a:lnTo>
                <a:lnTo>
                  <a:pt x="1125" y="0"/>
                </a:lnTo>
                <a:lnTo>
                  <a:pt x="0" y="0"/>
                </a:lnTo>
                <a:lnTo>
                  <a:pt x="0" y="562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917800" y="4200480"/>
            <a:ext cx="35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884320" y="4272120"/>
            <a:ext cx="412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EM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0760" y="4321080"/>
            <a:ext cx="24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030400" y="4222800"/>
            <a:ext cx="5349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 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10400" y="3181320"/>
            <a:ext cx="7365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I - DATA OU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83400" y="5011560"/>
            <a:ext cx="781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Q - DATA OU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high data rate system packet (except MPDU) or present IEEE 802.11 same as present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block diagram for new high data rate system MPDU is illustrated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92560" y="2822400"/>
            <a:ext cx="1097280" cy="390600"/>
            <a:chOff x="5092560" y="2822400"/>
            <a:chExt cx="1097280" cy="390600"/>
          </a:xfrm>
        </p:grpSpPr>
        <p:grpSp>
          <p:nvGrpSpPr>
            <p:cNvPr id="151" name=""/>
            <p:cNvGrpSpPr/>
            <p:nvPr/>
          </p:nvGrpSpPr>
          <p:grpSpPr>
            <a:xfrm>
              <a:off x="5257800" y="2822400"/>
              <a:ext cx="168480" cy="82800"/>
              <a:chOff x="5257800" y="2822400"/>
              <a:chExt cx="168480" cy="82800"/>
            </a:xfrm>
          </p:grpSpPr>
          <p:sp>
            <p:nvSpPr>
              <p:cNvPr id="152" name=""/>
              <p:cNvSpPr/>
              <p:nvPr/>
            </p:nvSpPr>
            <p:spPr>
              <a:xfrm>
                <a:off x="5294160" y="282240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57800" y="282240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092560" y="2892600"/>
              <a:ext cx="211320" cy="182880"/>
              <a:chOff x="5092560" y="2892600"/>
              <a:chExt cx="211320" cy="182880"/>
            </a:xfrm>
          </p:grpSpPr>
          <p:sp>
            <p:nvSpPr>
              <p:cNvPr id="155" name=""/>
              <p:cNvSpPr/>
              <p:nvPr/>
            </p:nvSpPr>
            <p:spPr>
              <a:xfrm>
                <a:off x="5199120" y="289404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92560" y="289260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457960" y="286380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977080" y="2844720"/>
              <a:ext cx="168480" cy="82800"/>
              <a:chOff x="5977080" y="2844720"/>
              <a:chExt cx="168480" cy="82800"/>
            </a:xfrm>
          </p:grpSpPr>
          <p:sp>
            <p:nvSpPr>
              <p:cNvPr id="159" name=""/>
              <p:cNvSpPr/>
              <p:nvPr/>
            </p:nvSpPr>
            <p:spPr>
              <a:xfrm>
                <a:off x="6013440" y="28447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77080" y="28447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786280" y="2909880"/>
              <a:ext cx="243000" cy="186120"/>
              <a:chOff x="5786280" y="2909880"/>
              <a:chExt cx="243000" cy="186120"/>
            </a:xfrm>
          </p:grpSpPr>
          <p:sp>
            <p:nvSpPr>
              <p:cNvPr id="162" name=""/>
              <p:cNvSpPr/>
              <p:nvPr/>
            </p:nvSpPr>
            <p:spPr>
              <a:xfrm>
                <a:off x="5908680" y="291132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6280" y="290988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425920" y="299088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396040" y="296856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145200" y="288288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92560" y="3341520"/>
            <a:ext cx="1097280" cy="390600"/>
            <a:chOff x="5092560" y="3341520"/>
            <a:chExt cx="1097280" cy="390600"/>
          </a:xfrm>
        </p:grpSpPr>
        <p:grpSp>
          <p:nvGrpSpPr>
            <p:cNvPr id="168" name=""/>
            <p:cNvGrpSpPr/>
            <p:nvPr/>
          </p:nvGrpSpPr>
          <p:grpSpPr>
            <a:xfrm>
              <a:off x="5257800" y="3341520"/>
              <a:ext cx="168480" cy="82800"/>
              <a:chOff x="5257800" y="3341520"/>
              <a:chExt cx="168480" cy="82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294160" y="33415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57800" y="33415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092560" y="3411360"/>
              <a:ext cx="211320" cy="182880"/>
              <a:chOff x="5092560" y="3411360"/>
              <a:chExt cx="211320" cy="182880"/>
            </a:xfrm>
          </p:grpSpPr>
          <p:sp>
            <p:nvSpPr>
              <p:cNvPr id="172" name=""/>
              <p:cNvSpPr/>
              <p:nvPr/>
            </p:nvSpPr>
            <p:spPr>
              <a:xfrm>
                <a:off x="5199120" y="341316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92560" y="341136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5457960" y="338292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77080" y="3363840"/>
              <a:ext cx="168480" cy="82800"/>
              <a:chOff x="5977080" y="3363840"/>
              <a:chExt cx="168480" cy="82800"/>
            </a:xfrm>
          </p:grpSpPr>
          <p:sp>
            <p:nvSpPr>
              <p:cNvPr id="176" name=""/>
              <p:cNvSpPr/>
              <p:nvPr/>
            </p:nvSpPr>
            <p:spPr>
              <a:xfrm>
                <a:off x="6013440" y="336384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77080" y="336384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786280" y="3429000"/>
              <a:ext cx="243000" cy="186120"/>
              <a:chOff x="5786280" y="3429000"/>
              <a:chExt cx="243000" cy="186120"/>
            </a:xfrm>
          </p:grpSpPr>
          <p:sp>
            <p:nvSpPr>
              <p:cNvPr id="179" name=""/>
              <p:cNvSpPr/>
              <p:nvPr/>
            </p:nvSpPr>
            <p:spPr>
              <a:xfrm>
                <a:off x="5908680" y="343044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86280" y="342900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425920" y="351000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396040" y="348768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145200" y="340200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092560" y="3965400"/>
            <a:ext cx="1097280" cy="390600"/>
            <a:chOff x="5092560" y="3965400"/>
            <a:chExt cx="1097280" cy="390600"/>
          </a:xfrm>
        </p:grpSpPr>
        <p:grpSp>
          <p:nvGrpSpPr>
            <p:cNvPr id="185" name=""/>
            <p:cNvGrpSpPr/>
            <p:nvPr/>
          </p:nvGrpSpPr>
          <p:grpSpPr>
            <a:xfrm>
              <a:off x="5257800" y="3965400"/>
              <a:ext cx="168480" cy="82800"/>
              <a:chOff x="5257800" y="3965400"/>
              <a:chExt cx="168480" cy="82800"/>
            </a:xfrm>
          </p:grpSpPr>
          <p:sp>
            <p:nvSpPr>
              <p:cNvPr id="186" name=""/>
              <p:cNvSpPr/>
              <p:nvPr/>
            </p:nvSpPr>
            <p:spPr>
              <a:xfrm>
                <a:off x="5294160" y="396540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57800" y="396540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092560" y="4035600"/>
              <a:ext cx="211320" cy="182880"/>
              <a:chOff x="5092560" y="4035600"/>
              <a:chExt cx="211320" cy="182880"/>
            </a:xfrm>
          </p:grpSpPr>
          <p:sp>
            <p:nvSpPr>
              <p:cNvPr id="189" name=""/>
              <p:cNvSpPr/>
              <p:nvPr/>
            </p:nvSpPr>
            <p:spPr>
              <a:xfrm>
                <a:off x="5199120" y="403704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092560" y="403560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457960" y="400680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977080" y="3987720"/>
              <a:ext cx="168480" cy="82800"/>
              <a:chOff x="5977080" y="3987720"/>
              <a:chExt cx="168480" cy="82800"/>
            </a:xfrm>
          </p:grpSpPr>
          <p:sp>
            <p:nvSpPr>
              <p:cNvPr id="193" name=""/>
              <p:cNvSpPr/>
              <p:nvPr/>
            </p:nvSpPr>
            <p:spPr>
              <a:xfrm>
                <a:off x="6013440" y="39877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77080" y="39877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786280" y="4052880"/>
              <a:ext cx="243000" cy="186120"/>
              <a:chOff x="5786280" y="4052880"/>
              <a:chExt cx="243000" cy="186120"/>
            </a:xfrm>
          </p:grpSpPr>
          <p:sp>
            <p:nvSpPr>
              <p:cNvPr id="196" name=""/>
              <p:cNvSpPr/>
              <p:nvPr/>
            </p:nvSpPr>
            <p:spPr>
              <a:xfrm>
                <a:off x="5908680" y="405432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86280" y="405288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425920" y="413388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5396040" y="411156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145200" y="402588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92560" y="4575240"/>
            <a:ext cx="1097280" cy="390600"/>
            <a:chOff x="5092560" y="4575240"/>
            <a:chExt cx="1097280" cy="390600"/>
          </a:xfrm>
        </p:grpSpPr>
        <p:grpSp>
          <p:nvGrpSpPr>
            <p:cNvPr id="202" name=""/>
            <p:cNvGrpSpPr/>
            <p:nvPr/>
          </p:nvGrpSpPr>
          <p:grpSpPr>
            <a:xfrm>
              <a:off x="5257800" y="4575240"/>
              <a:ext cx="168480" cy="82800"/>
              <a:chOff x="5257800" y="4575240"/>
              <a:chExt cx="168480" cy="82800"/>
            </a:xfrm>
          </p:grpSpPr>
          <p:sp>
            <p:nvSpPr>
              <p:cNvPr id="203" name=""/>
              <p:cNvSpPr/>
              <p:nvPr/>
            </p:nvSpPr>
            <p:spPr>
              <a:xfrm>
                <a:off x="5294160" y="457524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57800" y="457524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092560" y="4645080"/>
              <a:ext cx="211320" cy="182880"/>
              <a:chOff x="5092560" y="4645080"/>
              <a:chExt cx="211320" cy="182880"/>
            </a:xfrm>
          </p:grpSpPr>
          <p:sp>
            <p:nvSpPr>
              <p:cNvPr id="206" name=""/>
              <p:cNvSpPr/>
              <p:nvPr/>
            </p:nvSpPr>
            <p:spPr>
              <a:xfrm>
                <a:off x="5199120" y="464652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92560" y="464508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457960" y="461628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977080" y="4597560"/>
              <a:ext cx="168480" cy="82800"/>
              <a:chOff x="5977080" y="4597560"/>
              <a:chExt cx="168480" cy="82800"/>
            </a:xfrm>
          </p:grpSpPr>
          <p:sp>
            <p:nvSpPr>
              <p:cNvPr id="210" name=""/>
              <p:cNvSpPr/>
              <p:nvPr/>
            </p:nvSpPr>
            <p:spPr>
              <a:xfrm>
                <a:off x="6013440" y="459756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77080" y="459756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786280" y="4662360"/>
              <a:ext cx="243000" cy="186120"/>
              <a:chOff x="5786280" y="4662360"/>
              <a:chExt cx="243000" cy="186120"/>
            </a:xfrm>
          </p:grpSpPr>
          <p:sp>
            <p:nvSpPr>
              <p:cNvPr id="213" name=""/>
              <p:cNvSpPr/>
              <p:nvPr/>
            </p:nvSpPr>
            <p:spPr>
              <a:xfrm>
                <a:off x="5908680" y="466416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86280" y="466236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425920" y="474336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5396040" y="472140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145200" y="463536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092560" y="5032440"/>
            <a:ext cx="1097280" cy="390600"/>
            <a:chOff x="5092560" y="5032440"/>
            <a:chExt cx="1097280" cy="390600"/>
          </a:xfrm>
        </p:grpSpPr>
        <p:grpSp>
          <p:nvGrpSpPr>
            <p:cNvPr id="219" name=""/>
            <p:cNvGrpSpPr/>
            <p:nvPr/>
          </p:nvGrpSpPr>
          <p:grpSpPr>
            <a:xfrm>
              <a:off x="5257800" y="5032440"/>
              <a:ext cx="168480" cy="82800"/>
              <a:chOff x="5257800" y="5032440"/>
              <a:chExt cx="168480" cy="82800"/>
            </a:xfrm>
          </p:grpSpPr>
          <p:sp>
            <p:nvSpPr>
              <p:cNvPr id="220" name=""/>
              <p:cNvSpPr/>
              <p:nvPr/>
            </p:nvSpPr>
            <p:spPr>
              <a:xfrm>
                <a:off x="5294160" y="503244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57800" y="503244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092560" y="5102280"/>
              <a:ext cx="211320" cy="182880"/>
              <a:chOff x="5092560" y="5102280"/>
              <a:chExt cx="211320" cy="182880"/>
            </a:xfrm>
          </p:grpSpPr>
          <p:sp>
            <p:nvSpPr>
              <p:cNvPr id="223" name=""/>
              <p:cNvSpPr/>
              <p:nvPr/>
            </p:nvSpPr>
            <p:spPr>
              <a:xfrm>
                <a:off x="5199120" y="510372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92560" y="510228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457960" y="507348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977080" y="5054760"/>
              <a:ext cx="168480" cy="82800"/>
              <a:chOff x="5977080" y="5054760"/>
              <a:chExt cx="168480" cy="82800"/>
            </a:xfrm>
          </p:grpSpPr>
          <p:sp>
            <p:nvSpPr>
              <p:cNvPr id="227" name=""/>
              <p:cNvSpPr/>
              <p:nvPr/>
            </p:nvSpPr>
            <p:spPr>
              <a:xfrm>
                <a:off x="6013440" y="505476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77080" y="505476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786280" y="5119560"/>
              <a:ext cx="243000" cy="186120"/>
              <a:chOff x="5786280" y="5119560"/>
              <a:chExt cx="243000" cy="186120"/>
            </a:xfrm>
          </p:grpSpPr>
          <p:sp>
            <p:nvSpPr>
              <p:cNvPr id="230" name=""/>
              <p:cNvSpPr/>
              <p:nvPr/>
            </p:nvSpPr>
            <p:spPr>
              <a:xfrm>
                <a:off x="5908680" y="512136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86280" y="511956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425920" y="520056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5396040" y="517860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145200" y="509256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092560" y="5794200"/>
            <a:ext cx="1097280" cy="390600"/>
            <a:chOff x="5092560" y="5794200"/>
            <a:chExt cx="1097280" cy="390600"/>
          </a:xfrm>
        </p:grpSpPr>
        <p:grpSp>
          <p:nvGrpSpPr>
            <p:cNvPr id="236" name=""/>
            <p:cNvGrpSpPr/>
            <p:nvPr/>
          </p:nvGrpSpPr>
          <p:grpSpPr>
            <a:xfrm>
              <a:off x="5257800" y="5794200"/>
              <a:ext cx="168480" cy="82800"/>
              <a:chOff x="5257800" y="5794200"/>
              <a:chExt cx="168480" cy="82800"/>
            </a:xfrm>
          </p:grpSpPr>
          <p:sp>
            <p:nvSpPr>
              <p:cNvPr id="237" name=""/>
              <p:cNvSpPr/>
              <p:nvPr/>
            </p:nvSpPr>
            <p:spPr>
              <a:xfrm>
                <a:off x="5294160" y="579420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57800" y="579420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092560" y="5864400"/>
              <a:ext cx="211320" cy="182880"/>
              <a:chOff x="5092560" y="5864400"/>
              <a:chExt cx="211320" cy="182880"/>
            </a:xfrm>
          </p:grpSpPr>
          <p:sp>
            <p:nvSpPr>
              <p:cNvPr id="240" name=""/>
              <p:cNvSpPr/>
              <p:nvPr/>
            </p:nvSpPr>
            <p:spPr>
              <a:xfrm>
                <a:off x="5199120" y="586584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92560" y="586440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5457960" y="583560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977080" y="5816520"/>
              <a:ext cx="168480" cy="82800"/>
              <a:chOff x="5977080" y="5816520"/>
              <a:chExt cx="168480" cy="82800"/>
            </a:xfrm>
          </p:grpSpPr>
          <p:sp>
            <p:nvSpPr>
              <p:cNvPr id="244" name=""/>
              <p:cNvSpPr/>
              <p:nvPr/>
            </p:nvSpPr>
            <p:spPr>
              <a:xfrm>
                <a:off x="6013440" y="58165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77080" y="58165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5786280" y="5881680"/>
              <a:ext cx="243000" cy="186120"/>
              <a:chOff x="5786280" y="5881680"/>
              <a:chExt cx="243000" cy="186120"/>
            </a:xfrm>
          </p:grpSpPr>
          <p:sp>
            <p:nvSpPr>
              <p:cNvPr id="247" name=""/>
              <p:cNvSpPr/>
              <p:nvPr/>
            </p:nvSpPr>
            <p:spPr>
              <a:xfrm>
                <a:off x="5908680" y="588312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86280" y="588168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425920" y="596268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5396040" y="594036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145200" y="585468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62520" y="3352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962520" y="3962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787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19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38480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962520" y="5540400"/>
            <a:ext cx="152280" cy="152280"/>
            <a:chOff x="3962520" y="5540400"/>
            <a:chExt cx="152280" cy="152280"/>
          </a:xfrm>
        </p:grpSpPr>
        <p:sp>
          <p:nvSpPr>
            <p:cNvPr id="258" name=""/>
            <p:cNvSpPr/>
            <p:nvPr/>
          </p:nvSpPr>
          <p:spPr>
            <a:xfrm>
              <a:off x="3962520" y="5616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62520" y="5692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62520" y="554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19920" y="5540400"/>
            <a:ext cx="152280" cy="152280"/>
            <a:chOff x="6019920" y="5540400"/>
            <a:chExt cx="152280" cy="152280"/>
          </a:xfrm>
        </p:grpSpPr>
        <p:sp>
          <p:nvSpPr>
            <p:cNvPr id="262" name=""/>
            <p:cNvSpPr/>
            <p:nvPr/>
          </p:nvSpPr>
          <p:spPr>
            <a:xfrm>
              <a:off x="6019920" y="5616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9920" y="5692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19920" y="554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19920" y="3787920"/>
            <a:ext cx="152280" cy="152280"/>
            <a:chOff x="6019920" y="3787920"/>
            <a:chExt cx="152280" cy="152280"/>
          </a:xfrm>
        </p:grpSpPr>
        <p:sp>
          <p:nvSpPr>
            <p:cNvPr id="266" name=""/>
            <p:cNvSpPr/>
            <p:nvPr/>
          </p:nvSpPr>
          <p:spPr>
            <a:xfrm>
              <a:off x="6019920" y="3863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9920" y="39402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9920" y="3787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data rate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d data rate increases as number of orthogonal codes used increases (one data bit per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use 1 to 11 Augmented Barker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data bits can be recovered due to the orthogonal nature of the spreading cod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Code has same clock as Augmented Barker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Code is 4095 bits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ip rate: 11 M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802.11 Mode: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new metho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except frame body and CRC32: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body and CRC32: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802.11 Mode: 1 Mbps (BPSK), 2 Mbps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new method: 1.83, 3.67,  up to 20.16 Mbps in increments of 1.83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ata rate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ew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an use 1 code, 2 codes, … , 11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 (Mcp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 (augmented Barker cod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(Mbps, BPSK modulation, per cod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(Mbps , QPSK modulation , per cod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data rate (Mbps , QPSK modulation , 1 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data rate (Mbps , QPSK modulation , 11 co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  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compatibl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as BPSK, QPSK modulation using one code. Code is Barker code, data rate is 1 and 2 Mbps and PG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signal band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 is constant and identical to the present IEEE 802.11 standard (11 Mcp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bandwidth requirements remain identical to present IEEE 802.11 standard bas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and despread signal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signal constellation (number of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de (11/6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des (11/3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codes (20  1/6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er constellation points are low probability; RF can be in soft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read signal constellation always 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and 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high data rate system can fully coexist and interoperate with legacy systems, subject to new higher data rates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acquire same spread spectrum SYNC pre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tect the same SFD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SIGNAL field - this field indicates the data format of the MPDU field. It can indic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802.11 (1 or 2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ew data rate (one of 11 data rates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SERVIC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LENGTH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CRC16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ystems can then demodulate MPDU at enhanced data rates or at present IEEE 802.11 data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ompl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omplexity increase is small due to utilization of matched filter based technology to implement the following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desp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SK / QPSK de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tracking (± 25 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tracking (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ty processing (selection or Rake with MR comb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channel assessment (CCA) using energy detection at IF and post desp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RF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next generation of W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 with exis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applicability to variety of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multip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9810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performance due to matched filter based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istance for several data rates, 100 byte packet,    FER=10e-1, no diversity processing (RA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86994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RF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Costas loop removes frequency offsets of ± 25 PP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R (dB) required for several data rates to achieve FER=10e-1 for  100 byte packet. Frequency offsets of 0 and 125 KHz are consi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02236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vs AGC setting for 8, 10, 12 dB.  Data rate of 1.83 Mbps at a frequency offset of 0 KHz (left) and 80 KHz (righ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517920" cy="4260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43836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vs AGC setting for 8, 10, 12 dB.  Data rate of 12.83 Mbps at a frequency offset of 0 KHz (left) and 80 KHz (righ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511520" y="1981080"/>
            <a:ext cx="3498840" cy="4127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50960" y="2057400"/>
            <a:ext cx="35751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 outlines a flexible signal structure that can be efficiently processed by high performance matched filter based archite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with existing systems and capable of trading off cost, power consumption and data rate (11 rates, 1.83 to 20 Mbps plus present 1 and 2 Mbps) while maintaining full interoperabi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ll range of existing systems, from smallest ( and most restricted in power consumption) to largest can communicate using new IEEE Wireless LAN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filter based operation can take advantage of multipath to enhance system performance at little or no additional hardware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 signal structure complies with FCC ISM band defin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 in ISM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data rate of up to 2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 operation compliant to FCC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 with existing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modification to existing protocol softwar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mless operation in a mixed environment, i.e., present IEEE 802.11 and new high speed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applicability to variety of plat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-off between cost/power consumption/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IEEE802.11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system uses 11 chip Barker code as spread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data bit spread by entire cod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F) Modulation is BPSK or 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varied by changing modul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 is 11 M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bandwidth is 22 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defined fields (sync, set-up, dat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protection of selec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5238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ed carrier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block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data rat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ata rat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signal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and despread signal const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and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 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spreading code is the 11 bit Barker C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1 -1 +1 +1 -1 +1 +1 +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ugmen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appends a ‘-1’ chip at 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1 -1 +1 +1 -1 +1 +1 +1 -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ugmen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set uses all phases of the original Barker code and appends a ‘-1’ chip at 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 1: +1 -1 +1 +1 -1 +1 +1 +1 -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 2: -1 +1 +1 -1 +1 +1 +1 -1 -1 -1 +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 11: -1+1 -1 +1 +1 -1 +1 +1 +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gmen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s form orthogonal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ed carrier princi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each member of orthogonal code set to spread spectrum modulate individual data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spread spectrum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composit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d</dc:creator>
  <dc:description/>
  <dc:language>en-US</dc:language>
  <cp:lastModifiedBy>sd</cp:lastModifiedBy>
  <cp:revision>0</cp:revision>
  <dc:subject/>
  <dc:title>Further Considerations for Implementation of Adaptive Data Rates</dc:title>
</cp:coreProperties>
</file>