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37902DAA-DABA-4D60-92EC-D3D8F7A8A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, The Boe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 to IEEE Draft Std.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3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eing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3707 M/S 7M-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ttle, WA 98124-22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+1(425)865-53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+1(425)957-5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victoria.m.poncini@boe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c - Supplement to 802.1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133720"/>
            <a:ext cx="129528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7720" y="2133720"/>
            <a:ext cx="99072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772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276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440" y="2133720"/>
            <a:ext cx="221148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80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440" y="3276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38862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9404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94040" y="396252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476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4760" y="396252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486400"/>
            <a:ext cx="2971800" cy="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48769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24080" y="4800600"/>
            <a:ext cx="152640" cy="2286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8006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56272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4880" y="5560920"/>
            <a:ext cx="1635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1981080"/>
            <a:ext cx="3581280" cy="114300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05280" y="2819520"/>
            <a:ext cx="728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666880"/>
            <a:ext cx="2133720" cy="7621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5120" y="2590920"/>
            <a:ext cx="12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2666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6200" y="5029200"/>
            <a:ext cx="2362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802.11 802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3434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95280" y="4724280"/>
            <a:ext cx="152640" cy="2286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800600"/>
            <a:ext cx="0" cy="60948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124080"/>
            <a:ext cx="1447920" cy="38088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74320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746440" y="3124080"/>
            <a:ext cx="106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2362320"/>
            <a:ext cx="1143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1600200"/>
            <a:ext cx="2666880" cy="31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24480" y="1903320"/>
            <a:ext cx="243828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ement defines the MAC frame mapping to the 802.1D service primitive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P primitives going to and from the DS through the Portal are the same as the MAC SAP primiti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124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343400" y="320040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876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10666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48520" y="5562720"/>
            <a:ext cx="8380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