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1800" y="6408720"/>
            <a:ext cx="184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A579081F-5944-4A3A-9AFA-F432BA5AE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219320"/>
            <a:ext cx="7772400" cy="13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DOCUMENT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-NII BAND CHANNELIZATION AND THE WINFORUM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for the Joint ETSI/BRAN and IEEE 802.11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8-12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TH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 the Objectives and Scope of the WINForum Sharing Rules Development Committee (SR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RDC Fixed Channelization Proposal for the U-NII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Part 15 Restricted Band Rules Effect on Out-of-Ban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WINForum U-NII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and Scope of the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U-NII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with Regulatory Bodies to Set Rules for Use of th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pectrum Sharing Rules for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Channelization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-NII Band Should Support Signaling Rates of 20 to 25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Bandwidth Potenti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Range of Potential Application Signaling R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Channel Spacing Required Because of Wide Signaling Rate Range and Mixed Bandwidth In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chnical Discussion of Mixed Bandwidth Problem in Appendix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Recommends Fixed Frequency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 Restricted Band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nd Peak EIRP Specified by the Part 15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Spectral Density is Derived From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ome current interpretations which are still being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Edge PSD 15-16 dB More Severe Than HIPERLAN Requirements for the U-NII Middl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Guard Band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Intermodulation Distortion on Widening Transmitte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Given in Appendix B of th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Intraband Channel Isolation Specs (30 dB PSD Adjacent 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o 1.3 Channels Widths of Guard Band Needed to Satisfy Restricted ban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Reconsideration 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making not fi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working closely with NTIA to resolv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issues addressed in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ower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measurement of power spectr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nied: total power permitted 6-10 dB lower than limits spec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Jan Boer</cp:lastModifiedBy>
  <cp:revision>0</cp:revision>
  <dc:subject/>
  <dc:title>DS report</dc:title>
</cp:coreProperties>
</file>