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09480" y="76320"/>
            <a:ext cx="8077320" cy="304920"/>
          </a:xfrm>
          <a:prstGeom prst="rect">
            <a:avLst/>
          </a:prstGeom>
          <a:noFill/>
          <a:ln w="0">
            <a:noFill/>
          </a:ln>
        </p:spPr>
        <p:txBody>
          <a:bodyPr lIns="0" rIns="0" tIns="0" bIns="0" anchor="t">
            <a:noAutofit/>
          </a:bodyPr>
          <a:p>
            <a:pPr>
              <a:lnSpc>
                <a:spcPct val="100000"/>
              </a:lnSpc>
              <a:spcBef>
                <a:spcPts val="1199"/>
              </a:spcBef>
              <a:tabLst>
                <a:tab algn="r" pos="7772400"/>
              </a:tabLst>
            </a:pPr>
            <a:r>
              <a:rPr b="1" lang="en-US" sz="1400" spc="-1" strike="noStrike">
                <a:solidFill>
                  <a:srgbClr val="000000"/>
                </a:solidFill>
                <a:latin typeface="Times New Roman"/>
                <a:ea typeface="Times New Roman"/>
              </a:rPr>
              <a:t>Sept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OC: IEEE P802.11-97/77a</a:t>
            </a:r>
            <a:endParaRPr b="0" lang="en-US" sz="1400" spc="-1" strike="noStrike">
              <a:solidFill>
                <a:srgbClr val="000000"/>
              </a:solidFill>
              <a:latin typeface="Arial"/>
            </a:endParaRPr>
          </a:p>
        </p:txBody>
      </p:sp>
      <p:sp>
        <p:nvSpPr>
          <p:cNvPr id="2" name=""/>
          <p:cNvSpPr txBox="1"/>
          <p:nvPr/>
        </p:nvSpPr>
        <p:spPr>
          <a:xfrm>
            <a:off x="533520" y="6477120"/>
            <a:ext cx="8077320" cy="304920"/>
          </a:xfrm>
          <a:prstGeom prst="rect">
            <a:avLst/>
          </a:prstGeom>
          <a:noFill/>
          <a:ln w="0">
            <a:noFill/>
          </a:ln>
        </p:spPr>
        <p:txBody>
          <a:bodyPr lIns="0" rIns="0" tIns="0" bIns="0" anchor="t">
            <a:noAutofit/>
          </a:bodyPr>
          <a:p>
            <a:pPr>
              <a:lnSpc>
                <a:spcPct val="100000"/>
              </a:lnSpc>
              <a:spcBef>
                <a:spcPts val="1199"/>
              </a:spcBef>
              <a:tabLst>
                <a:tab algn="ctr" pos="3944880"/>
                <a:tab algn="r" pos="7891560"/>
              </a:tabLst>
            </a:pPr>
            <a:r>
              <a:rPr b="0" lang="en-US" sz="1400" spc="-1" strike="noStrike">
                <a:solidFill>
                  <a:srgbClr val="000000"/>
                </a:solidFill>
                <a:latin typeface="Times New Roman"/>
                <a:ea typeface="Times New Roman"/>
              </a:rPr>
              <a:t>Submiss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ge </a:t>
            </a:r>
            <a:fld id="{846446FA-B2EB-4433-9C3A-85E91468FE14}" type="slidenum">
              <a:rPr b="0" lang="en-US" sz="1400" spc="-1" strike="noStrike">
                <a:solidFill>
                  <a:srgbClr val="000000"/>
                </a:solidFill>
                <a:latin typeface="Times New Roman"/>
                <a:ea typeface="Times New Roman"/>
              </a:rPr>
              <a:t>&lt;number&gt;</a:t>
            </a:fld>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 Kawaguchi, Symbol Technologies</a:t>
            </a:r>
            <a:endParaRPr b="0" lang="en-US" sz="1400" spc="-1" strike="noStrike">
              <a:solidFill>
                <a:srgbClr val="000000"/>
              </a:solidFill>
              <a:latin typeface="Arial"/>
            </a:endParaRPr>
          </a:p>
        </p:txBody>
      </p:sp>
      <p:sp>
        <p:nvSpPr>
          <p:cNvPr id="3" name=""/>
          <p:cNvSpPr/>
          <p:nvPr/>
        </p:nvSpPr>
        <p:spPr>
          <a:xfrm>
            <a:off x="609480" y="647712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609480" y="38088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 name=""/>
          <p:cNvGrpSpPr/>
          <p:nvPr/>
        </p:nvGrpSpPr>
        <p:grpSpPr>
          <a:xfrm>
            <a:off x="609480" y="1523880"/>
            <a:ext cx="7924680" cy="133560"/>
            <a:chOff x="609480" y="1523880"/>
            <a:chExt cx="7924680" cy="133560"/>
          </a:xfrm>
        </p:grpSpPr>
        <p:sp>
          <p:nvSpPr>
            <p:cNvPr id="6" name=""/>
            <p:cNvSpPr/>
            <p:nvPr/>
          </p:nvSpPr>
          <p:spPr>
            <a:xfrm>
              <a:off x="609480" y="1523880"/>
              <a:ext cx="7924680" cy="65160"/>
            </a:xfrm>
            <a:prstGeom prst="rect">
              <a:avLst/>
            </a:prstGeom>
            <a:gradFill rotWithShape="0">
              <a:gsLst>
                <a:gs pos="0">
                  <a:srgbClr val="000000"/>
                </a:gs>
                <a:gs pos="50000">
                  <a:srgbClr val="00dfca"/>
                </a:gs>
                <a:gs pos="100000">
                  <a:srgbClr val="000000"/>
                </a:gs>
              </a:gsLst>
              <a:lin ang="0"/>
            </a:gradFill>
            <a:ln w="0">
              <a:noFill/>
            </a:ln>
          </p:spPr>
          <p:txBody>
            <a:bodyPr lIns="90000" rIns="90000" tIns="20160" bIns="20160" anchor="t">
              <a:noAutofit/>
            </a:bodyPr>
            <a:p>
              <a:endParaRPr b="0" lang="en-US" sz="1800" spc="-1" strike="noStrike">
                <a:solidFill>
                  <a:srgbClr val="000000"/>
                </a:solidFill>
                <a:latin typeface="Arial"/>
              </a:endParaRPr>
            </a:p>
          </p:txBody>
        </p:sp>
        <p:sp>
          <p:nvSpPr>
            <p:cNvPr id="7" name=""/>
            <p:cNvSpPr/>
            <p:nvPr/>
          </p:nvSpPr>
          <p:spPr>
            <a:xfrm>
              <a:off x="609480" y="1623960"/>
              <a:ext cx="7924680" cy="33480"/>
            </a:xfrm>
            <a:prstGeom prst="rect">
              <a:avLst/>
            </a:prstGeom>
            <a:gradFill rotWithShape="0">
              <a:gsLst>
                <a:gs pos="0">
                  <a:srgbClr val="000000"/>
                </a:gs>
                <a:gs pos="50000">
                  <a:srgbClr val="f95ab7"/>
                </a:gs>
                <a:gs pos="100000">
                  <a:srgbClr val="000000"/>
                </a:gs>
              </a:gsLst>
              <a:lin ang="0"/>
            </a:gra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09480" y="457200"/>
            <a:ext cx="7924680" cy="990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IEEE 802.11</a:t>
            </a:r>
            <a:br>
              <a:rPr sz="2000"/>
            </a:br>
            <a:r>
              <a:rPr b="1" lang="en-US" sz="2000" spc="-1" strike="noStrike">
                <a:solidFill>
                  <a:srgbClr val="000000"/>
                </a:solidFill>
                <a:latin typeface="Times New Roman"/>
                <a:ea typeface="Times New Roman"/>
              </a:rPr>
              <a:t>Wireless Access Method and Physical Specification</a:t>
            </a:r>
            <a:endParaRPr b="0" lang="en-US" sz="2000" spc="-1" strike="noStrike">
              <a:solidFill>
                <a:srgbClr val="000000"/>
              </a:solidFill>
              <a:latin typeface="Arial"/>
            </a:endParaRPr>
          </a:p>
        </p:txBody>
      </p:sp>
      <p:sp>
        <p:nvSpPr>
          <p:cNvPr id="47" name=""/>
          <p:cNvSpPr txBox="1"/>
          <p:nvPr/>
        </p:nvSpPr>
        <p:spPr>
          <a:xfrm>
            <a:off x="685800" y="2286000"/>
            <a:ext cx="7772400" cy="3581280"/>
          </a:xfrm>
          <a:prstGeom prst="rect">
            <a:avLst/>
          </a:prstGeom>
          <a:noFill/>
          <a:ln w="0">
            <a:noFill/>
          </a:ln>
        </p:spPr>
        <p:txBody>
          <a:bodyPr lIns="0" rIns="0" tIns="0" bIns="0" anchor="t">
            <a:noAutofit/>
          </a:bodyPr>
          <a:p>
            <a:pPr marL="343080" indent="-343080">
              <a:lnSpc>
                <a:spcPct val="100000"/>
              </a:lnSpc>
              <a:spcBef>
                <a:spcPts val="479"/>
              </a:spcBef>
              <a:tabLst>
                <a:tab algn="ctr" pos="3433680"/>
              </a:tabLst>
            </a:pPr>
            <a:r>
              <a:rPr b="0" lang="en-US" sz="2000" spc="-1" strike="noStrike">
                <a:solidFill>
                  <a:srgbClr val="000000"/>
                </a:solidFill>
                <a:latin typeface="Times New Roman"/>
                <a:ea typeface="Times New Roman"/>
              </a:rPr>
              <a:t>Title:</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ssues and Trade-offs in High Speed 2.4 GHz PHY</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0" lang="en-US" sz="2000" spc="-1" strike="noStrike">
                <a:solidFill>
                  <a:srgbClr val="000000"/>
                </a:solidFill>
                <a:latin typeface="Times New Roman"/>
                <a:ea typeface="Times New Roman"/>
              </a:rPr>
              <a:t>Date:</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eptember 8, 1997</a:t>
            </a:r>
            <a:endParaRPr b="0" lang="en-US" sz="2000" spc="-1" strike="noStrike">
              <a:solidFill>
                <a:srgbClr val="000000"/>
              </a:solidFill>
              <a:latin typeface="Arial"/>
            </a:endParaRPr>
          </a:p>
          <a:p>
            <a:pPr marL="343080" indent="-343080">
              <a:lnSpc>
                <a:spcPct val="100000"/>
              </a:lnSpc>
              <a:spcBef>
                <a:spcPts val="479"/>
              </a:spcBef>
              <a:tabLst>
                <a:tab algn="ctr" pos="3433680"/>
              </a:tabLst>
            </a:pPr>
            <a:r>
              <a:rPr b="0" lang="en-US" sz="2000" spc="-1" strike="noStrike">
                <a:solidFill>
                  <a:srgbClr val="000000"/>
                </a:solidFill>
                <a:latin typeface="Times New Roman"/>
                <a:ea typeface="Times New Roman"/>
              </a:rPr>
              <a:t>Author:</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an Kawaguchi</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ymbol Technologies, Inc.</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145 Hamilton Ave</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an Jose, CA.  95125</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elephone:  (408)369-2629</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AX:  (408)369-2737</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mail:  DeanK@psd.symbol.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Modulation and channelization</a:t>
            </a:r>
            <a:endParaRPr b="0" lang="en-US" sz="3600" spc="-1" strike="noStrike">
              <a:solidFill>
                <a:srgbClr val="000000"/>
              </a:solidFill>
              <a:latin typeface="Arial"/>
            </a:endParaRPr>
          </a:p>
        </p:txBody>
      </p:sp>
      <p:sp>
        <p:nvSpPr>
          <p:cNvPr id="66"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proposed modulation format is binary GFSK at 10 and 20 Mcps with a deviation of 7 and 14  MHz peak to peak (h = 0.7)</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10 dB bandwidth is roughly 11 and 22 M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modulation uses a combination of preemphasis and filtering to balance interference and multipath performance with desired spectral bandwidth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channelization plan consists of 8 channels at 10 MHz spacing with 10 Mcps, and 4 channels at 20 MHz spacing with 20 Mcps</a:t>
            </a:r>
            <a:endParaRPr b="0" lang="en-US" sz="2000" spc="-1" strike="noStrike">
              <a:solidFill>
                <a:srgbClr val="000000"/>
              </a:solidFill>
              <a:latin typeface="Arial"/>
            </a:endParaRPr>
          </a:p>
        </p:txBody>
      </p:sp>
      <p:pic>
        <p:nvPicPr>
          <p:cNvPr id="67" name="" descr=""/>
          <p:cNvPicPr/>
          <p:nvPr/>
        </p:nvPicPr>
        <p:blipFill>
          <a:blip r:embed="rId1"/>
          <a:stretch/>
        </p:blipFill>
        <p:spPr>
          <a:xfrm>
            <a:off x="984240" y="4343400"/>
            <a:ext cx="7176960" cy="20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Hopping and interoperability with 1&amp;2 Mbps FH PHY</a:t>
            </a:r>
            <a:endParaRPr b="0" lang="en-US" sz="3600" spc="-1" strike="noStrike">
              <a:solidFill>
                <a:srgbClr val="000000"/>
              </a:solidFill>
              <a:latin typeface="Arial"/>
            </a:endParaRPr>
          </a:p>
        </p:txBody>
      </p:sp>
      <p:sp>
        <p:nvSpPr>
          <p:cNvPr id="6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hopping can be synchronized to interoperate with the 1 and 2 Mbps FH PHY</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re are ten 1 MHz channels in each 10 MHz wideband channel and twenty in each 20 MHz wideband channel</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hen a particular 1 MHz channel is hopped to, the wideband channel which covers that 1 MHz channel is also u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operability with 1&amp;2 Mbps DS PHY</a:t>
            </a:r>
            <a:endParaRPr b="0" lang="en-US" sz="36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bandwidths proposed would be compatible with the current 11 Mcps used in 1 and 2 Mbps DS PHY</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DS PHY already provides for frequency selection interface with the MAC, similar to that used by the FH PHY (sans hopping algorithm)</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proposed format can use existing DS chip sets and architecture with changes primarily in the baseband processing to have a DS/HS desig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Rate switching, 1 Mbps vs high speed preamble and PLCP header</a:t>
            </a:r>
            <a:endParaRPr b="0" lang="en-US" sz="3600" spc="-1" strike="noStrike">
              <a:solidFill>
                <a:srgbClr val="000000"/>
              </a:solidFill>
              <a:latin typeface="Arial"/>
            </a:endParaRPr>
          </a:p>
        </p:txBody>
      </p:sp>
      <p:sp>
        <p:nvSpPr>
          <p:cNvPr id="73" name=""/>
          <p:cNvSpPr txBox="1"/>
          <p:nvPr/>
        </p:nvSpPr>
        <p:spPr>
          <a:xfrm>
            <a:off x="685800" y="1676520"/>
            <a:ext cx="7772400" cy="4724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t is possible to use the current FH 1 Mbps preamble and switch to high speed operation after the PLCP head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remaining spare bit in the PLCP header could be used to indicate a x5 multiplier of the rate field</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same tradeoffs of 1 Mbps preamble for interoperability and CCA discussed in the DS proposals appl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Similar features can be made for DS preambl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ecause of the bandwidth differences, it is preferable to use high speed preamble not only for overhead efficiency but also for the ability of FH/HS units to perform proper CCA on the HS signa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For FH/HS BSS’s that may be using different hop sequences and tuned to a different 1 MHz channel within the same wideband channel, a high speed preamble would be better for implementing CCA on both narrowband and wideband chann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ensitivity vs 1&amp;2 Mbps FH</a:t>
            </a:r>
            <a:endParaRPr b="0" lang="en-US" sz="36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Eb/No required of an FSK signal with an h=0.7 is 7 dB less than the 1 Mbps FH PHY which uses an h=0.32.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ith a data rate of 5 Mbps, the noise bandwidth is 7 dB greater and the resulting signal requires a signal equal to that of the 1 Mbps FH PHY signal.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increase in bandwidth due to the DS spreading would be more than made up for in the despreading process.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us the range of the 5 Mbps mode would be equivalent to the 1 Mbps FH PHY on a signal sensitivity basis alone, but will be degraded by the increase in multipath distortion and interference susceptability.  </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10 Mbps would be degraded by an additional 3 dB and even wider bandwidths and thus susceptability to interference and multip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ference and multipath</a:t>
            </a:r>
            <a:endParaRPr b="0" lang="en-US" sz="3600" spc="-1" strike="noStrike">
              <a:solidFill>
                <a:srgbClr val="000000"/>
              </a:solidFill>
              <a:latin typeface="Arial"/>
            </a:endParaRPr>
          </a:p>
        </p:txBody>
      </p:sp>
      <p:sp>
        <p:nvSpPr>
          <p:cNvPr id="7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s mentioned earlier, narrower bandwidths, availability of multiple channels, and mechanisms to automatically hop among channels are all useful means by which to combat interference and multipath.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binary GFSK modulation would allow the narrower bandwidth in the 5 Mbps mode, and the 10 Mbps would have a maximum 22 MHz bandwidth with a robust binary non-coherent FSK mod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Low cost, many architectural options</a:t>
            </a:r>
            <a:endParaRPr b="0" lang="en-US" sz="3600" spc="-1" strike="noStrike">
              <a:solidFill>
                <a:srgbClr val="000000"/>
              </a:solidFill>
              <a:latin typeface="Arial"/>
            </a:endParaRPr>
          </a:p>
        </p:txBody>
      </p:sp>
      <p:sp>
        <p:nvSpPr>
          <p:cNvPr id="7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n FSK system has been the lowest cost due to the simplicity, inherent robustness, and use of nonlinear components.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re are many options and design optimizations which will allow manufacturers to optimize for various applications and price/performance tradeoff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Intellectual property - Walsh codes and binary GFSK on wireless is probably not patentable any m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eature Comparison Table</a:t>
            </a:r>
            <a:endParaRPr b="0" lang="en-US" sz="3600" spc="-1" strike="noStrike">
              <a:solidFill>
                <a:srgbClr val="000000"/>
              </a:solidFill>
              <a:latin typeface="Arial"/>
            </a:endParaRPr>
          </a:p>
        </p:txBody>
      </p:sp>
      <p:sp>
        <p:nvSpPr>
          <p:cNvPr id="81"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Featur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Harri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icrilor</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ymbol</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Modulation</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OK BPSK/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OK BPSK</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OK BGFSK</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h QPSK</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SK?)</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Data rate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5/11 Mbp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10 Mbp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10 Mbps</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Bandwidth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2 MHz</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32/64 (24/48?)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1/22 MHz</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Hz</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Number of channel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3/3</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1 (4/2?)</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4</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Interoperability with FH</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n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n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artial</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Interoperability with D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Ye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n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artial</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Short preamble capabl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Ye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Yes</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Max J/I</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Multipath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82" name=""/>
          <p:cNvSpPr/>
          <p:nvPr/>
        </p:nvSpPr>
        <p:spPr>
          <a:xfrm>
            <a:off x="685800" y="2057400"/>
            <a:ext cx="754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roduction</a:t>
            </a:r>
            <a:endParaRPr b="0" lang="en-US" sz="3600" spc="-1" strike="noStrike">
              <a:solidFill>
                <a:srgbClr val="000000"/>
              </a:solidFill>
              <a:latin typeface="Arial"/>
            </a:endParaRPr>
          </a:p>
        </p:txBody>
      </p:sp>
      <p:sp>
        <p:nvSpPr>
          <p:cNvPr id="49" name=""/>
          <p:cNvSpPr txBox="1"/>
          <p:nvPr/>
        </p:nvSpPr>
        <p:spPr>
          <a:xfrm>
            <a:off x="685800" y="1676520"/>
            <a:ext cx="7772400" cy="4724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sues, concerns, and trade offs for a HS PHY in the 2.4 GHz band from a different viewpoint</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Interoperability with both FH and DS</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Interference and need for multiple channels</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Multipath</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1 vs 10 Mbps preamble and PLCP header</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Low cost and need for architectural option</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ur alternative proposal would more effectively address these issues+</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DS spreading format</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Modulation and channelization</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Hopping and interoperability with 1&amp;2 Mbps FH PHY</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Interoperability with 1&amp;2 Mbps DS PHY</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Rate switching, 1 vs 10 Mbps preamble and PLCP header</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Comparison to 1&amp;2 Mbps FH PHY</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Low cost, many architectural options</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Times New Roman"/>
                <a:ea typeface="Times New Roman"/>
              </a:rPr>
              <a:t>Subsequent submissions will address performance simulation/measu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operability with both FH and DS</a:t>
            </a:r>
            <a:endParaRPr b="0" lang="en-US" sz="36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high speed study group has decided in previous motions that there will be only one high speed PHY at 2.4 GHz</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Given the relatively large number of installed users of  802.11 ready FH PHY systems, it would be advantageous to provide compatibility with FH PHY systems as well as DS PHY system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bviously, given the different bandwidths of DS signals versus the 1 MHz FH PHY signals, there will be limited 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wever, it is more than feasible to design units that can accommodate wideband and narrowband signals with the right definition</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Provisions for hopping and non-hopping will greatly enhance the ability of both FH and DS PHY to be at least partly interoperable with the high speed P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ference and need for multiple channels</a:t>
            </a:r>
            <a:endParaRPr b="0" lang="en-US" sz="3600" spc="-1" strike="noStrike">
              <a:solidFill>
                <a:srgbClr val="000000"/>
              </a:solidFill>
              <a:latin typeface="Arial"/>
            </a:endParaRPr>
          </a:p>
        </p:txBody>
      </p:sp>
      <p:sp>
        <p:nvSpPr>
          <p:cNvPr id="53"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s a manufacturer of both DS and FH systems, we have found that interference has necessitated the use of frequency agility even in DS system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Especially as the band got more crowded as occurred at 900 MH</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will also happen soon in the 2.4 GHz band</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Having multiple channels to use should be a requirement for the high speed PH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aving a mechanism to hop over the channels will be a big advantage as has been shown in the FH systems fielded toda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Frequency selectivity can provide typically 60 to 70 dB of isolation between channel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Direct sequence processing gain will also make the demodulator more robust because of Hamming dist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Multipath and Robustness vs Bandwidth</a:t>
            </a:r>
            <a:endParaRPr b="0" lang="en-US" sz="3600" spc="-1" strike="noStrike">
              <a:solidFill>
                <a:srgbClr val="000000"/>
              </a:solidFill>
              <a:latin typeface="Arial"/>
            </a:endParaRPr>
          </a:p>
        </p:txBody>
      </p:sp>
      <p:sp>
        <p:nvSpPr>
          <p:cNvPr id="55" name=""/>
          <p:cNvSpPr txBox="1"/>
          <p:nvPr/>
        </p:nvSpPr>
        <p:spPr>
          <a:xfrm>
            <a:off x="685800" y="175248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Multipath distortion at the wider bandwidths requires the most robust modulations to mitigate its effect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inary modulations are more robust than quadrature modulations, but requires twice the bandwidth</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10 Mbps would require 10 Mcps with QPSK and 8 chips/symbol and bandwidth of 20 MHz null to null</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BPSK would use 20 Mcps with bandwidth of 40 MHz null to null</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MSK would be in between at about 30 MHz</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16 chips/symbol would require about 60% more bandwidth, i.e., 32, 64, and 48 MHz</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inary FSK is one of the most robust modulations as the receive capture effect approaches 0 dBc in theory</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Binary GFSK also provides narrow bandwidth, e.g., a 20 Mcps FSK would have a 10 dB bandwidth approximately 22 MHz</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DS processing will improve multipath performance in all cases abo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1 vs 10 Mbps preamble and PLCP header</a:t>
            </a:r>
            <a:endParaRPr b="0" lang="en-US" sz="3600" spc="-1" strike="noStrike">
              <a:solidFill>
                <a:srgbClr val="000000"/>
              </a:solidFill>
              <a:latin typeface="Arial"/>
            </a:endParaRPr>
          </a:p>
        </p:txBody>
      </p:sp>
      <p:sp>
        <p:nvSpPr>
          <p:cNvPr id="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option to have 1 Mbps preamble is desirable, but the high overhead makes it difficult to achieve high throughput efficiency except in large packet situation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option to be able to operate with 10 Mbps preamble, i.e., about 10% of the 1 Mbps preamble, would be necessary to meet expectations on throughput increase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Coherent QPSK operation with separate chipping sequences on I and Qwould require a longer preamble than the current DS PHY single chipping sequence (same on I and Q) over BPSK/QPSK</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FSK would not require a longer preamble nor would it preclude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Low cost and many architectural options</a:t>
            </a:r>
            <a:endParaRPr b="0" lang="en-US" sz="3600" spc="-1" strike="noStrike">
              <a:solidFill>
                <a:srgbClr val="000000"/>
              </a:solidFill>
              <a:latin typeface="Arial"/>
            </a:endParaRPr>
          </a:p>
        </p:txBody>
      </p:sp>
      <p:sp>
        <p:nvSpPr>
          <p:cNvPr id="5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re are many applications that could use wireless LA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se applications will span a wide range of requirements except for the common requirement of the lowest cost possibl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high speed PHY should allow for optimizing architectures to provide the best price/performance possibl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Better than forcing all applications to take a one size fits all solution.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will increase the target market for the HS PHY beyond what would be feasible with the one size fits all appr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High Speed PHY Proposal</a:t>
            </a:r>
            <a:endParaRPr b="0" lang="en-US" sz="36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 succinct summary of the proposed high speed DS PHY is as follow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S spreading:  4 bits/symbol and 8 chips/symbol bi-orthogonal Walsh code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odulation:  Binary GFSK with deviation h=0.7; 1.5 dB preemphasi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ata rates: 1.25 Msym/sec (5 Mbps) and 2.5 Msym/sec (10 Mbp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Chipping rates: 10 Mcps and 20 Mcp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Bandwidths: 11 MHz and 22 M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DS Spreading Format</a:t>
            </a:r>
            <a:endParaRPr b="0" lang="en-US" sz="3600" spc="-1" strike="noStrike">
              <a:solidFill>
                <a:srgbClr val="000000"/>
              </a:solidFill>
              <a:latin typeface="Arial"/>
            </a:endParaRPr>
          </a:p>
        </p:txBody>
      </p:sp>
      <p:sp>
        <p:nvSpPr>
          <p:cNvPr id="6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DS spreading formats used by Harris and Micrilor uses simple yet effective bi-orthogonal Walsh code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8 chips per symbol used by Harris is more bandwidth efficient which is crucial to satisfy the interference fighting channelization mentioned earlier</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4 bits/8 chips per symbol used at 1.25 (or 1.375) Msps and at 2.5 Msps would produce 5 and 10 Mbps at a chipping rate 10 and 20 Mcps</a:t>
            </a:r>
            <a:endParaRPr b="0" lang="en-US" sz="2000" spc="-1" strike="noStrike">
              <a:solidFill>
                <a:srgbClr val="000000"/>
              </a:solidFill>
              <a:latin typeface="Arial"/>
            </a:endParaRPr>
          </a:p>
        </p:txBody>
      </p:sp>
      <p:pic>
        <p:nvPicPr>
          <p:cNvPr id="64" name="" descr=""/>
          <p:cNvPicPr/>
          <p:nvPr/>
        </p:nvPicPr>
        <p:blipFill>
          <a:blip r:embed="rId1"/>
          <a:stretch/>
        </p:blipFill>
        <p:spPr>
          <a:xfrm>
            <a:off x="1700280" y="4724280"/>
            <a:ext cx="5743440" cy="15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anK</dc:creator>
  <dc:description/>
  <dc:language>en-US</dc:language>
  <cp:lastModifiedBy>DeanK</cp:lastModifiedBy>
  <cp:revision>0</cp:revision>
  <dc:subject/>
  <dc:title>IEEE 802.11 Wireless Access Method and Physical Specification</dc:title>
</cp:coreProperties>
</file>